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9A60-EC42-4B3B-B81B-F609AAAC2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2333-EC24-4941-B786-C06C9A06A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4603-D98A-4261-9E77-11DC3479A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7520-3395-4EE0-8EF6-2E7EDA2EB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E361E-F1FC-4CF8-AEC9-D71485E8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ED576-95F9-422A-A0EF-454B43F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B791-04D3-436C-9057-86CAAEB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523C5-9F5C-4930-8AAA-5FDC6634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5006-7114-44B4-8F36-66911CB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817BC-5E74-4F42-8DE1-E2815463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F2AF-FF64-439D-ACFD-779B931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082C-1265-42E4-BBB3-F50F22270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DED85-AA6F-4BF2-89FA-1BE49E8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5262-E76C-455E-9E80-8DCD545B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E9DD-0A9C-4591-9AED-184ADC4B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D4BA-54ED-4B2C-A066-6DBB0D6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648FA-077F-4844-8A81-E4C8FAE2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A4A7-1503-490C-A2EA-92C68ECBC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4B8D-86B3-4AF5-9302-D780732B7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A7A3-BC51-462A-8470-B31BE4DA5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6CF7-568B-4009-A170-227A00C20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EB82-B010-4EE7-A509-735F49CB6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CE84-9164-4BEC-AE33-F2CB01685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4DE9-0465-404F-AD80-AD3D2541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5F5A-AA3D-4FC6-B230-A51B763CA39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FB22-2CFE-4A31-B118-C4D46E5A291A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54A-96D8-4688-BD62-E622751418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2D9-33F4-4129-896B-854080390D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C369-EB8B-4322-8691-13DD1C4F3A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93D-BFD6-4E04-A1B4-162507304E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27CF-D219-4141-BF04-517B3E483D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67D-BCF8-4C43-BD4B-CAB2EF79A5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0D5-D8BA-4CE0-B64C-4B281ACE01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0568-F2DA-422A-8C9F-46C01ACC6C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1FF-772F-4E3F-A7AB-BDCC1BF2B0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C636-68E2-4024-B2F8-4DB97289368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D2A6-1CB0-4EEB-8E37-ACC308CCF9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544-FF70-407F-BB45-DCD30E1AA90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986-C96C-4304-A882-586083FB8E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D0C-4EF9-4966-B780-248B02A0C6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20A5-D208-49AD-9610-C459659A4E0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196-1671-4940-98A3-66546DC937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3BEC-C47D-4379-A5A1-7F7468D868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057400" y="2590920"/>
                <a:ext cx="653580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A388-A3B0-4970-AE29-25C4A885C7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C86-2944-4673-A2E2-CE55503D20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F56-6D46-4917-89F1-A9A7CB5D59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A3E-2885-40D5-AC54-C8D23216E7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981080" y="4876920"/>
                <a:ext cx="6019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D8B-F740-45B1-82F4-BC112428720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62E7-7768-4A9E-AD82-5296E003578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0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017C-472C-4EFD-8454-2CD33FC68BF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0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2471-933A-42EB-A55E-BA56890AD9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0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84A-0F18-40FF-A576-5AFDDC448B2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7CD-41EE-4B89-9EFC-0CA56A3C1E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E9C-06FC-4F95-ACE5-201B2E4FF8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F12E-BC73-422A-8E3B-CA4C5EDDFE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DC1-B83E-49D8-9A93-9C252E13C95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6AE-FAFC-42B8-8A79-88F721C6B01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79F-015C-401F-8F90-A9347F173B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D4C-65A8-4200-82BB-BB7ECCCA005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1E30-7C67-4B14-B0F7-608A6CB42C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D918-80A7-430D-A5D3-CD284269712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DE9-9C52-4AE8-B6BF-F992A819A15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AAA-D321-4487-B1F9-9DD9B5887C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icardo San Martín Z</cp:lastModifiedBy>
  <cp:lastPrinted>2001-04-12T20:51:56Z</cp:lastPrinted>
  <dcterms:modified xsi:type="dcterms:W3CDTF">2008-08-03T17:39:33Z</dcterms:modified>
  <cp:revision>157</cp:revision>
  <dc:subject/>
  <dc:title>Comercio Electrónico</dc:title>
</cp:coreProperties>
</file>