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60A47-2FD4-40AA-A24A-18EEC630E0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93878-02BE-4E41-ACA2-3E06D0DB51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B904E-98C9-489A-9DB4-2936884E6D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946A1-4592-4041-9B0C-F2F89AB118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9A997F-FD24-4F0E-AE95-7255F9E90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B1F653-5BFF-46FA-9F9A-3F31D3E24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8EF7C5-B63F-4B4C-BB93-4CCF1FAF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B48D51-D464-497A-B06A-E3A1505D3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EA2934-2DF8-4088-B969-908BC5482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705572-FEFA-4A20-8D52-C39F310DF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8E1395-AA1C-4995-A78E-0F0CD91C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A654B-6EF2-427C-B381-4EE6E593EE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388881-0AE3-48BE-ABA4-48D729B7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502EAC-1A63-4BDF-A92F-793D36E6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F3436D-4069-49DE-8C70-943D4191C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97032E-2F04-4E9E-8195-B6F2153F6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7825D4-A16E-46EA-825E-9D82B73BC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F439D-570A-4D0D-993F-FD8B61B42C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29D97-1F04-4E9E-8D6B-F0882B1E35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4105E-3819-434F-8B85-6045F03C26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5C536-C7A4-4EA4-A989-63490891F4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B7740-B315-4A42-B098-BD816E781C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383C0-030F-45DF-BCBC-E896A56E46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FCAC5-ED4A-4B5E-BE95-7F3EB6AC32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4D80B-ADD4-4B59-B34B-C609DEBC665D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49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1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2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4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imes New Roman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A4B51-44EB-4B70-90DA-A84452C4C130}" type="slidenum">
              <a:rPr b="0" lang="es-ES_tradnl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Text Box 1027"/>
          <p:cNvSpPr/>
          <p:nvPr/>
        </p:nvSpPr>
        <p:spPr>
          <a:xfrm>
            <a:off x="1371600" y="342900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pítulo 2: Pronósticos de Deman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92DE0-6BA6-49DA-B3EE-79195117FA84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Encuestas de Mercad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rresponden básicamente a paneles, cuestionarios y pruebas de merca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ípicamente se usan para probar nuevos productos (yoghurt) o en test políticos (encuesta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n buenos a cort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seen un alto cos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ermiten identificar puntos de camb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E34FC-70B5-4414-AB14-1ACB59FAA237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Analogía a los Ciclos de Vid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siste en identificar en que fase de su vida se encuentra un producto, para esto se analizan las curvas de crecimiento de productos similar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a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troduc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recimien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dur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atur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EE53C-4258-4A63-9DE0-EE4E0C52D6B5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n de larg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seen una exactitud regul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 capta puntos de camb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bajo a med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Jugue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H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3DA95-EE56-4D31-BC8E-2CBDC8280857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Juicio Bien Informad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basa sólo en la experiencia y en la intui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enen un gran us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see una exactitud baj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baj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gular en la identificación de puntos de camb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dificios de departamen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F16AE-C506-4524-A9DC-B6FD5E5D5455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os métodos utilizan datos históricos y los proyectan a futur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on de corto plaz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necesario contar con datos intern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o captan patrones de camb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65B6B-F820-429B-B247-26FA3F4841F6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2866680" y="5562720"/>
            <a:ext cx="372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Tahoma"/>
              </a:rPr>
              <a:t>Serie de Tiempo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Picture 7" descr=""/>
          <p:cNvPicPr/>
          <p:nvPr/>
        </p:nvPicPr>
        <p:blipFill>
          <a:blip r:embed="rId1"/>
          <a:stretch/>
        </p:blipFill>
        <p:spPr>
          <a:xfrm>
            <a:off x="1893960" y="1752480"/>
            <a:ext cx="5268960" cy="382428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8"/>
          <p:cNvSpPr/>
          <p:nvPr/>
        </p:nvSpPr>
        <p:spPr>
          <a:xfrm>
            <a:off x="5023440" y="3740040"/>
            <a:ext cx="21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erie de tiempo origin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4245120" y="5078520"/>
            <a:ext cx="89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Tiemp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Text Box 11"/>
          <p:cNvSpPr/>
          <p:nvPr/>
        </p:nvSpPr>
        <p:spPr>
          <a:xfrm rot="16183800">
            <a:off x="1334160" y="3322080"/>
            <a:ext cx="111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Demand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2ADF3-2546-4024-BB0D-3BECC2C1C0F6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Picture 9" descr=""/>
          <p:cNvPicPr/>
          <p:nvPr/>
        </p:nvPicPr>
        <p:blipFill>
          <a:blip r:embed="rId1"/>
          <a:stretch/>
        </p:blipFill>
        <p:spPr>
          <a:xfrm>
            <a:off x="2124000" y="1600200"/>
            <a:ext cx="4810320" cy="377496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2291400" y="5562720"/>
            <a:ext cx="47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Tahoma"/>
              </a:rPr>
              <a:t>Serie de Tiempo Descompues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4384800" y="5181480"/>
            <a:ext cx="89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Tiemp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7"/>
          <p:cNvSpPr/>
          <p:nvPr/>
        </p:nvSpPr>
        <p:spPr>
          <a:xfrm rot="16183800">
            <a:off x="1486440" y="3169800"/>
            <a:ext cx="111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Demand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5930640" y="190512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icl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5891040" y="2743200"/>
            <a:ext cx="164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Patró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e estacionalida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5916600" y="342900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ndenci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5928840" y="4038480"/>
            <a:ext cx="59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Ni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Text Box 14"/>
          <p:cNvSpPr/>
          <p:nvPr/>
        </p:nvSpPr>
        <p:spPr>
          <a:xfrm>
            <a:off x="5911200" y="4572000"/>
            <a:ext cx="94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Aleatori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CE274-31C1-405E-A7DE-C2964A885D0B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mponente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uido: parte aleatoria (si es muy alto es difícil hacer pronóstico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aciona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end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ivel (bas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Zapa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el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tradas al estad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03C9E-DE57-49D6-BAB4-9F4DD89E278E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Not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a observada en el período 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nóstico para el período t+1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medio calculado para el período 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=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-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rror de pronósti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ípicamente se conocen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-k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.....,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y se busca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+2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...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AC89B-1CD6-44CF-9358-61B0D4BB5CDC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Promedios Móvi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sugiere que la serie de tiempo tiene componentes de valor promed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toma 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=A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hay variabilidad en la demanda se pueden usar promedios móviles ponderados, asignando mayor ponderación a los últimos perío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4"/>
              <p:cNvSpPr txBox="1"/>
              <p:nvPr/>
            </p:nvSpPr>
            <p:spPr>
              <a:xfrm>
                <a:off x="1981080" y="3200400"/>
                <a:ext cx="388620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2F1B5-FA69-4FED-9237-AFB32C8D0A86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ermiten estudiar la demanda futura, acción importante en el diseño de un produc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laciones relevant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nóstico - Plane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a - Vent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7817F-F0BA-4AC8-92AB-34917465E2AD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Promedios Móviles Ponderad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o es recomendable p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lej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deben llevar los registros de demanda histór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álculo de las ponderac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4"/>
              <p:cNvSpPr txBox="1"/>
              <p:nvPr/>
            </p:nvSpPr>
            <p:spPr>
              <a:xfrm>
                <a:off x="2057400" y="2479680"/>
                <a:ext cx="5638680" cy="15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aso anterior, 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B4274-8AD2-4AE6-BD1F-066AE8E07E57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Alisamiento Exponencial Simpl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ahoma"/>
              </a:rPr>
              <a:t>t-1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fleja la histor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se cree en la última demanda              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se cree en la historia                          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5"/>
              <p:cNvSpPr txBox="1"/>
              <p:nvPr/>
            </p:nvSpPr>
            <p:spPr>
              <a:xfrm>
                <a:off x="2057400" y="2514600"/>
                <a:ext cx="617220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0</m:t>
                        </m:r>
                        <m:r>
                          <m:t xml:space="preserve">&lt;</m:t>
                        </m:r>
                        <m:r>
                          <m:t xml:space="preserve">α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6"/>
              <p:cNvSpPr txBox="1"/>
              <p:nvPr/>
            </p:nvSpPr>
            <p:spPr>
              <a:xfrm>
                <a:off x="6578640" y="4572000"/>
                <a:ext cx="106668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7"/>
              <p:cNvSpPr txBox="1"/>
              <p:nvPr/>
            </p:nvSpPr>
            <p:spPr>
              <a:xfrm>
                <a:off x="6583320" y="5029200"/>
                <a:ext cx="113364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B17E9-5830-4676-AE9C-F5AC1884FC70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efecto de los primeros períodos se va atenuando en forma exponenci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4"/>
              <p:cNvSpPr txBox="1"/>
              <p:nvPr/>
            </p:nvSpPr>
            <p:spPr>
              <a:xfrm>
                <a:off x="1523880" y="2895480"/>
                <a:ext cx="6934320" cy="215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α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FBB38-8037-4CB9-B52F-4287F75E0A03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orma de Us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requiere de las demandas históricas (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 y de un promedio inicial (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va calibrando     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ábrica de Zapa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hilect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4"/>
              <p:cNvSpPr txBox="1"/>
              <p:nvPr/>
            </p:nvSpPr>
            <p:spPr>
              <a:xfrm>
                <a:off x="4343400" y="4305240"/>
                <a:ext cx="29844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5"/>
              <p:cNvSpPr txBox="1"/>
              <p:nvPr/>
            </p:nvSpPr>
            <p:spPr>
              <a:xfrm>
                <a:off x="2374920" y="2997360"/>
                <a:ext cx="3976560" cy="102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18673-BA20-44EC-A58A-E6E3AD1EE093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Alisamiento Exponencial con Tendenci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onde 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es la tend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4"/>
              <p:cNvSpPr txBox="1"/>
              <p:nvPr/>
            </p:nvSpPr>
            <p:spPr>
              <a:xfrm>
                <a:off x="1515960" y="2644920"/>
                <a:ext cx="7094520" cy="17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   0</m:t>
                        </m:r>
                        <m:r>
                          <m:t xml:space="preserve">&lt;</m:t>
                        </m:r>
                        <m:r>
                          <m:t xml:space="preserve">α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β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0</m:t>
                        </m:r>
                        <m:r>
                          <m:t xml:space="preserve">&lt;</m:t>
                        </m:r>
                        <m:r>
                          <m:t xml:space="preserve">β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BCC98-FF3B-4233-BB99-12E711E76C5B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Alisamiento Exponencial con Estacionalidad de Largo </a:t>
            </a:r>
            <a:r>
              <a:rPr b="0" i="1" lang="es-ES_tradnl" sz="28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onde 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es el factor de estaciona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4"/>
              <p:cNvSpPr txBox="1"/>
              <p:nvPr/>
            </p:nvSpPr>
            <p:spPr>
              <a:xfrm>
                <a:off x="2057400" y="2590920"/>
                <a:ext cx="6535800" cy="31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0</m:t>
                        </m:r>
                        <m:r>
                          <m:t xml:space="preserve">&lt;</m:t>
                        </m:r>
                        <m:r>
                          <m:t xml:space="preserve">α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γ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R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0</m:t>
                        </m:r>
                        <m:r>
                          <m:t xml:space="preserve">&lt;</m:t>
                        </m:r>
                        <m:r>
                          <m:t xml:space="preserve">γ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279DE-5DEC-4C48-AD41-88CF45196EAB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rrores de Pronóstic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s indicadores de error sirven para ver en qué momento el pronóstico falla o los datos no sirv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dicador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sviación media absolut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4"/>
              <p:cNvSpPr txBox="1"/>
              <p:nvPr/>
            </p:nvSpPr>
            <p:spPr>
              <a:xfrm>
                <a:off x="1981080" y="4724280"/>
                <a:ext cx="243864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D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t</m:t>
                            </m:r>
                          </m:sub>
                          <m:sup/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5338B-91E0-44C1-857C-32EC4BF6BA73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ajusta     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 |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| &gt; 3,75xMA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tres desviaciones standard), entonces existen sospechas de valor extrem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 un enfoque aproximado      corresponde a 1,25xMAD, para una función norm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5"/>
              <p:cNvSpPr txBox="1"/>
              <p:nvPr/>
            </p:nvSpPr>
            <p:spPr>
              <a:xfrm>
                <a:off x="2379600" y="2057400"/>
                <a:ext cx="55832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D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D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6"/>
              <p:cNvSpPr txBox="1"/>
              <p:nvPr/>
            </p:nvSpPr>
            <p:spPr>
              <a:xfrm>
                <a:off x="3581280" y="3213000"/>
                <a:ext cx="29844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7"/>
              <p:cNvSpPr txBox="1"/>
              <p:nvPr/>
            </p:nvSpPr>
            <p:spPr>
              <a:xfrm>
                <a:off x="5486400" y="4241880"/>
                <a:ext cx="30492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86BFD-D45A-4CE0-9FCF-886929B28C40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ñal de Rastre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onde el numerador corresponde al sesgo y el denominador al último MAD observ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 T                (confiabilidad menor al 97%), entonces debe revisarse el modelo ya que esta sesg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4"/>
              <p:cNvSpPr txBox="1"/>
              <p:nvPr/>
            </p:nvSpPr>
            <p:spPr>
              <a:xfrm>
                <a:off x="1905120" y="2362320"/>
                <a:ext cx="62481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uma acumulada de la desviación del pronóstic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A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5"/>
              <p:cNvSpPr txBox="1"/>
              <p:nvPr/>
            </p:nvSpPr>
            <p:spPr>
              <a:xfrm>
                <a:off x="2946240" y="4114800"/>
                <a:ext cx="99072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,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8592D-E6D0-4A6F-8E22-D20E2005E4DD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Regres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ariable independi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ariable dependi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idea es ajustar una curva a los puntos con que se cuen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4"/>
              <p:cNvSpPr txBox="1"/>
              <p:nvPr/>
            </p:nvSpPr>
            <p:spPr>
              <a:xfrm>
                <a:off x="1981080" y="2209680"/>
                <a:ext cx="167652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5"/>
              <p:cNvSpPr txBox="1"/>
              <p:nvPr/>
            </p:nvSpPr>
            <p:spPr>
              <a:xfrm>
                <a:off x="1905120" y="3048120"/>
                <a:ext cx="3697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6"/>
              <p:cNvSpPr txBox="1"/>
              <p:nvPr/>
            </p:nvSpPr>
            <p:spPr>
              <a:xfrm>
                <a:off x="1981080" y="4876920"/>
                <a:ext cx="601992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092F8-BA51-41E4-8543-D9BFEA2B6A8C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s importante ver el horizonte y nivel de agregación que se requiere para el pronóstico de demand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ivel Estratégico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rg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uy agreg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ivel Táctic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dian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nos agreg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4688E-1896-45F2-935D-A455CBE6FE00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o resultado se obtien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0"/>
              <p:cNvSpPr txBox="1"/>
              <p:nvPr/>
            </p:nvSpPr>
            <p:spPr>
              <a:xfrm>
                <a:off x="1981080" y="2286000"/>
                <a:ext cx="4915080" cy="331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f>
                          <m:num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  <m:r>
                                  <m:t xml:space="preserve">⋅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</m:d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0E1F3-5C55-4C21-BAB9-201DD4EBEBB7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onde R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mide la proporción de la variación de </a:t>
            </a: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explicada por </a:t>
            </a: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alores sobre 0,95 se consideran buen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0"/>
              <p:cNvSpPr txBox="1"/>
              <p:nvPr/>
            </p:nvSpPr>
            <p:spPr>
              <a:xfrm>
                <a:off x="1676520" y="1616040"/>
                <a:ext cx="6858000" cy="234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⋅</m:t>
                                    </m:r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nary>
                                <m:r>
                                  <m:t xml:space="preserve">−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  <m:r>
                                  <m:t xml:space="preserve">⋅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CE6D8-2BC2-471C-823C-7379FE62488A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y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nta de periód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úmero de habita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greso per capi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etenci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uede extender a formulaciones complej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0"/>
              <p:cNvSpPr txBox="1"/>
              <p:nvPr/>
            </p:nvSpPr>
            <p:spPr>
              <a:xfrm>
                <a:off x="1981080" y="4800600"/>
                <a:ext cx="205740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4661B-5CCB-4D0D-86DD-A78DB83B41C1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incipales 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 útil cuando existen fuertes relaciones causa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so típico para horizontes de corto y median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ermite identificar bien puntos de camb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 un método car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quiere sofistic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 fácil cometer erro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BC448-D035-4DCD-8368-34980AFADB82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Modelos Econométric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 de ecuaciones de regresión interdependientes para describir un proceso complej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lejidad al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al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n de larg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uenos para identificar puntos de camb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73B9C-BB3B-4A9F-AA1E-FBD1FAFEB44B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cio cob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ctores de la economí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F22FC-DF69-44C2-B1CC-140DB54ED6EC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Modelos de Insumo (Leontieff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scriben el flujo de un sector de la economía a otro para predecir los insumos que se necesitan para producir los productos que requiere otro sect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seen un costo muy al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uena exactitu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n de cort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ébiles para identificar puntos de camb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ntas de la construcción afectan las de cemen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CF854-52E1-422D-B7D9-BDA6CF14A792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Simul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simulación de sistemas es complej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a de implement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orizonte de corto a median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uede identificar puntos de camb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istribución en cadena, para ver demanda de distintos elemen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lanos de producción, para conocer la demanda por insum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ransporte urbano, para ver equilibrio vehicul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94D2E-111F-4DC0-8439-55D6C8320EDC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riterios de Ele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.- Sofisticación del usuario y del siste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 se deben dar saltos brus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2.- Tiempo y recursos disponib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3.- Tipo de decis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rade-off entre costo y calidad del pronóstic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 Falabella vs Negocio chic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4.- Disponibilidad de da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ox-Jenkins es una serie de tiempo autocorrelacionada que exige 60 datos (60 mese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5.- Patrón de da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 es causal no se pueden usar series de tiemp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159AC-CFDE-4915-A55A-15860EC76501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ivel Operativ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rt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tall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 Fábrica de Zapa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ivel Estratégico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s globales a 5 añ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ivel Táctico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 por línea para la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óxima tempora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ivel Operativo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 por modelo y número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ra la próxima seman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3A397-BD32-40D9-87C1-AB87D0A2B962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de Pronóst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xisten dos tip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étodos Cualitativos: son aquellos que dependen de juic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étodos Cuantitativos: son aquellos que poseen un modelo subyac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os datos y patrones de datos se utilizan como indicadores confiables para predecir el futur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cluyen Series de Tiempo y Modelos Causa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8EA6F-2291-4FCD-A1D8-A1E1B2BD8F73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de Pronóst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s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419040" y="2590920"/>
            <a:ext cx="838224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3A60-BF3E-4AF0-8D14-8707855C3657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 Genera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osee poca inform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xiste alta incertidumb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tiene escasa capacidad de proces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orizonte de mediano o largo plaz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so típic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s nuev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DF22E-B41D-4908-86F6-946CD1A742A7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Método Delphi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Grupo de expertos que se reúne durante varias sesiones de reconsideraciones en busca de consensos respecto a un grupo de preguntas adecuado a la situación que se enfren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usa en la introducción de nuevos productos y cambios tecnológ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 regular en exactitud y puntos de camb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see un costo mediano o al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62F4F-F219-4A20-A555-C4DA063D2390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 Empresa que requiere pronóstico de ventas a 5 años y que posee una baja capacidad, lo que hace difícil usar ventas como información de de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rticipación de 23 administrado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atos: PGB, ventas del sector y ventas de la empresa por 5 añ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arias preguntas para obligar a pensar en relac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sultado: Mucha dispersión al comienzo, pero se convergió a un buen pronóstico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14:21:15Z</dcterms:created>
  <dc:creator>Dpto. Ingeniería Industrial</dc:creator>
  <dc:description/>
  <dc:language>en-US</dc:language>
  <cp:lastModifiedBy>Ricardo San Martín Z</cp:lastModifiedBy>
  <cp:lastPrinted>2001-04-12T20:51:56Z</cp:lastPrinted>
  <dcterms:modified xsi:type="dcterms:W3CDTF">2008-08-03T17:39:33Z</dcterms:modified>
  <cp:revision>157</cp:revision>
  <dc:subject/>
  <dc:title>Comercio Electrónico</dc:title>
</cp:coreProperties>
</file>