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19BCDE-9878-4D51-A230-F5CE62EA637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182600" y="400428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39ADCD-B29F-4AE6-A1E6-1F726529EE1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6528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3726CB-8416-427E-8CCF-02AE98BF83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1060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43824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18260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1060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43824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BD95AB-ACB2-4897-84EA-2209C0CDDD4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F9CB04-BA50-4EDB-8CC2-34DB91C44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A07D8A-40D3-4F08-9749-D56CC84AC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820FA2-73C9-4729-BC98-538CCAB39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D4A4DB-9A3E-4C7F-B8D7-40B1AFE9F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18B401-F23B-4D04-9A17-93E6CF975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17100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ABF2A7-D7E8-49FF-AAB0-C1C862F0C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6D1D05-AF04-44A5-90EC-034604857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F90D2C-233B-422C-9FC3-49884F908D4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437F33-463B-4E0D-B963-54A939292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0E9EFA-F173-42B3-9F18-3FFF6B9F7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00428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8E5D82-A2B4-49C9-94B4-73DD0AEBB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1129E3-1EAF-443E-A442-3EE767C6F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9C1105-CC3E-42B5-8526-2426D0957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86B290-C7FF-4AE8-842C-F0A9719B0A0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10FC1B-7EFA-4F98-BAB7-5EECFD23923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9A20AA-A78B-4F83-83D9-9C48E41DDB9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150560" y="17100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6A607C-ABDD-4CFA-816A-1B2EE3BCAE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8CA31E-B14F-4AB3-A47C-3E103DB034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6528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04A06D-2638-44D4-8B0D-6847BF84B3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F3A717-3D51-48EE-8EC2-02F63E8951D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652320"/>
            <a:ext cx="438120" cy="474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652320"/>
            <a:ext cx="328320" cy="47484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07460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074600"/>
            <a:ext cx="368280" cy="47484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00188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54468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33524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1"/>
          </p:nvPr>
        </p:nvSpPr>
        <p:spPr>
          <a:xfrm rot="21562800">
            <a:off x="4952520" y="6276600"/>
            <a:ext cx="3733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Capítulo 1: La Función de Operaciones    #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2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D8C1F-7B38-4A1A-A232-A9CA16057A1B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8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49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0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1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2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4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3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4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1c1c1c"/>
                </a:solidFill>
                <a:latin typeface="Times New Roman"/>
              </a:rPr>
              <a:t>Capítulo 1: La Función de Operaciones    #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5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F1B25-F8F5-4345-A922-FCCC185C4EDA}" type="slidenum">
              <a:rPr b="0" lang="es-ES_tradnl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320" y="205704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Gestión de Operacion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Text Box 1027"/>
          <p:cNvSpPr/>
          <p:nvPr/>
        </p:nvSpPr>
        <p:spPr>
          <a:xfrm>
            <a:off x="1371600" y="3429000"/>
            <a:ext cx="716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Capítulo 2: Pronósticos de Demand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3 Marcador de pie de página"/>
          <p:cNvSpPr/>
          <p:nvPr/>
        </p:nvSpPr>
        <p:spPr>
          <a:xfrm rot="21562800">
            <a:off x="4952520" y="62766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2: Pronósticos de Demanda  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2B7CB-4D88-446B-8780-74D6D8E16A60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Métodos Cualitativ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2.- Encuestas de Mercado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orresponden básicamente a paneles, cuestionarios y pruebas de mercad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aracterística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Típicamente se usan para probar nuevos productos (yoghurt) o en test políticos (encuestas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on buenos a corto plaz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oseen un alto cost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ermiten identificar puntos de cambi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3 Marcador de pie de página"/>
          <p:cNvSpPr/>
          <p:nvPr/>
        </p:nvSpPr>
        <p:spPr>
          <a:xfrm rot="21562800">
            <a:off x="4952520" y="62766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2: Pronósticos de Demanda  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22E2E-25AA-4496-8712-D8D29A0FB07F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Métodos Cualitativ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3.- Analogía a los Ciclos de Vida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onsiste en identificar en que fase de su vida se encuentra un producto, para esto se analizan las curvas de crecimiento de productos similar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Fa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Introducció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recimient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aduració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aturació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3 Marcador de pie de página"/>
          <p:cNvSpPr/>
          <p:nvPr/>
        </p:nvSpPr>
        <p:spPr>
          <a:xfrm rot="21562800">
            <a:off x="4952520" y="62766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2: Pronósticos de Demanda  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20DC4-ACB3-4055-84B8-EAF81F743756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Métodos Cualitativ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aracterística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on de largo plaz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oseen una exactitud regula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No capta puntos de cambi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sto bajo a medi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jemplo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Juguet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VH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3 Marcador de pie de página"/>
          <p:cNvSpPr/>
          <p:nvPr/>
        </p:nvSpPr>
        <p:spPr>
          <a:xfrm rot="21562800">
            <a:off x="4952520" y="62766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2: Pronósticos de Demanda  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DE3E4-5D6B-461E-B21F-D3004605F6A3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Métodos Cualitativ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4.- Juicio Bien Informado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e basa sólo en la experiencia y en la intuició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aracterística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Tienen un gran us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osee una exactitud baj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sto baj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Regular en la identificación de puntos de cambi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jempl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dificios de departament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3 Marcador de pie de página"/>
          <p:cNvSpPr/>
          <p:nvPr/>
        </p:nvSpPr>
        <p:spPr>
          <a:xfrm rot="21562800">
            <a:off x="4952520" y="62766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2: Pronósticos de Demanda  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A5470-EC55-47DD-948F-3A0FBBC4D345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Series de Tiemp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219320" y="19051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Característic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stos métodos utilizan datos históricos y los proyectan a futur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on de corto plaz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s necesario contar con datos intern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No captan patrones de cambi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3 Marcador de pie de página"/>
          <p:cNvSpPr/>
          <p:nvPr/>
        </p:nvSpPr>
        <p:spPr>
          <a:xfrm rot="21562800">
            <a:off x="4952520" y="62766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2: Pronósticos de Demanda  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A54B8-8667-4C19-96AF-79E45115EC84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Series de Tiemp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2866680" y="5562720"/>
            <a:ext cx="372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Tahoma"/>
              </a:rPr>
              <a:t>Serie de Tiempo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7" name="Picture 7" descr=""/>
          <p:cNvPicPr/>
          <p:nvPr/>
        </p:nvPicPr>
        <p:blipFill>
          <a:blip r:embed="rId1"/>
          <a:stretch/>
        </p:blipFill>
        <p:spPr>
          <a:xfrm>
            <a:off x="1893960" y="1752480"/>
            <a:ext cx="5268960" cy="3824280"/>
          </a:xfrm>
          <a:prstGeom prst="rect">
            <a:avLst/>
          </a:prstGeom>
          <a:ln w="0">
            <a:noFill/>
          </a:ln>
        </p:spPr>
      </p:pic>
      <p:sp>
        <p:nvSpPr>
          <p:cNvPr id="158" name="Text Box 8"/>
          <p:cNvSpPr/>
          <p:nvPr/>
        </p:nvSpPr>
        <p:spPr>
          <a:xfrm>
            <a:off x="5023440" y="3740040"/>
            <a:ext cx="21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Serie de tiempo origina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Text Box 10"/>
          <p:cNvSpPr/>
          <p:nvPr/>
        </p:nvSpPr>
        <p:spPr>
          <a:xfrm>
            <a:off x="4245120" y="5078520"/>
            <a:ext cx="895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Tiempo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Text Box 11"/>
          <p:cNvSpPr/>
          <p:nvPr/>
        </p:nvSpPr>
        <p:spPr>
          <a:xfrm rot="16183800">
            <a:off x="1334160" y="3322080"/>
            <a:ext cx="1110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Demand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3 Marcador de pie de página"/>
          <p:cNvSpPr/>
          <p:nvPr/>
        </p:nvSpPr>
        <p:spPr>
          <a:xfrm rot="21562800">
            <a:off x="4952520" y="62766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2: Pronósticos de Demanda  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47826-AFBA-44FD-B63F-467BD59C4F91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3" name="Picture 9" descr=""/>
          <p:cNvPicPr/>
          <p:nvPr/>
        </p:nvPicPr>
        <p:blipFill>
          <a:blip r:embed="rId1"/>
          <a:stretch/>
        </p:blipFill>
        <p:spPr>
          <a:xfrm>
            <a:off x="2124000" y="1600200"/>
            <a:ext cx="4810320" cy="377496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Series de Tiemp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5" name="Text Box 5"/>
          <p:cNvSpPr/>
          <p:nvPr/>
        </p:nvSpPr>
        <p:spPr>
          <a:xfrm>
            <a:off x="2291400" y="5562720"/>
            <a:ext cx="470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Tahoma"/>
              </a:rPr>
              <a:t>Serie de Tiempo Descompues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Text Box 6"/>
          <p:cNvSpPr/>
          <p:nvPr/>
        </p:nvSpPr>
        <p:spPr>
          <a:xfrm>
            <a:off x="4384800" y="5181480"/>
            <a:ext cx="895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Tiempo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Text Box 7"/>
          <p:cNvSpPr/>
          <p:nvPr/>
        </p:nvSpPr>
        <p:spPr>
          <a:xfrm rot="16183800">
            <a:off x="1486440" y="3169800"/>
            <a:ext cx="1110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Demand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Text Box 8"/>
          <p:cNvSpPr/>
          <p:nvPr/>
        </p:nvSpPr>
        <p:spPr>
          <a:xfrm>
            <a:off x="5930640" y="1905120"/>
            <a:ext cx="57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iclo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Text Box 11"/>
          <p:cNvSpPr/>
          <p:nvPr/>
        </p:nvSpPr>
        <p:spPr>
          <a:xfrm>
            <a:off x="5891040" y="2743200"/>
            <a:ext cx="164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Patró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de estacionalidad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Text Box 12"/>
          <p:cNvSpPr/>
          <p:nvPr/>
        </p:nvSpPr>
        <p:spPr>
          <a:xfrm>
            <a:off x="5916600" y="3429000"/>
            <a:ext cx="104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Tendencia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Text Box 13"/>
          <p:cNvSpPr/>
          <p:nvPr/>
        </p:nvSpPr>
        <p:spPr>
          <a:xfrm>
            <a:off x="5928840" y="4038480"/>
            <a:ext cx="598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Nive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Text Box 14"/>
          <p:cNvSpPr/>
          <p:nvPr/>
        </p:nvSpPr>
        <p:spPr>
          <a:xfrm>
            <a:off x="5911200" y="4572000"/>
            <a:ext cx="941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Aleatorio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3 Marcador de pie de página"/>
          <p:cNvSpPr/>
          <p:nvPr/>
        </p:nvSpPr>
        <p:spPr>
          <a:xfrm rot="21562800">
            <a:off x="4952520" y="62766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2: Pronósticos de Demanda  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AACFE-1678-4527-9EE2-E0117917A255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Series de Tiemp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1430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Componente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Ruido: parte aleatoria (si es muy alto es difícil hacer pronósticos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stacionalida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Tendenci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Nivel (base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Ejemplo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Zapat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Helad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ntradas al estadi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3 Marcador de pie de página"/>
          <p:cNvSpPr/>
          <p:nvPr/>
        </p:nvSpPr>
        <p:spPr>
          <a:xfrm rot="21562800">
            <a:off x="4952520" y="62766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2: Pronósticos de Demanda  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29737-F13C-46A3-961B-EDE3D270EB4F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Series de Tiemp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Notació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emanda observada en el período 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ahoma"/>
              </a:rPr>
              <a:t>t+1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ronóstico para el período t+1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romedio calculado para el período 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= 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- F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: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rror de pronóstic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Típicamente se conocen 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ahoma"/>
              </a:rPr>
              <a:t>t-k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,....., 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y se busca F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ahoma"/>
              </a:rPr>
              <a:t>t+1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, F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ahoma"/>
              </a:rPr>
              <a:t>t+2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,...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3 Marcador de pie de página"/>
          <p:cNvSpPr/>
          <p:nvPr/>
        </p:nvSpPr>
        <p:spPr>
          <a:xfrm rot="21562800">
            <a:off x="4952520" y="62766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2: Pronósticos de Demanda  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15156-8115-417F-8EE1-90DC469BDA26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Series de Tiemp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1.- Promedios Móvil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e sugiere que la serie de tiempo tiene componentes de valor promedi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e toma </a:t>
            </a:r>
            <a:r>
              <a:rPr b="0" i="1" lang="es-ES_tradnl" sz="24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ahoma"/>
              </a:rPr>
              <a:t>t+1</a:t>
            </a:r>
            <a:r>
              <a:rPr b="0" i="1" lang="es-ES_tradnl" sz="2400" spc="-1" strike="noStrike">
                <a:solidFill>
                  <a:srgbClr val="000000"/>
                </a:solidFill>
                <a:latin typeface="Tahoma"/>
              </a:rPr>
              <a:t>=A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i="1" lang="es-ES_tradnl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i hay variabilidad en la demanda se pueden usar promedios móviles ponderados, asignando mayor ponderación a los últimos períod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5" name="Object 4"/>
              <p:cNvSpPr txBox="1"/>
              <p:nvPr/>
            </p:nvSpPr>
            <p:spPr>
              <a:xfrm>
                <a:off x="1981080" y="3200400"/>
                <a:ext cx="3886200" cy="92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3 Marcador de pie de página"/>
          <p:cNvSpPr/>
          <p:nvPr/>
        </p:nvSpPr>
        <p:spPr>
          <a:xfrm rot="21562800">
            <a:off x="4952520" y="62766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2: Pronósticos de Demanda  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D77CF-F6F9-4E70-8E84-C3FAAD952DA6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Introduc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Permiten estudiar la demanda futura, acción importante en el diseño de un producto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Relaciones relevant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ronóstico - Planeació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emanda - Venta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3 Marcador de pie de página"/>
          <p:cNvSpPr/>
          <p:nvPr/>
        </p:nvSpPr>
        <p:spPr>
          <a:xfrm rot="21562800">
            <a:off x="4952520" y="62766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2: Pronósticos de Demanda  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194AD-E706-4C97-928C-2301B3155A11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Series de Tiemp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2.- Promedios Móviles Ponderado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No es recomendable p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mplejida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e deben llevar los registros de demanda históric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álculo de las ponderacion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0" name="Object 4"/>
              <p:cNvSpPr txBox="1"/>
              <p:nvPr/>
            </p:nvSpPr>
            <p:spPr>
              <a:xfrm>
                <a:off x="2057400" y="2479680"/>
                <a:ext cx="5638680" cy="15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       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caso anterior, 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3 Marcador de pie de página"/>
          <p:cNvSpPr/>
          <p:nvPr/>
        </p:nvSpPr>
        <p:spPr>
          <a:xfrm rot="21562800">
            <a:off x="4952520" y="62766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2: Pronósticos de Demanda  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655BB-EB58-40A4-BB91-84EC80D2009C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Series de Tiemp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3.- Alisamiento Exponencial Simpl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ahoma"/>
              </a:rPr>
              <a:t>t-1</a:t>
            </a:r>
            <a:r>
              <a:rPr b="0" i="1" lang="es-ES_tradnl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refleja la histori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i se cree en la última demanda              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i se cree en la historia                           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5" name="Object 5"/>
              <p:cNvSpPr txBox="1"/>
              <p:nvPr/>
            </p:nvSpPr>
            <p:spPr>
              <a:xfrm>
                <a:off x="2057400" y="2514600"/>
                <a:ext cx="6172200" cy="120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α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α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       0</m:t>
                        </m:r>
                        <m:r>
                          <m:t xml:space="preserve">&lt;</m:t>
                        </m:r>
                        <m:r>
                          <m:t xml:space="preserve">α</m:t>
                        </m:r>
                        <m:r>
                          <m:t xml:space="preserve">&lt;</m:t>
                        </m:r>
                        <m:r>
                          <m:t xml:space="preserve">1</m:t>
                        </m:r>
                      </m:e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" name="Object 6"/>
              <p:cNvSpPr txBox="1"/>
              <p:nvPr/>
            </p:nvSpPr>
            <p:spPr>
              <a:xfrm>
                <a:off x="6578640" y="4572000"/>
                <a:ext cx="1066680" cy="46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t xml:space="preserve">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" name="Object 7"/>
              <p:cNvSpPr txBox="1"/>
              <p:nvPr/>
            </p:nvSpPr>
            <p:spPr>
              <a:xfrm>
                <a:off x="6583320" y="5029200"/>
                <a:ext cx="1133640" cy="46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t xml:space="preserve">→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3 Marcador de pie de página"/>
          <p:cNvSpPr/>
          <p:nvPr/>
        </p:nvSpPr>
        <p:spPr>
          <a:xfrm rot="21562800">
            <a:off x="4952520" y="62766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2: Pronósticos de Demanda  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DF54B-81FE-45F7-AE2D-4D137545C4B9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Series de Tiemp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l efecto de los primeros períodos se va atenuando en forma exponencia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2" name="Object 4"/>
              <p:cNvSpPr txBox="1"/>
              <p:nvPr/>
            </p:nvSpPr>
            <p:spPr>
              <a:xfrm>
                <a:off x="1523880" y="2895480"/>
                <a:ext cx="6934320" cy="215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α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α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r>
                          <m:t xml:space="preserve">=</m:t>
                        </m:r>
                        <m:r>
                          <m:t xml:space="preserve">α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α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α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α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r>
                          <m:t xml:space="preserve">=</m:t>
                        </m:r>
                        <m:r>
                          <m:t xml:space="preserve">α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α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t xml:space="preserve">α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α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⋅</m:t>
                        </m:r>
                        <m:r>
                          <m:t xml:space="preserve">α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α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3 Marcador de pie de página"/>
          <p:cNvSpPr/>
          <p:nvPr/>
        </p:nvSpPr>
        <p:spPr>
          <a:xfrm rot="21562800">
            <a:off x="4952520" y="62766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2: Pronósticos de Demanda  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7DC36-C648-49A0-9B08-974C6E0E4BC2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Series de Tiemp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Forma de Us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e requiere de las demandas históricas (D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) y de un promedio inicial (A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e va calibrando     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jemplo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Fábrica de Zapat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hilectr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7" name="Object 4"/>
              <p:cNvSpPr txBox="1"/>
              <p:nvPr/>
            </p:nvSpPr>
            <p:spPr>
              <a:xfrm>
                <a:off x="4343400" y="4305240"/>
                <a:ext cx="298440" cy="29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" name="Object 5"/>
              <p:cNvSpPr txBox="1"/>
              <p:nvPr/>
            </p:nvSpPr>
            <p:spPr>
              <a:xfrm>
                <a:off x="2374920" y="2997360"/>
                <a:ext cx="3976560" cy="102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α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α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→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α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α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→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3 Marcador de pie de página"/>
          <p:cNvSpPr/>
          <p:nvPr/>
        </p:nvSpPr>
        <p:spPr>
          <a:xfrm rot="21562800">
            <a:off x="4952520" y="62766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2: Pronósticos de Demanda  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7C2CE-256D-447E-B632-AF19E3795812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Series de Tiemp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4.- Alisamiento Exponencial con Tendencia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onde </a:t>
            </a:r>
            <a:r>
              <a:rPr b="0" i="1" lang="es-ES_tradnl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es la tendenci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3" name="Object 4"/>
              <p:cNvSpPr txBox="1"/>
              <p:nvPr/>
            </p:nvSpPr>
            <p:spPr>
              <a:xfrm>
                <a:off x="1515960" y="2644920"/>
                <a:ext cx="7094520" cy="177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α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α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      0</m:t>
                        </m:r>
                        <m:r>
                          <m:t xml:space="preserve">&lt;</m:t>
                        </m:r>
                        <m:r>
                          <m:t xml:space="preserve">α</m:t>
                        </m:r>
                        <m:r>
                          <m:t xml:space="preserve">&lt;</m:t>
                        </m:r>
                        <m:r>
                          <m:t xml:space="preserve">1</m:t>
                        </m:r>
                      </m:e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β</m:t>
                        </m:r>
                        <m:r>
                          <m:t xml:space="preserve">⋅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β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      0</m:t>
                        </m:r>
                        <m:r>
                          <m:t xml:space="preserve">&lt;</m:t>
                        </m:r>
                        <m:r>
                          <m:t xml:space="preserve">β</m:t>
                        </m:r>
                        <m:r>
                          <m:t xml:space="preserve">&lt;</m:t>
                        </m:r>
                        <m:r>
                          <m:t xml:space="preserve">1</m:t>
                        </m:r>
                      </m:e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k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3 Marcador de pie de página"/>
          <p:cNvSpPr/>
          <p:nvPr/>
        </p:nvSpPr>
        <p:spPr>
          <a:xfrm rot="21562800">
            <a:off x="4952520" y="62766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2: Pronósticos de Demanda  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A11BB-DA3A-4D31-9AF9-ECB5A00846BA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Series de Tiemp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219320" y="14479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4.- Alisamiento Exponencial con Estacionalidad de Largo </a:t>
            </a:r>
            <a:r>
              <a:rPr b="0" i="1" lang="es-ES_tradnl" sz="28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onde </a:t>
            </a:r>
            <a:r>
              <a:rPr b="0" i="1" lang="es-ES_tradnl" sz="24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es el factor de estacionalida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8" name="Object 4"/>
              <p:cNvSpPr txBox="1"/>
              <p:nvPr/>
            </p:nvSpPr>
            <p:spPr>
              <a:xfrm>
                <a:off x="2057400" y="2590920"/>
                <a:ext cx="6535800" cy="312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α</m:t>
                        </m:r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D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L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α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     0</m:t>
                        </m:r>
                        <m:r>
                          <m:t xml:space="preserve">&lt;</m:t>
                        </m:r>
                        <m:r>
                          <m:t xml:space="preserve">α</m:t>
                        </m:r>
                        <m:r>
                          <m:t xml:space="preserve">&lt;</m:t>
                        </m:r>
                        <m:r>
                          <m:t xml:space="preserve">1</m:t>
                        </m:r>
                      </m:e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γ</m:t>
                        </m:r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D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γ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R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L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       0</m:t>
                        </m:r>
                        <m:r>
                          <m:t xml:space="preserve">&lt;</m:t>
                        </m:r>
                        <m:r>
                          <m:t xml:space="preserve">γ</m:t>
                        </m:r>
                        <m:r>
                          <m:t xml:space="preserve">&lt;</m:t>
                        </m:r>
                        <m:r>
                          <m:t xml:space="preserve">1</m:t>
                        </m:r>
                      </m:e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k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L</m:t>
                            </m:r>
                            <m:r>
                              <m:t xml:space="preserve">+</m:t>
                            </m:r>
                            <m:r>
                              <m:t xml:space="preserve">k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3 Marcador de pie de página"/>
          <p:cNvSpPr/>
          <p:nvPr/>
        </p:nvSpPr>
        <p:spPr>
          <a:xfrm rot="21562800">
            <a:off x="4952520" y="62766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2: Pronósticos de Demanda  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CD3E4-92B0-4E15-8669-98756AA3F379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Series de Tiemp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Errores de Pronóstico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Los indicadores de error sirven para ver en qué momento el pronóstico falla o los datos no sirve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Indicador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esviación media absolut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3" name="Object 4"/>
              <p:cNvSpPr txBox="1"/>
              <p:nvPr/>
            </p:nvSpPr>
            <p:spPr>
              <a:xfrm>
                <a:off x="1981080" y="4724280"/>
                <a:ext cx="2438640" cy="84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AD</m:t>
                    </m:r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t</m:t>
                            </m:r>
                          </m:sub>
                          <m:sup/>
                          <m:e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sSub>
                                  <m:e>
                                    <m:r>
                                      <m:t xml:space="preserve">D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</m:e>
                            </m:d>
                          </m:e>
                        </m:nary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3 Marcador de pie de página"/>
          <p:cNvSpPr/>
          <p:nvPr/>
        </p:nvSpPr>
        <p:spPr>
          <a:xfrm rot="21562800">
            <a:off x="4952520" y="62766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2: Pronósticos de Demanda  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5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3DB3B-0C4B-4E48-BA78-341297DF9B54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Series de Tiemp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e ajusta     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i |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ahoma"/>
              </a:rPr>
              <a:t>t 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- D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| &gt; 3,75xMAD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ahoma"/>
              </a:rPr>
              <a:t>t 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(tres desviaciones standard), entonces existen sospechas de valor extrem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n un enfoque aproximado      corresponde a 1,25xMAD, para una función norm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8" name="Object 5"/>
              <p:cNvSpPr txBox="1"/>
              <p:nvPr/>
            </p:nvSpPr>
            <p:spPr>
              <a:xfrm>
                <a:off x="2379600" y="2057400"/>
                <a:ext cx="5583240" cy="62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MAD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α</m:t>
                    </m:r>
                    <m:r>
                      <m:t xml:space="preserve">⋅</m:t>
                    </m:r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e>
                    </m:d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MAD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" name="Object 6"/>
              <p:cNvSpPr txBox="1"/>
              <p:nvPr/>
            </p:nvSpPr>
            <p:spPr>
              <a:xfrm>
                <a:off x="3581280" y="3213000"/>
                <a:ext cx="298440" cy="29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" name="Object 7"/>
              <p:cNvSpPr txBox="1"/>
              <p:nvPr/>
            </p:nvSpPr>
            <p:spPr>
              <a:xfrm>
                <a:off x="5486400" y="4241880"/>
                <a:ext cx="304920" cy="28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3 Marcador de pie de página"/>
          <p:cNvSpPr/>
          <p:nvPr/>
        </p:nvSpPr>
        <p:spPr>
          <a:xfrm rot="21562800">
            <a:off x="4952520" y="62766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2: Pronósticos de Demanda  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9F21E-9D08-480E-83C8-44E12172195F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Series de Tiemp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eñal de Rastre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Donde el numerador corresponde al sesgo y el denominador al último MAD observad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i T                (confiabilidad menor al 97%), entonces debe revisarse el modelo ya que esta sesgad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5" name="Object 4"/>
              <p:cNvSpPr txBox="1"/>
              <p:nvPr/>
            </p:nvSpPr>
            <p:spPr>
              <a:xfrm>
                <a:off x="1905120" y="2362320"/>
                <a:ext cx="62481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uma acumulada de la desviación del pronóstico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MAD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6" name="Object 5"/>
              <p:cNvSpPr txBox="1"/>
              <p:nvPr/>
            </p:nvSpPr>
            <p:spPr>
              <a:xfrm>
                <a:off x="2946240" y="4114800"/>
                <a:ext cx="990720" cy="34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∉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r>
                          <m:t xml:space="preserve">6</m:t>
                        </m:r>
                        <m:r>
                          <m:t xml:space="preserve">,</m:t>
                        </m:r>
                        <m:r>
                          <m:t xml:space="preserve">+</m:t>
                        </m:r>
                        <m:r>
                          <m:t xml:space="preserve">6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3 Marcador de pie de página"/>
          <p:cNvSpPr/>
          <p:nvPr/>
        </p:nvSpPr>
        <p:spPr>
          <a:xfrm rot="21562800">
            <a:off x="4952520" y="62766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2: Pronósticos de Demanda  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27E60-D977-403B-96DA-8990DAD91B33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Métodos Causal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1.- Regresió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: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variable independient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variable dependient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La idea es ajustar una curva a los puntos con que se cuent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1" name="Object 4"/>
              <p:cNvSpPr txBox="1"/>
              <p:nvPr/>
            </p:nvSpPr>
            <p:spPr>
              <a:xfrm>
                <a:off x="1981080" y="2209680"/>
                <a:ext cx="1676520" cy="45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+</m:t>
                    </m:r>
                    <m:r>
                      <m:t xml:space="preserve">b</m:t>
                    </m:r>
                    <m:r>
                      <m:t xml:space="preserve">⋅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" name="Object 5"/>
              <p:cNvSpPr txBox="1"/>
              <p:nvPr/>
            </p:nvSpPr>
            <p:spPr>
              <a:xfrm>
                <a:off x="1905120" y="3048120"/>
                <a:ext cx="36972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y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3" name="Object 6"/>
              <p:cNvSpPr txBox="1"/>
              <p:nvPr/>
            </p:nvSpPr>
            <p:spPr>
              <a:xfrm>
                <a:off x="1981080" y="4876920"/>
                <a:ext cx="6019920" cy="79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in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r>
                          <m:t xml:space="preserve">(</m:t>
                        </m:r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in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b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3 Marcador de pie de página"/>
          <p:cNvSpPr/>
          <p:nvPr/>
        </p:nvSpPr>
        <p:spPr>
          <a:xfrm rot="21562800">
            <a:off x="4952520" y="62766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2: Pronósticos de Demanda  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03757-336F-4E32-A2E8-08038A968B09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Introduc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430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Es importante ver el horizonte y nivel de agregación que se requiere para el pronóstico de demanda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Nivel Estratégico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Largo plaz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uy agregad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Nivel Táctic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ediano plaz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enos agregad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3 Marcador de pie de página"/>
          <p:cNvSpPr/>
          <p:nvPr/>
        </p:nvSpPr>
        <p:spPr>
          <a:xfrm rot="21562800">
            <a:off x="4952520" y="62766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2: Pronósticos de Demanda  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5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F1716-DC7B-494C-902D-42F636470DDD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Métodos Causal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omo resultado se obtien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8" name="Object 0"/>
              <p:cNvSpPr txBox="1"/>
              <p:nvPr/>
            </p:nvSpPr>
            <p:spPr>
              <a:xfrm>
                <a:off x="1981080" y="2286000"/>
                <a:ext cx="4915080" cy="331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f>
                          <m:num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i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nary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t xml:space="preserve">b</m:t>
                        </m:r>
                        <m:r>
                          <m:t xml:space="preserve">⋅</m:t>
                        </m:r>
                        <m:f>
                          <m:num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i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nary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</m:e>
                      <m:e>
                        <m:r>
                          <m:t xml:space="preserve">b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n</m:t>
                            </m:r>
                            <m:r>
                              <m:t xml:space="preserve">⋅</m:t>
                            </m:r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i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⋅</m:t>
                                </m:r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nary>
                            <m:r>
                              <m:t xml:space="preserve">−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nary>
                                      <m:naryPr>
                                        <m:chr m:val="∑"/>
                                        <m:supHide m:val="1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  <m:sup/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</m:e>
                                    </m:nary>
                                  </m:e>
                                </m:d>
                                <m:r>
                                  <m:t xml:space="preserve">⋅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nary>
                                      <m:naryPr>
                                        <m:chr m:val="∑"/>
                                        <m:supHide m:val="1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  <m:sup/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</m:e>
                                    </m:nary>
                                  </m:e>
                                </m:d>
                              </m:e>
                            </m:d>
                          </m:num>
                          <m:den>
                            <m:r>
                              <m:t xml:space="preserve">n</m:t>
                            </m:r>
                            <m:r>
                              <m:t xml:space="preserve">⋅</m:t>
                            </m:r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i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sSup>
                                      <m:e>
                                        <m:r>
                                          <m:t xml:space="preserve">i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sub>
                                </m:sSub>
                              </m:e>
                            </m:nary>
                            <m:r>
                              <m:t xml:space="preserve">−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nary>
                                      <m:naryPr>
                                        <m:chr m:val="∑"/>
                                        <m:supHide m:val="1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  <m:sup/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3 Marcador de pie de página"/>
          <p:cNvSpPr/>
          <p:nvPr/>
        </p:nvSpPr>
        <p:spPr>
          <a:xfrm rot="21562800">
            <a:off x="4952520" y="62766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2: Pronósticos de Demanda  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E0FC2-C39F-4572-890C-3E114B48A96D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Métodos Causal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Donde R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mide la proporción de la variación de </a:t>
            </a:r>
            <a:r>
              <a:rPr b="0" i="1" lang="es-ES_tradnl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explicada por </a:t>
            </a:r>
            <a:r>
              <a:rPr b="0" i="1" lang="es-ES_tradnl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Valores sobre 0,95 se consideran buen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3" name="Object 0"/>
              <p:cNvSpPr txBox="1"/>
              <p:nvPr/>
            </p:nvSpPr>
            <p:spPr>
              <a:xfrm>
                <a:off x="1676520" y="1616040"/>
                <a:ext cx="6858000" cy="234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sSup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n</m:t>
                                </m:r>
                                <m:r>
                                  <m:t xml:space="preserve">⋅</m:t>
                                </m:r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⋅</m:t>
                                    </m:r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nary>
                                <m:r>
                                  <m:t xml:space="preserve">−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nary>
                                      <m:naryPr>
                                        <m:chr m:val="∑"/>
                                        <m:supHide m:val="1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  <m:sup/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</m:e>
                                    </m:nary>
                                  </m:e>
                                </m:d>
                                <m:r>
                                  <m:t xml:space="preserve">⋅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nary>
                                      <m:naryPr>
                                        <m:chr m:val="∑"/>
                                        <m:supHide m:val="1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  <m:sup/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</m:e>
                                    </m:nary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n</m:t>
                            </m:r>
                            <m:r>
                              <m:t xml:space="preserve">⋅</m:t>
                            </m:r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i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sSup>
                                      <m:e>
                                        <m:r>
                                          <m:t xml:space="preserve">i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sub>
                                </m:sSub>
                              </m:e>
                            </m:nary>
                            <m:r>
                              <m:t xml:space="preserve">−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nary>
                                      <m:naryPr>
                                        <m:chr m:val="∑"/>
                                        <m:supHide m:val="1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  <m:sup/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  <m:r>
                          <m:t xml:space="preserve">⋅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n</m:t>
                            </m:r>
                            <m:r>
                              <m:t xml:space="preserve">⋅</m:t>
                            </m:r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i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sSup>
                                      <m:e>
                                        <m:r>
                                          <m:t xml:space="preserve">i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sub>
                                </m:sSub>
                              </m:e>
                            </m:nary>
                            <m:r>
                              <m:t xml:space="preserve">−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nary>
                                      <m:naryPr>
                                        <m:chr m:val="∑"/>
                                        <m:supHide m:val="1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  <m:sup/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3 Marcador de pie de página"/>
          <p:cNvSpPr/>
          <p:nvPr/>
        </p:nvSpPr>
        <p:spPr>
          <a:xfrm rot="21562800">
            <a:off x="4952520" y="62766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2: Pronósticos de Demanda  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5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B35BE-D9B5-4137-A81E-7BBE61C03B81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Métodos Causal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jempl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y: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Venta de periódic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Número de habitant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Ingreso per capit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mpetenci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e puede extender a formulaciones compleja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" name="Object 0"/>
              <p:cNvSpPr txBox="1"/>
              <p:nvPr/>
            </p:nvSpPr>
            <p:spPr>
              <a:xfrm>
                <a:off x="1981080" y="4800600"/>
                <a:ext cx="2057400" cy="53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z</m:t>
                    </m:r>
                    <m:r>
                      <m:t xml:space="preserve">,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3 Marcador de pie de página"/>
          <p:cNvSpPr/>
          <p:nvPr/>
        </p:nvSpPr>
        <p:spPr>
          <a:xfrm rot="21562800">
            <a:off x="4952520" y="62766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2: Pronósticos de Demanda  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0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8C3E4-29FF-43C1-B8A7-685F874B8AD3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Métodos Causal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rincipales característica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s útil cuando existen fuertes relaciones causal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Uso típico para horizontes de corto y mediano plaz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ermite identificar bien puntos de cambi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s un método car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Requiere sofisticació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s fácil cometer error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3 Marcador de pie de página"/>
          <p:cNvSpPr/>
          <p:nvPr/>
        </p:nvSpPr>
        <p:spPr>
          <a:xfrm rot="21562800">
            <a:off x="4952520" y="62766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2: Pronósticos de Demanda  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4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B0C2A-0586-4361-A0C7-60545142D16F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Métodos Causal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2.- Modelos Econométrico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istema de ecuaciones de regresión interdependientes para describir un proceso complej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aracterística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mplejidad alt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sto alt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on de largo plaz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Buenos para identificar puntos de cambi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3 Marcador de pie de página"/>
          <p:cNvSpPr/>
          <p:nvPr/>
        </p:nvSpPr>
        <p:spPr>
          <a:xfrm rot="21562800">
            <a:off x="4952520" y="62766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2: Pronósticos de Demanda  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8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C7A05-B60F-4857-A4F5-EF53A2F4B269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Métodos Causal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jemplo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recio cobr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ectores de la economí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3 Marcador de pie de página"/>
          <p:cNvSpPr/>
          <p:nvPr/>
        </p:nvSpPr>
        <p:spPr>
          <a:xfrm rot="21562800">
            <a:off x="4952520" y="62766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2: Pronósticos de Demanda  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2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EAFFE-8E7D-438C-83DB-66609A9D64F8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Métodos Causal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219320" y="14479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3.- Modelos de Insumo (Leontieff)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escriben el flujo de un sector de la economía a otro para predecir los insumos que se necesitan para producir los productos que requiere otro secto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aracterística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oseen un costo muy alt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Buena exactitu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on de corto plaz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Débiles para identificar puntos de cambi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jempl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Ventas de la construcción afectan las de cement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3 Marcador de pie de página"/>
          <p:cNvSpPr/>
          <p:nvPr/>
        </p:nvSpPr>
        <p:spPr>
          <a:xfrm rot="21562800">
            <a:off x="4952520" y="62766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2: Pronósticos de Demanda  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6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699B9-47D0-4555-ABF3-C3745C2CDF84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Métodos Causal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4.- Simulació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aracterística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La simulación de sistemas es complej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ara de implementa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Horizonte de corto a mediano plaz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uede identificar puntos de cambi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jempl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Distribución en cadena, para ver demanda de distintos element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lanos de producción, para conocer la demanda por insum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Transporte urbano, para ver equilibrio vehicula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3 Marcador de pie de página"/>
          <p:cNvSpPr/>
          <p:nvPr/>
        </p:nvSpPr>
        <p:spPr>
          <a:xfrm rot="21562800">
            <a:off x="4952520" y="62766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2: Pronósticos de Demanda  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98353-A8DC-43E6-9F01-73E16F424B99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Criterios de Elec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1.- Sofisticación del usuario y del sistem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No se deben dar saltos brusc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2.- Tiempo y recursos disponibl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3.- Tipo de decisió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Trade-off entre costo y calidad del pronóstic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jemplo: Falabella vs Negocio chic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4.- Disponibilidad de dat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Box-Jenkins es una serie de tiempo autocorrelacionada que exige 60 datos (60 meses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5.- Patrón de dat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i es causal no se pueden usar series de tiemp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3 Marcador de pie de página"/>
          <p:cNvSpPr/>
          <p:nvPr/>
        </p:nvSpPr>
        <p:spPr>
          <a:xfrm rot="21562800">
            <a:off x="4952520" y="62766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2: Pronósticos de Demanda  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8388E-DB24-4F75-B5EF-E879F926E7D5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Introduc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Nivel Operativ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rto plaz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Detallad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jemplo: Fábrica de Zapat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Nivel Estratégico: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Demandas globales a 5 añ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Nivel Táctico: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Demanda por línea para la 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róxima temporad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Nivel Operativo: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Demanda por modelo y número 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ara la próxima seman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3 Marcador de pie de página"/>
          <p:cNvSpPr/>
          <p:nvPr/>
        </p:nvSpPr>
        <p:spPr>
          <a:xfrm rot="21562800">
            <a:off x="4952520" y="62766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2: Pronósticos de Demanda  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69774-FEF4-4A7B-B7E7-4E45208F51E3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Métodos de Pronóstic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Existen dos tipo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Métodos Cualitativos: son aquellos que dependen de juici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Métodos Cuantitativos: son aquellos que poseen un modelo subyacent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Los datos y patrones de datos se utilizan como indicadores confiables para predecir el futur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Incluyen Series de Tiempo y Modelos Causal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3 Marcador de pie de página"/>
          <p:cNvSpPr/>
          <p:nvPr/>
        </p:nvSpPr>
        <p:spPr>
          <a:xfrm rot="21562800">
            <a:off x="4952520" y="62766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2: Pronósticos de Demanda  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4CF8A-520A-4C6D-A3DD-6F9FE7F86AF4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Métodos de Pronóstic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Uso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0" name="Picture 5" descr=""/>
          <p:cNvPicPr/>
          <p:nvPr/>
        </p:nvPicPr>
        <p:blipFill>
          <a:blip r:embed="rId1"/>
          <a:stretch/>
        </p:blipFill>
        <p:spPr>
          <a:xfrm>
            <a:off x="419040" y="2590920"/>
            <a:ext cx="8382240" cy="272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3 Marcador de pie de página"/>
          <p:cNvSpPr/>
          <p:nvPr/>
        </p:nvSpPr>
        <p:spPr>
          <a:xfrm rot="21562800">
            <a:off x="4952520" y="62766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2: Pronósticos de Demanda  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0D87C-C6BA-4AA5-A0C7-A6593EF48E73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Métodos Cualitativ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Características General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e posee poca informació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xiste alta incertidumbr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e tiene escasa capacidad de proces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Horizonte de mediano o largo plaz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Uso típico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roductos nuev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3 Marcador de pie de página"/>
          <p:cNvSpPr/>
          <p:nvPr/>
        </p:nvSpPr>
        <p:spPr>
          <a:xfrm rot="21562800">
            <a:off x="4952520" y="62766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2: Pronósticos de Demanda  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CDC83-4DDB-42D1-85EB-F04D35C61440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Métodos Cualitativ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1.- Método Delphi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Grupo de expertos que se reúne durante varias sesiones de reconsideraciones en busca de consensos respecto a un grupo de preguntas adecuado a la situación que se enfrent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aracterística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e usa en la introducción de nuevos productos y cambios tecnológic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s regular en exactitud y puntos de cambi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osee un costo mediano o alt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3 Marcador de pie de página"/>
          <p:cNvSpPr/>
          <p:nvPr/>
        </p:nvSpPr>
        <p:spPr>
          <a:xfrm rot="21562800">
            <a:off x="4952520" y="62766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2: Pronósticos de Demanda  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4C133-61D6-4EC5-BFA7-F2049F3353B8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Métodos Cualitativ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jemplo: Empresa que requiere pronóstico de ventas a 5 años y que posee una baja capacidad, lo que hace difícil usar ventas como información de demand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articipación de 23 administrador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Datos: PGB, ventas del sector y ventas de la empresa por 5 añ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Varias preguntas para obligar a pensar en relacion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Resultado: Mucha dispersión al comienzo, pero se convergió a un buen pronóstico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6T14:21:15Z</dcterms:created>
  <dc:creator>Dpto. Ingeniería Industrial</dc:creator>
  <dc:description/>
  <dc:language>en-US</dc:language>
  <cp:lastModifiedBy>Ricardo San Martín Z</cp:lastModifiedBy>
  <cp:lastPrinted>2001-04-12T20:51:56Z</cp:lastPrinted>
  <dcterms:modified xsi:type="dcterms:W3CDTF">2008-08-03T17:39:33Z</dcterms:modified>
  <cp:revision>157</cp:revision>
  <dc:subject/>
  <dc:title>Comercio Electrónico</dc:title>
</cp:coreProperties>
</file>