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3978-EB96-4071-9195-C98C4C010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0FC2-7157-4F2C-A7D1-7736FC9A9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56FE-501F-418F-822F-23233DF5E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E31C-5B38-4147-9B90-3D79C924D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2B5B-F629-44AC-86CA-8C52D6A9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933D2-7D3E-479A-AC7F-6224D2D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BA47-20D8-4DF9-9042-04DADA1C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8B295-8F1C-4079-83EC-480050A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05271-52D0-4B3E-96FB-924DAA02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2085F-6B1C-48DB-8D94-D6C79D8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6EF5-1B9C-4F8E-9EF7-9D4A7851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DAD6-2C73-4C39-A2FE-943BD2963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B1A71-9275-4BAB-9D36-F60FD66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6D6D-D469-45F5-A217-4BEA861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06F8-D910-4179-A520-30615B47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2FE4C-EA1E-4A1F-AD58-2BC8870B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1267A-E63A-49BA-AE4D-48D34BB5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D07F-51BE-486D-9904-CE1110F59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4C79-E161-44C9-ABCD-BFC1F17D2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D2DC-6F9E-41EC-90EC-4DDF2440D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4A54-23DD-4576-AEAE-BCE2203A4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B5B4-410F-4EFD-9019-6EC9BB0F8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4C01-8FA7-4B93-BEBF-DAD4D316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C000-1F2E-4B5C-BB83-5BAD28496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61E-B4EA-41E0-8CE0-504AAAF691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B41-61EB-4A8B-AC6A-90155D693009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C71F-16D0-4E15-B461-C4AED863369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A57D-2EDA-444E-BA88-8807B14750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5D1-A87F-4A26-B727-D743B3F33F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5A01-694B-4F2E-B735-B0F4EB27F88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EA9-00A2-4569-B250-E69A766DE71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5CF-C9FF-40B0-834C-3FEF7B213C6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3EE-807D-446E-8C42-3710CACC6A4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2EB9-E906-47B4-AFFF-F3E86FACCAD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8F7-D18B-4D22-B845-BAF67EB4902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7F4-E296-452B-A3D0-05C0C502E68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6E5-00C1-477C-B398-47BDB9FD70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B398-1D4E-4FD8-AB6C-0B318EB263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D1A-BA67-49CB-8C25-7987FCDD48A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E8AD-7074-4B36-9146-1CE79A23AA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45C-1E5C-4511-9E9F-17425EADDD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46E-1F91-4F48-97BB-EF44715F8C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2ADB-0A4C-4EC7-B2D1-1C4A39FFA8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057400" y="2590920"/>
                <a:ext cx="653580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E667-250B-4D74-B2AF-7D578C0F72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1A5-5A2E-484A-B974-AFD793732F8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0098-8948-4022-8507-673BDC2F5EE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327-A25A-4903-B4D3-204BA136B7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981080" y="4876920"/>
                <a:ext cx="6019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978-ECFA-44CB-B901-CAD0A5E7CD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26F-BF30-4A82-936E-8272D03E459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0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8B4-736B-458F-9062-3F4D7DF92B3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0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1201-B401-4452-B3D6-03CF2DC4C5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0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0533-263F-44FC-AA76-D4727B129B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22F-CFEA-4018-910F-F2FC521FA7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818-476F-4E90-93FC-B5C9F2EE20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4C1-45BF-4763-891D-246F6095134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E7C-2C87-4C1D-B7B1-D751A31A7F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A3E3-6A50-4C8A-BEFF-BF617CCF30F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79BB-198E-4DC3-92DF-34E1468B615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ED2-2C4F-41B0-BFD2-4F64C4DC028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6DC-BAC6-45E3-9DFC-0DDB25CBA1E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FB7-3C11-45DD-B342-8427870658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CDD-74DF-4E97-9C5F-90AC4F9ED20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2FF7-E36C-4F5F-8731-274CF52125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icardo San Martín Z</cp:lastModifiedBy>
  <cp:lastPrinted>2001-04-12T20:51:56Z</cp:lastPrinted>
  <dcterms:modified xsi:type="dcterms:W3CDTF">2008-08-03T17:39:33Z</dcterms:modified>
  <cp:revision>157</cp:revision>
  <dc:subject/>
  <dc:title>Comercio Electrónico</dc:title>
</cp:coreProperties>
</file>