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79B-C564-4B1A-B6E7-7CB1D9D65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66BF-B035-4680-9E26-3D3B2ADCF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72BB-FB41-4F69-AA0E-FB72BDC17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30FA-C8EC-479C-809C-A41FC3E12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CE34D-E393-4844-B242-C1962DE2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3CE6-7807-460D-825A-92F18BC2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1E2BF-F107-42C7-A1B8-F8F6AEF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A8982-D464-4201-B9DD-28BD291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42C11-80DD-48E9-BFB5-8EAEED2B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9E74-986C-462F-A09E-EAAB68DB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F5F7D-B5CE-47EE-BE91-480A88E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0D53-3149-4D3B-998C-6ECF4E5F3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0DF5F-B4B5-4660-860C-D7517C6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983D-3B13-4AB5-A16E-5B2D3CC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C12E-60FD-47C4-BB05-39A5409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07BDE-B0BD-4A55-B069-20A3CFC0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5D5C-9870-4ED3-85C5-FEDB1259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5EC6-A0DF-4FB0-BB50-952585C0E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E775-CF45-42C8-8C3B-DB21F6FDA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ABA7-738E-426F-9711-D32071170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6321-B776-4C28-99C9-901E10CF8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754C-A2DF-43EA-B6FC-4646D4821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1249-54ED-4AB1-B0EB-E1CE33C9A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AB6C-F67F-4E21-A8FA-14CD4AF8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F7A-2741-4F99-AD78-76F3DD8B26E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19F4-967F-4147-A5E1-776E7D58E98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BCF6-C2D2-45B0-B8A1-00B26289A9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851F-7AD0-46C1-AAEE-38D3AF373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564D-E53B-4354-873B-DABD9BB50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2C48-E415-46D3-84DB-483A264D2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BBB0-3665-4371-9876-10749142E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F92E-2921-4176-B4A6-355379460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2228-8FEE-4823-9794-E928FC779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F6B9-9F2F-4A80-A0AE-1B2D8818F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6153-B614-4736-A765-D5689D54A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8F95-F1CA-43A1-96FD-954D4761B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9CE6-DAB7-490B-822C-5E482AD65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6AD9-BECB-4245-93C9-08C5A4165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999E-B121-4735-A45D-910EBCDC8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6159-278D-4118-BCE1-6574784390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4DBF-2AEF-4099-99F6-283A0A2B0E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240E-A632-448A-8C27-7EA4C6B21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45E6-8AFB-442F-914C-48859D4BB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5BCB-4A68-48E0-8F8D-23BAAC38F7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D2CF-CA88-421F-9EAF-8A8627B2D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8783-54A1-441C-A6BF-1F83A92A9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615B-25B9-4390-82D1-41F3DDA8E2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3T13:44:18Z</dcterms:modified>
  <cp:revision>89</cp:revision>
  <dc:subject/>
  <dc:title>Modelamiento Físico de Interfaces</dc:title>
</cp:coreProperties>
</file>