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FC95-7A07-4ECB-BB70-0B411CE75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2F31-14D9-491C-98AE-ABE1981BD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E63C-BE00-48DC-949A-05CF3B850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BA50-AAAE-4B24-B297-6777CD8C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29F38-1CA2-476D-811E-9F5BAF86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89D3F-5E7F-426F-B7FF-4A68C5B3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5728-6D74-480E-AC2A-AE0E40B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5897E-3632-41A1-807F-AF453F2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9FB0-94E8-4AC3-9F5E-CDF4D4AF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7656F-2C5B-4BBB-BB0B-E7AD6C5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41511-65F9-4F32-A574-B055D5B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3A0E-21FE-4812-839A-ACC9EAAFC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5CD6C-3669-4D68-B903-B7997D4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5A8DC-EE26-4EB2-B782-2BC10A4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D2CC9-1548-44C8-999F-730663A0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A934-8251-46D5-8668-864C8638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A0385-785F-4878-8A03-9DE22742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8B83-0DA1-4AB8-A052-E9D19CA61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2339-71A8-4966-B69E-94B40784F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3815-AC2F-479D-906E-D34C36EEB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E920-8D42-4440-A789-276978D9B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6241-0612-4663-88E3-606EE09EA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27EF-674C-417F-84C4-BC35FADEC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4065-913A-4B08-9094-7E0A27CD8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008-EE31-4637-A89A-C103EC2799E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69A9-CE1F-4C03-B109-E79257FEF79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FEF4-899F-43F8-8FCE-D3460042E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312A-E6CB-436C-B8C9-11C8EFBAF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5DA4-CAF1-4D68-9061-A62493789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3711-59E8-4807-9385-AFBE772E2C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E46B-A282-43E8-86EE-5980270A56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DE4F-C908-41EB-9FE6-0159EA627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ECDF-E980-4F34-B438-A647264D5B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3438-00D7-4051-9039-799F61CB05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48CB-BF8F-430A-8934-4AF5762D50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C1BC-6E7E-40DC-B463-BE7D5C8378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F4B0-8A64-4CFA-863B-F2E6112796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9DCD-682B-45BD-91AA-05DC8E95E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BB36-7104-495A-95D4-B912517D55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EB3D-9A45-4154-BA71-F5C86CCAE8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BB40-914E-42F4-ABCE-FDCB9AD68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662A-317B-4691-AB58-1B4007A30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5FA9-0754-4214-B3ED-B53021F27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803E-ADE9-4F4D-9DFF-5598F7B2C8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AE9F-591E-474D-ACAD-74155618C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8F13-4B9F-44B3-B844-49A21D9B4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455B-FDC4-4EF0-9BE0-C71CD18FF2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3T13:44:18Z</dcterms:modified>
  <cp:revision>89</cp:revision>
  <dc:subject/>
  <dc:title>Modelamiento Físico de Interfaces</dc:title>
</cp:coreProperties>
</file>