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D8624-F861-494B-B69F-E42F4A9AB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0C62-6CCF-4C48-94FF-30F3A3150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8F9E-57B8-474F-B214-A4317F62B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3EBB0-FE4A-4176-A025-A20B5C437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1BE88-8474-482D-82B2-367D85A6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C51BF-5763-4419-B6E2-8053081B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D2E25-007C-4FB8-9C88-BDCF6F86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4C8B5-3636-4C14-B791-42BF5E8E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C36CC-8657-42D2-86E8-289BD4FD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40EF6-DABD-494E-A7E8-637D9481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A7E9D-805E-4302-810E-5F55727F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E5F2-9364-4AEC-9A77-02AD5D8F7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3AF35-4B63-4F7C-8531-A8215DFC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9FC50-6809-4521-99AD-1EF3185B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10140-A221-4D13-A709-D3ABF72B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8CE5F-218E-415F-BF50-736EFD29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2D86F-203D-4FF5-A3DE-7558DECE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F5A6F-A95F-4F60-9E7A-B60CBDF56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CB336-87D7-4199-B192-811E735FA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E1C9-C953-4F84-8067-9F602BB85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0AAC2-A221-49F0-B696-4901E6413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8D5B-D7AC-46B3-B423-547009344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1F12-38F5-4B48-809D-EE8BC08E7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6CB3-5A80-44F6-B890-5843D5E2F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622040" y="62737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9057-51AF-47B1-9E33-D01536FFACD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B67D-33C5-4B9B-81C7-B31412D9B15F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5053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Programa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353600" y="5486400"/>
            <a:ext cx="70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Inventario de Producto vs Uso de Mano de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25640" y="1676520"/>
            <a:ext cx="5541840" cy="3735360"/>
            <a:chOff x="1925640" y="1676520"/>
            <a:chExt cx="5541840" cy="37353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1981080" y="1700280"/>
              <a:ext cx="54864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00608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7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276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6160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9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99400" y="5135400"/>
              <a:ext cx="567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32080" y="16765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44680" y="23623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2080" y="308628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4680" y="380988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44680" y="45259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981360" y="3323160"/>
              <a:ext cx="2378160" cy="48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(cientos de horas hombr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F8D0-51D9-4821-93B7-B7D5F0A0C1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 que es posible reducir el inventario de producto en proceso en un 10% mientras que el uso de la mano de obra disminuye sólo en un 1%, ¿vale la pena la compensac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inventario de producto en proceso es 2 millones de dóla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200 personas que cuestan 5 dólares la h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esta 20 centavos mantener 1 dólar de inventario durante un a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6A6E1-1F66-45DD-8A2E-64DB2DC864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pues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de disminuir el uso de la mano de obra = 0.01·200·40·52·$5 = $20,8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horro anual de inventario =              0.1·20·$2,000,000 = $40,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o el ahorro de inventario es mayor que el costo debido a la reducción de mano de obra, vale la pena reducir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88DE7-21ED-4520-9281-FE1EDD06E2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431800" y="586728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Relación entre Entradas -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87680" y="1574640"/>
            <a:ext cx="4118040" cy="4234320"/>
            <a:chOff x="2587680" y="1574640"/>
            <a:chExt cx="4118040" cy="423432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627280" y="1574640"/>
              <a:ext cx="4078440" cy="42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496680" y="5562720"/>
              <a:ext cx="2806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Nivel de inventarios de producto en 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1917000" y="3363480"/>
              <a:ext cx="17398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 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o velocidad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29840" y="3429000"/>
              <a:ext cx="1642320" cy="246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locidad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14960" y="1600200"/>
              <a:ext cx="1736640" cy="398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 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me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04400" y="1600200"/>
              <a:ext cx="1073880" cy="55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ariación en 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6646C-8CF2-4066-BF0E-F7084BE040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o un conjunto de trabajos que pasan por distintas máquinas, ¿cómo cargar el sistem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t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s los trabajos enviados al comienzo de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ábrica text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nám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trabajos siguen llegando durante e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 garage, 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97EC-CB00-4E0F-B242-FE62CC06F6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es de operación de cada máqui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prometidos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oridades de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 a futu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n cargando hacia delante los trabajos y se ve si se cumplen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puede usar capacidad infinita para ver la capacidad necesaria o imponer la capacidad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ja: se carga bien al comien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entaja: no asegura bien cumplir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664D-1730-40F7-B916-9863E70B12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 retrospec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r con las fechas de vencimiento y retroceder hasta el tiempo actu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ja: asegura el cumplimiento de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entaja: puede cargar mal al comien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enta problemas sobre todo en el caso dinám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 proyectos y 3 máqui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ías de 8 ho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movimiento/espera de 8 ho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EAA6-6010-4622-BDE5-BC5BD0EA0C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cargar las máquinas con trabajos de manera de cumplir los plazos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813320" y="297180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atos de Proyectos par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4114800" cy="16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F7D0-BC01-4CBF-AF7F-05A8256BAB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234440" y="190512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íneas de Tiempo para la Carga a Futu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905120" y="2514600"/>
            <a:ext cx="6276600" cy="2903400"/>
            <a:chOff x="1905120" y="2514600"/>
            <a:chExt cx="6276600" cy="290340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1905120" y="2774880"/>
              <a:ext cx="579744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740560" y="40258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133720" y="3429000"/>
              <a:ext cx="5562360" cy="685800"/>
              <a:chOff x="2133720" y="3429000"/>
              <a:chExt cx="5562360" cy="685800"/>
            </a:xfrm>
          </p:grpSpPr>
          <p:sp>
            <p:nvSpPr>
              <p:cNvPr id="167" name=""/>
              <p:cNvSpPr/>
              <p:nvPr/>
            </p:nvSpPr>
            <p:spPr>
              <a:xfrm>
                <a:off x="2133720" y="3429000"/>
                <a:ext cx="55623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133720" y="3505320"/>
                <a:ext cx="5409720" cy="534960"/>
                <a:chOff x="2133720" y="3505320"/>
                <a:chExt cx="5409720" cy="534960"/>
              </a:xfrm>
            </p:grpSpPr>
            <p:sp>
              <p:nvSpPr>
                <p:cNvPr id="169" name=""/>
                <p:cNvSpPr/>
                <p:nvPr/>
              </p:nvSpPr>
              <p:spPr>
                <a:xfrm rot="5400000">
                  <a:off x="2705040" y="29336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5400000">
                  <a:off x="4076640" y="29336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5400000">
                  <a:off x="5524200" y="29336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5400000">
                  <a:off x="6895800" y="29336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511000" y="35942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864960" y="35942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25480" y="3606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684480" y="36162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677040" y="379404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6477120" y="31622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45320" y="3009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450864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32720" y="4368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057400" y="4724280"/>
              <a:ext cx="5715000" cy="687600"/>
              <a:chOff x="2057400" y="4724280"/>
              <a:chExt cx="5715000" cy="687600"/>
            </a:xfrm>
          </p:grpSpPr>
          <p:sp>
            <p:nvSpPr>
              <p:cNvPr id="183" name=""/>
              <p:cNvSpPr/>
              <p:nvPr/>
            </p:nvSpPr>
            <p:spPr>
              <a:xfrm>
                <a:off x="2057400" y="472428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2133720" y="4876920"/>
                <a:ext cx="5409720" cy="534960"/>
                <a:chOff x="2133720" y="4876920"/>
                <a:chExt cx="5409720" cy="534960"/>
              </a:xfrm>
            </p:grpSpPr>
            <p:sp>
              <p:nvSpPr>
                <p:cNvPr id="185" name=""/>
                <p:cNvSpPr/>
                <p:nvPr/>
              </p:nvSpPr>
              <p:spPr>
                <a:xfrm rot="5400000">
                  <a:off x="2705040" y="43052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5400000">
                  <a:off x="4076640" y="43052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5400000">
                  <a:off x="5524200" y="43052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5400000">
                  <a:off x="6895800" y="43052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511000" y="4965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864960" y="4965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325480" y="49784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684480" y="49878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677040" y="516564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1994760" y="27273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50080" y="27273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0836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4800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3256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5004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81800" y="40989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10680" y="411480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25840" y="41148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30720" y="41148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20080" y="251460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3D93D-FD61-4400-ABC4-8167DC25CC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76520" y="1420920"/>
            <a:ext cx="6629400" cy="4687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861560" y="6019920"/>
            <a:ext cx="518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dicación: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Partir en A con proyecto 5 en vez de proyecto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057400" y="5359320"/>
            <a:ext cx="5715000" cy="687600"/>
            <a:chOff x="2057400" y="5359320"/>
            <a:chExt cx="5715000" cy="687600"/>
          </a:xfrm>
        </p:grpSpPr>
        <p:sp>
          <p:nvSpPr>
            <p:cNvPr id="209" name=""/>
            <p:cNvSpPr/>
            <p:nvPr/>
          </p:nvSpPr>
          <p:spPr>
            <a:xfrm>
              <a:off x="2057400" y="5359320"/>
              <a:ext cx="5715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133720" y="5511960"/>
              <a:ext cx="5409720" cy="534960"/>
              <a:chOff x="2133720" y="5511960"/>
              <a:chExt cx="5409720" cy="534960"/>
            </a:xfrm>
          </p:grpSpPr>
          <p:sp>
            <p:nvSpPr>
              <p:cNvPr id="211" name=""/>
              <p:cNvSpPr/>
              <p:nvPr/>
            </p:nvSpPr>
            <p:spPr>
              <a:xfrm rot="5400000">
                <a:off x="2705040" y="4940280"/>
                <a:ext cx="75960" cy="121896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400000">
                <a:off x="4076640" y="4940280"/>
                <a:ext cx="75960" cy="121896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5524200" y="4940280"/>
                <a:ext cx="75960" cy="121932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400000">
                <a:off x="6895800" y="4940280"/>
                <a:ext cx="75960" cy="121932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11000" y="56008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64960" y="56008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25480" y="56134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684480" y="562284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77040" y="580068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"/>
          <p:cNvSpPr/>
          <p:nvPr/>
        </p:nvSpPr>
        <p:spPr>
          <a:xfrm>
            <a:off x="4317840" y="1432080"/>
            <a:ext cx="324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56600" y="1397160"/>
            <a:ext cx="6242040" cy="3809520"/>
            <a:chOff x="1956600" y="1397160"/>
            <a:chExt cx="6242040" cy="3809520"/>
          </a:xfrm>
        </p:grpSpPr>
        <p:grpSp>
          <p:nvGrpSpPr>
            <p:cNvPr id="222" name=""/>
            <p:cNvGrpSpPr/>
            <p:nvPr/>
          </p:nvGrpSpPr>
          <p:grpSpPr>
            <a:xfrm>
              <a:off x="2057400" y="2158920"/>
              <a:ext cx="5715000" cy="687600"/>
              <a:chOff x="2057400" y="2158920"/>
              <a:chExt cx="5715000" cy="687600"/>
            </a:xfrm>
          </p:grpSpPr>
          <p:sp>
            <p:nvSpPr>
              <p:cNvPr id="223" name=""/>
              <p:cNvSpPr/>
              <p:nvPr/>
            </p:nvSpPr>
            <p:spPr>
              <a:xfrm>
                <a:off x="2057400" y="215892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2133720" y="2311560"/>
                <a:ext cx="5409720" cy="534960"/>
                <a:chOff x="2133720" y="2311560"/>
                <a:chExt cx="5409720" cy="534960"/>
              </a:xfrm>
            </p:grpSpPr>
            <p:sp>
              <p:nvSpPr>
                <p:cNvPr id="225" name=""/>
                <p:cNvSpPr/>
                <p:nvPr/>
              </p:nvSpPr>
              <p:spPr>
                <a:xfrm rot="5400000">
                  <a:off x="2705040" y="173988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5400000">
                  <a:off x="4076640" y="173988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5400000">
                  <a:off x="5524200" y="173988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5400000">
                  <a:off x="6895800" y="173988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511000" y="24004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64960" y="24004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25480" y="24130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684480" y="24224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677040" y="260028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2057400" y="3606840"/>
              <a:ext cx="5715000" cy="687600"/>
              <a:chOff x="2057400" y="3606840"/>
              <a:chExt cx="5715000" cy="687600"/>
            </a:xfrm>
          </p:grpSpPr>
          <p:sp>
            <p:nvSpPr>
              <p:cNvPr id="235" name=""/>
              <p:cNvSpPr/>
              <p:nvPr/>
            </p:nvSpPr>
            <p:spPr>
              <a:xfrm>
                <a:off x="2057400" y="360684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2133720" y="3759480"/>
                <a:ext cx="5409720" cy="534960"/>
                <a:chOff x="2133720" y="3759480"/>
                <a:chExt cx="5409720" cy="534960"/>
              </a:xfrm>
            </p:grpSpPr>
            <p:sp>
              <p:nvSpPr>
                <p:cNvPr id="237" name=""/>
                <p:cNvSpPr/>
                <p:nvPr/>
              </p:nvSpPr>
              <p:spPr>
                <a:xfrm rot="5400000">
                  <a:off x="2705040" y="318780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5400000">
                  <a:off x="4076640" y="318780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5400000">
                  <a:off x="5524200" y="318780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5400000">
                  <a:off x="6895800" y="318780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11000" y="38484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64960" y="38484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325480" y="38610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684480" y="387036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677040" y="404820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>
              <a:off x="6045120" y="18921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6720" y="5067360"/>
              <a:ext cx="24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44800" y="33148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7400" y="5054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031840" y="4876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044800" y="3174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34240" y="4901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632720" y="1739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95680" y="139716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89280" y="256212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50680" y="425124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56600" y="144792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89760" y="144792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3696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1500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360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96200" y="2895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56080" y="287964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0364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6272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1040" y="287964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61160" y="4632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75560" y="4632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72000" y="46483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91520" y="2933640"/>
              <a:ext cx="685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32240" y="4632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4380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1022F-B610-4374-B145-2651B1C28C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a las decisiones concre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cisiones detalladas, complejas y con muchas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ben ser consistentes con el nivel tác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grar que la capacidad disponible se use en forma efectiva y efic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ir equipos y personal entre distintos trabajos y activ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7604-317B-4C9B-B44D-4F546AA3B5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2812680" y="502920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s de Carga a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46040" y="2590920"/>
            <a:ext cx="6426360" cy="2171520"/>
            <a:chOff x="1346040" y="2590920"/>
            <a:chExt cx="6426360" cy="217152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1346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3632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5918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BB49-23CF-48DC-B7F7-DBB30A7B2C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457720" y="502920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Nivela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47920" y="2590920"/>
            <a:ext cx="6476400" cy="2171520"/>
            <a:chOff x="1447920" y="2590920"/>
            <a:chExt cx="6476400" cy="217152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1447920" y="2590920"/>
              <a:ext cx="22046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719680" y="2590920"/>
              <a:ext cx="22046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373356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57EED-D4E1-4C0D-B526-2C1796AFEB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803240" y="5486400"/>
            <a:ext cx="67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íneas de Tiempo para la Carga Ret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1812960"/>
            <a:ext cx="7191360" cy="3368520"/>
            <a:chOff x="1447920" y="1812960"/>
            <a:chExt cx="7191360" cy="336852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1447920" y="1839960"/>
              <a:ext cx="7191360" cy="33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460520" y="4267080"/>
              <a:ext cx="7086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555560" y="4470480"/>
              <a:ext cx="6706800" cy="630360"/>
              <a:chOff x="1555560" y="4470480"/>
              <a:chExt cx="6706800" cy="63036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260440" y="37652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3960720" y="37652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400000">
                <a:off x="5756040" y="37652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5400000">
                <a:off x="7456320" y="37652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25720" y="45885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702600" y="45885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14120" y="46054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97840" y="46180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82280" y="485460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511280" y="2654280"/>
              <a:ext cx="7086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606320" y="2857680"/>
              <a:ext cx="6706800" cy="630360"/>
              <a:chOff x="1606320" y="2857680"/>
              <a:chExt cx="6706800" cy="630360"/>
            </a:xfrm>
          </p:grpSpPr>
          <p:sp>
            <p:nvSpPr>
              <p:cNvPr id="302" name=""/>
              <p:cNvSpPr/>
              <p:nvPr/>
            </p:nvSpPr>
            <p:spPr>
              <a:xfrm rot="5400000">
                <a:off x="2311200" y="21524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4011480" y="21524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400000">
                <a:off x="5806800" y="21524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400000">
                <a:off x="7507080" y="21524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76480" y="29757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53360" y="29757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64880" y="29926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48600" y="30052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533040" y="324180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67720" y="1812960"/>
              <a:ext cx="1473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 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14880" y="3489480"/>
              <a:ext cx="1473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 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8457-5FAA-4829-938B-C14E8FD019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2610000" y="49528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s de Carga Ret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905120" y="2590920"/>
            <a:ext cx="5968800" cy="2171520"/>
            <a:chOff x="1905120" y="2590920"/>
            <a:chExt cx="5968800" cy="21715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190512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393696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01992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CD6E-2130-48A7-85AD-E1CDB597CD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3416760" y="5730840"/>
            <a:ext cx="252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 de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Secuencia 1, 4, 5, 2,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06880" y="5410080"/>
            <a:ext cx="45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Nota: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Los tiempos de movimiento se han elimin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6000" y="1371600"/>
            <a:ext cx="4876920" cy="4038480"/>
            <a:chOff x="2286000" y="1371600"/>
            <a:chExt cx="4876920" cy="403848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2286000" y="1371600"/>
              <a:ext cx="487692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2919960" y="1782720"/>
              <a:ext cx="39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40120" y="2439000"/>
              <a:ext cx="39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40120" y="3085920"/>
              <a:ext cx="39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1498D-73DF-4E05-A076-36AAE0CD62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de 1 Máqui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: número de trabaj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requerido por el trabajo 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iempo total corresponde a la suma de los tiempos requeridos por los trabajos, independiente del orden de é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quiere minimizar el tiempo medio de espera conviene ordenar los trabajos de menor a mayor tiemp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95B22-DBE8-4EF1-B4C8-4E5C74B594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ostr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033640" y="2205000"/>
                <a:ext cx="5802120" cy="382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rPr>
                            <m:lit/>
                            <m:nor/>
                          </m:rPr>
                          <m:t xml:space="preserve">cliente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rPr>
                            <m:lit/>
                            <m:nor/>
                          </m:rPr>
                          <m:t xml:space="preserve">cliente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rPr>
                            <m:lit/>
                            <m:nor/>
                          </m:rPr>
                          <m:t xml:space="preserve">cliente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medi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onde z se minimiza con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rPr>
                            <m:lit/>
                            <m:nor/>
                          </m:rPr>
                          <m:t xml:space="preserve">corresponde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rPr>
                            <m:lit/>
                            <m:nor/>
                          </m:rPr>
                          <m:t xml:space="preserve">regla</m:t>
                        </m:r>
                        <m:r>
                          <m:rPr>
                            <m:lit/>
                            <m:nor/>
                          </m:rPr>
                          <m:t xml:space="preserve">propuest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5158-ACC9-4719-8BBC-C46F1781B3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de 2  Máquin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trabajos pasan por las dos máquinas en la misma secu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su secuenciamiento se utiliza la regla de la mano izquierda - mano derech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mar los proyectos más cortos en la máquina 1 y ubicarlos prim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mar los proyectos más cortos en la máquina 2 y ubicarlos al fi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90E3-D986-413D-96E4-09E089F138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143000" y="2147760"/>
            <a:ext cx="7323120" cy="34909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2187360" y="5638680"/>
            <a:ext cx="51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ecuenciamiento de Dos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09680" y="3657600"/>
            <a:ext cx="245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09680" y="2857680"/>
            <a:ext cx="245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1BE2-B0B9-4370-96A4-63C0AFE1AA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menor es para la tarea A en la máquina 2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 al fi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uego el menor tiempo es para C en la máquina 2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 al final, antes de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uego el menor tiempo es para B en la máquina 1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 al princip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uego el menor tiempo es para E en la máquina 1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 al comienzo, después de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inalmente D se ubica entre E y 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B9DB-46D2-4B23-A50F-EF210993506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sultados esp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ena utilización de equipos y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jo nive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en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imización de co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semanal en fáb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gnaciones médicas en hos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de cam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522C4-1C5E-459A-9FAD-BC339FD331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Gener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muy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n modelos matemáticos y heu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de ejec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orida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las máqui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53F5-3B34-47C4-990E-17C82F9CB2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as cajas de peaje son necesarias en un día de demanda al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auto demora en caja 30 segun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una estadística de la llegada de autos por minu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3C45D-66BB-4952-9D9F-5A5F0F11A8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743280" y="2743200"/>
            <a:ext cx="1819440" cy="2286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105200" y="205740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legadas por minu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2D006-818E-40FD-B487-316E58CE30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rueba con un número de cajas (n) igual a 1, 2, 3, 4, 5, 6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el número de cajas mínimo tal que no más del 3% de los autos espere más de 2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por incrementos de tiemp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hora cero las cajas (3 por ejemplo) se suponen vací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saber cuántas llegadas ocurren en el primer minuto se saca un número aleatorio proporcional a la frecu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1072-EA96-487A-B2B2-EC8D9F730D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525840" y="1955880"/>
            <a:ext cx="2928600" cy="3072960"/>
            <a:chOff x="3525840" y="1955880"/>
            <a:chExt cx="2928600" cy="307296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tretch/>
          </p:blipFill>
          <p:spPr>
            <a:xfrm>
              <a:off x="3525840" y="2384280"/>
              <a:ext cx="272268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4644720" y="1955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94760" y="21207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80840" y="22352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39560" y="2647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71480" y="3301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50640" y="458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8920" y="2286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792080" y="5715000"/>
            <a:ext cx="60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roporciones Asociadas a las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rot="10623000">
            <a:off x="5076000" y="3068640"/>
            <a:ext cx="1675440" cy="19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4" y="0"/>
                </a:moveTo>
                <a:arcTo wR="10800" hR="10800" stAng="-5385938" swAng="5385938"/>
                <a:lnTo>
                  <a:pt x="10800" y="10800"/>
                </a:lnTo>
                <a:close/>
              </a:path>
              <a:path fill="none" w="21600" h="21600">
                <a:moveTo>
                  <a:pt x="10844" y="0"/>
                </a:moveTo>
                <a:arcTo wR="10800" hR="10800" stAng="-5385938" swAng="5385938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71120" y="502812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40A0-11B9-43CF-A182-60EFCAEC102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475000" y="2643120"/>
            <a:ext cx="4459320" cy="2766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157760" y="182880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Hist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F4B86-24E7-4331-ABD0-8953D198E4E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verificar cuánto espera cada auto utilizando regla FIF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vez hecha la simulación para n, se repite para n+1, n+2,..., etc.  Se ven las  estadísticas para cada valor y se elige el número de cajas más adecu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hora la pregunta que surge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s minutos se debe experimentar según la confiabilidad del resulta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8DCED-8CBB-46AD-B460-979B269F0EF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tención de números aleatorios de una distribución F(x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U[0,1]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409760" y="2721240"/>
            <a:ext cx="7833240" cy="3356280"/>
            <a:chOff x="1409760" y="2721240"/>
            <a:chExt cx="7833240" cy="3356280"/>
          </a:xfrm>
        </p:grpSpPr>
        <p:sp>
          <p:nvSpPr>
            <p:cNvPr id="372" name=""/>
            <p:cNvSpPr/>
            <p:nvPr/>
          </p:nvSpPr>
          <p:spPr>
            <a:xfrm flipV="1">
              <a:off x="2628720" y="28188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28720" y="533376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409760" y="3352320"/>
              <a:ext cx="243756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66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6692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10718400">
              <a:off x="3685320" y="3777480"/>
              <a:ext cx="5531760" cy="22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672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6728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38600" y="38098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628360" y="377172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88600" y="50886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24160" y="42660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924000" y="44956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628720" y="44956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70080" y="360000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00880" y="2721240"/>
              <a:ext cx="67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853080" y="54219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42E76-3D22-41E4-9CF8-B2723A9AF4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próximo even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go tres equipos en serie (falla uno y se para la producció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abilidades de falla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, i = 1..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de reparación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i = 1..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gun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porcentaje del tiempo está parado el sistem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t = 0 se parte generando tiempos de falla de cada máquina (independientes):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74DA-BFEF-4AAD-A72B-52DD88A9838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3809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l sistema esta sin funcio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se generan próximas fallas del equipo 1. De igual manera para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(0,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 la proporción del tiempo con el sistema sin funcionar 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27432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7598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9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52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864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9343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5376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3172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364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33000" y="2787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42080" y="272628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32400" y="277056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55880" y="277056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804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0456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820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267080" y="5373720"/>
                <a:ext cx="13716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042C-C602-4825-82CE-854DE3BCE80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en Lín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gu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tienen diversos productos, ¿qué se produce en cada moment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nto cla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prepar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producción clásica los altos tiempos de preparación determinan mayores lot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los sistemas de manufactura flexible (FMS) los menores tiempos de preparación se traducen en lotes más ch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0462-2732-4BA1-A079-7E908DA912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rogramación de camiones forestales ASIC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n 10 orígenes en el bosque y 5 destinos (plantas de celulosa, puertos, aserraderos, etc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carga y descarga de 20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viaje entre el origen i y el destino j es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0 cam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3CE2-6080-4640-84B3-6876BD53DFA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6 AM, llegan 10 camiones a los 10 orígenes y carg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6:20 AM parten a sus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 10 camiones empiezan a ser cargados en los orígenes a las 6: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ón 1 parte a las 6:20 AM y llega a las 8:45 AM a la planta de celulo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9:45 AM está descargado y parte en un nuevo viaje (reglas heurísticas para ver qué viaje le convien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í se le sigue la pista a cada cam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al llegar a un origen o destino hay algún camión siendo atendido, se hace co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AF07-2134-41FC-A3E3-BAA2E2A540B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avanza en el día a través de los via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lleva estadística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dera que se transpor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miones usados y tiempo de trabaj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s de espera en co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s de viaje cargado y descarg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fí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as reglas de asignación de viajes que permitan programar viajes y diseñar flo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C0316-D482-4596-9DDA-F534D047530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en Lín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ómo secuenciar produc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medio del tiempo de agotamiento (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rograman primero los productos con menor tiempo de agotamiento (menor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81080" y="3048120"/>
                <a:ext cx="43182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ventario</m:t>
                        </m:r>
                        <m:r>
                          <m:rPr>
                            <m:lit/>
                            <m:nor/>
                          </m:rPr>
                          <m:t xml:space="preserve">producto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manda</m:t>
                        </m:r>
                        <m:r>
                          <m:rPr>
                            <m:lit/>
                            <m:nor/>
                          </m:rPr>
                          <m:t xml:space="preserve">producto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F87E-684D-43B1-8304-A7C403A748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Intermit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barca talleres, imprentas, garages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proyectos o clientes esperan en una línea conforme cada unidad se transfiere de un centro de trabajo hasta el sigu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forma una cola de inventario de producto en proceso en cada centro de trabajo existiendo tiempos de espera para conseguir la disponibilidad de las instal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lo tanto, puede pensarse en el problema de programación intermitente como una red de co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D5441-02BA-4148-A6C1-72336657BA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ósi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la relación que existe entre las entradas y salidas de un centro de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ntidad de trabajos que llegan 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entro por unidad de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trabajos en proceso que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y en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locidad con que se terminan los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os en un cen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0C6B-6F5C-4D8D-9CD0-1CF9D202F2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locidad de producción máx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es que presentan cuellos de botel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os crí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apacidad no es clara para sistemas complej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F41D-8153-411A-A24C-B8F0268299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716560" y="548640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álculos de Entradas -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05120" y="2057400"/>
            <a:ext cx="6324480" cy="3046320"/>
            <a:chOff x="1905120" y="2057400"/>
            <a:chExt cx="6324480" cy="30463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965240" y="2124000"/>
              <a:ext cx="5959440" cy="29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62520" y="2857680"/>
              <a:ext cx="2133360" cy="1066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roducto en proceso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2 mill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05120" y="2057400"/>
              <a:ext cx="18288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ntr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100.000/se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0800" y="4038480"/>
              <a:ext cx="18288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Sal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100.000/se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0200" y="4508640"/>
              <a:ext cx="530280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ahoma"/>
                </a:rPr>
                <a:t>Tiempo de procesamiento del producto = $2.000.000/$100.000 = 20 semanas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4724280"/>
              <a:ext cx="51055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F658-AF7A-477F-9ED1-E8294896EE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19:54:17Z</dcterms:created>
  <dc:creator>Antoine Sauré Valenzuela</dc:creator>
  <dc:description/>
  <dc:language>en-US</dc:language>
  <cp:lastModifiedBy>.................</cp:lastModifiedBy>
  <cp:lastPrinted>2001-08-10T01:13:48Z</cp:lastPrinted>
  <dcterms:modified xsi:type="dcterms:W3CDTF">2008-09-02T23:00:43Z</dcterms:modified>
  <cp:revision>16</cp:revision>
  <dc:subject/>
  <dc:title>Gestión de Operaciones</dc:title>
</cp:coreProperties>
</file>