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4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14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AE16F-8C7F-495D-B270-74B871DD9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FD0AA-01E4-4453-AED9-7965AD0A1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6683A-23B0-4F59-BBA2-131102475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8271D-6E0F-4D67-B725-D993BCEF0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AF0B8-0229-404A-A3CA-8E4A67CC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321BD-0198-461F-9007-7EC86AFC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EC6F3-FFB4-4EB7-83A4-3E8D8399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56E0B-0E52-488E-AAFF-0FEFFC38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CC213-688B-4E01-83B3-A6DE8471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383BC-4432-449C-BC5E-33A25A58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429FD-281A-4EDD-AB5B-63783E18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FDC7E-2C46-475D-8B2D-072F48082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4FC84-46DA-45DD-8E28-FBFF07CB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00313-E6DD-4FC2-8AA5-FD4769D9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969B8-4660-4E92-A2B7-17EC65D5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59166-E01A-4F06-A30F-493ACB4A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91CCF-AF09-4E8F-83A4-7B958805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9E9C0-0E59-4BAD-B4B0-8F2090BBF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41A9D-BA3B-4BD5-83D8-82AE4D60F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E7BF4-3340-4545-B6D7-FD262897B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EC41C-7778-405B-BF45-B7E7FCA4A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0BA24-E45C-4CAF-AB06-A47AF1FEA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AC823-D4F9-40C4-9126-93EBF1DC1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696B1-5526-4879-957C-350282AAA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622040" y="62737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D0EE-76E9-4A9D-B2BE-85A0AE59634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9F09-CC72-445B-BE23-FDDA408641F4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5053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: Programación de Ope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353600" y="5486400"/>
            <a:ext cx="70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Inventario de Producto vs Uso de Mano de O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25640" y="1676520"/>
            <a:ext cx="5541840" cy="3735360"/>
            <a:chOff x="1925640" y="1676520"/>
            <a:chExt cx="5541840" cy="373536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1981080" y="1700280"/>
              <a:ext cx="54864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006080" y="5135400"/>
              <a:ext cx="480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7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72760" y="5135400"/>
              <a:ext cx="480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8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61600" y="5135400"/>
              <a:ext cx="480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9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99400" y="5135400"/>
              <a:ext cx="567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32080" y="167652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44680" y="236232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32080" y="308628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4680" y="380988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44680" y="452592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981360" y="3323160"/>
              <a:ext cx="2378160" cy="48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de producto en proce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(cientos de horas hombr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74798-8F36-434A-9E9D-9907B15853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onga que es posible reducir el inventario de producto en proceso en un 10% mientras que el uso de la mano de obra disminuye sólo en un 1%, ¿vale la pena la compensació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inventario de producto en proceso es 2 millones de dóla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tilizan 200 personas que cuestan 5 dólares la h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esta 20 centavos mantener 1 dólar de inventario durante un añ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A0C8B-8471-42D8-9B6B-52605783F7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pues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 de disminuir el uso de la mano de obra = 0.01·200·40·52·$5 = $20,8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horro anual de inventario =              0.1·20·$2,000,000 = $40,0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o el ahorro de inventario es mayor que el costo debido a la reducción de mano de obra, vale la pena reducir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C6D60-D7AD-4F81-97B6-725C59933B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431800" y="5867280"/>
            <a:ext cx="48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Relación entre Entradas - Sa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587680" y="1574640"/>
            <a:ext cx="4118040" cy="4234320"/>
            <a:chOff x="2587680" y="1574640"/>
            <a:chExt cx="4118040" cy="423432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2627280" y="1574640"/>
              <a:ext cx="4078440" cy="421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496680" y="5562720"/>
              <a:ext cx="28065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Nivel de inventarios de producto en proces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1917000" y="3363480"/>
              <a:ext cx="17398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iempo de proces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o velocidad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29840" y="3429000"/>
              <a:ext cx="1642320" cy="246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locidad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14960" y="1600200"/>
              <a:ext cx="1736640" cy="398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iempo de proces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rome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04400" y="1600200"/>
              <a:ext cx="1073880" cy="550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ariación en 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iempo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roces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AFC32-897E-4F38-BB86-5322CC9C25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do un conjunto de trabajos que pasan por distintas máquinas, ¿cómo cargar el sistem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át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dos los trabajos enviados al comienzo del d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fábrica text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nám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trabajos siguen llegando durante el d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 garage, impr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0A0F2-0108-4A5F-9352-D9530F49AE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pacidades de operación de cada máqui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prometidos de entr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oridades de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ga a futu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van cargando hacia delante los trabajos y se ve si se cumplen los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puede usar capacidad infinita para ver la capacidad necesaria o imponer la capacidad exist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ja: se carga bien al comien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ventaja: no asegura bien cumplir los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0DFC2-301C-4767-8AFF-EF722BC248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ga retrospectiv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r con las fechas de vencimiento y retroceder hasta el tiempo actu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ja: asegura el cumplimiento de los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ventaja: puede cargar mal al comien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enta problemas sobre todo en el caso dinám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 proyectos y 3 máquin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ías de 8 ho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s movimiento/espera de 8 ho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4CA9B-938D-4601-A5FC-6E0C83DA01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cargar las máquinas con trabajos de manera de cumplir los plazos de entr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813320" y="297180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Datos de Proyectos par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895480" y="3886200"/>
            <a:ext cx="4114800" cy="168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D8E1C-CAA7-479D-A5E9-EB64A9E9D9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234440" y="1905120"/>
            <a:ext cx="60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íneas de Tiempo para la Carga a Futu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905120" y="2514600"/>
            <a:ext cx="6276600" cy="2903400"/>
            <a:chOff x="1905120" y="2514600"/>
            <a:chExt cx="6276600" cy="290340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1905120" y="2774880"/>
              <a:ext cx="579744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740560" y="40258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133720" y="3429000"/>
              <a:ext cx="5562360" cy="685800"/>
              <a:chOff x="2133720" y="3429000"/>
              <a:chExt cx="5562360" cy="685800"/>
            </a:xfrm>
          </p:grpSpPr>
          <p:sp>
            <p:nvSpPr>
              <p:cNvPr id="167" name=""/>
              <p:cNvSpPr/>
              <p:nvPr/>
            </p:nvSpPr>
            <p:spPr>
              <a:xfrm>
                <a:off x="2133720" y="3429000"/>
                <a:ext cx="556236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133720" y="3505320"/>
                <a:ext cx="5409720" cy="534960"/>
                <a:chOff x="2133720" y="3505320"/>
                <a:chExt cx="5409720" cy="534960"/>
              </a:xfrm>
            </p:grpSpPr>
            <p:sp>
              <p:nvSpPr>
                <p:cNvPr id="169" name=""/>
                <p:cNvSpPr/>
                <p:nvPr/>
              </p:nvSpPr>
              <p:spPr>
                <a:xfrm rot="5400000">
                  <a:off x="2705040" y="29336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5400000">
                  <a:off x="4076640" y="29336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5400000">
                  <a:off x="5524200" y="29336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5400000">
                  <a:off x="6895800" y="29336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511000" y="35942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864960" y="35942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325480" y="36068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684480" y="36162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677040" y="379404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8" name=""/>
            <p:cNvSpPr/>
            <p:nvPr/>
          </p:nvSpPr>
          <p:spPr>
            <a:xfrm>
              <a:off x="6477120" y="31622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45320" y="3009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450864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32720" y="43689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057400" y="4724280"/>
              <a:ext cx="5715000" cy="687600"/>
              <a:chOff x="2057400" y="4724280"/>
              <a:chExt cx="5715000" cy="687600"/>
            </a:xfrm>
          </p:grpSpPr>
          <p:sp>
            <p:nvSpPr>
              <p:cNvPr id="183" name=""/>
              <p:cNvSpPr/>
              <p:nvPr/>
            </p:nvSpPr>
            <p:spPr>
              <a:xfrm>
                <a:off x="2057400" y="4724280"/>
                <a:ext cx="5715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2133720" y="4876920"/>
                <a:ext cx="5409720" cy="534960"/>
                <a:chOff x="2133720" y="4876920"/>
                <a:chExt cx="5409720" cy="534960"/>
              </a:xfrm>
            </p:grpSpPr>
            <p:sp>
              <p:nvSpPr>
                <p:cNvPr id="185" name=""/>
                <p:cNvSpPr/>
                <p:nvPr/>
              </p:nvSpPr>
              <p:spPr>
                <a:xfrm rot="5400000">
                  <a:off x="2705040" y="43052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5400000">
                  <a:off x="4076640" y="43052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5400000">
                  <a:off x="5524200" y="43052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5400000">
                  <a:off x="6895800" y="43052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511000" y="49658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864960" y="49658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325480" y="49784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684480" y="49878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677040" y="516564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1994760" y="272736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50080" y="272736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0836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4800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3256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5004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81800" y="409896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10680" y="411480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25840" y="41148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30720" y="41148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20080" y="251460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4DA5-7174-44FF-86C4-7080FEDA5C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76520" y="1420920"/>
            <a:ext cx="6629400" cy="4687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861560" y="6019920"/>
            <a:ext cx="518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dicación: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Partir en A con proyecto 5 en vez de proyecto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057400" y="5359320"/>
            <a:ext cx="5715000" cy="687600"/>
            <a:chOff x="2057400" y="5359320"/>
            <a:chExt cx="5715000" cy="687600"/>
          </a:xfrm>
        </p:grpSpPr>
        <p:sp>
          <p:nvSpPr>
            <p:cNvPr id="209" name=""/>
            <p:cNvSpPr/>
            <p:nvPr/>
          </p:nvSpPr>
          <p:spPr>
            <a:xfrm>
              <a:off x="2057400" y="5359320"/>
              <a:ext cx="5715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133720" y="5511960"/>
              <a:ext cx="5409720" cy="534960"/>
              <a:chOff x="2133720" y="5511960"/>
              <a:chExt cx="5409720" cy="534960"/>
            </a:xfrm>
          </p:grpSpPr>
          <p:sp>
            <p:nvSpPr>
              <p:cNvPr id="211" name=""/>
              <p:cNvSpPr/>
              <p:nvPr/>
            </p:nvSpPr>
            <p:spPr>
              <a:xfrm rot="5400000">
                <a:off x="2705040" y="4940280"/>
                <a:ext cx="75960" cy="121896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400000">
                <a:off x="4076640" y="4940280"/>
                <a:ext cx="75960" cy="121896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400000">
                <a:off x="5524200" y="4940280"/>
                <a:ext cx="75960" cy="121932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9320"/>
                  <a:gd name="textAreaBottom" fmla="*/ 1187640 h 121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5400000">
                <a:off x="6895800" y="4940280"/>
                <a:ext cx="75960" cy="121932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9320"/>
                  <a:gd name="textAreaBottom" fmla="*/ 1187640 h 121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511000" y="56008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64960" y="56008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25480" y="56134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684480" y="562284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677040" y="5800680"/>
                <a:ext cx="224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Línea de tiempo para el proyecto 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"/>
          <p:cNvSpPr/>
          <p:nvPr/>
        </p:nvSpPr>
        <p:spPr>
          <a:xfrm>
            <a:off x="4317840" y="1432080"/>
            <a:ext cx="324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956600" y="1397160"/>
            <a:ext cx="6242040" cy="3809520"/>
            <a:chOff x="1956600" y="1397160"/>
            <a:chExt cx="6242040" cy="3809520"/>
          </a:xfrm>
        </p:grpSpPr>
        <p:grpSp>
          <p:nvGrpSpPr>
            <p:cNvPr id="222" name=""/>
            <p:cNvGrpSpPr/>
            <p:nvPr/>
          </p:nvGrpSpPr>
          <p:grpSpPr>
            <a:xfrm>
              <a:off x="2057400" y="2158920"/>
              <a:ext cx="5715000" cy="687600"/>
              <a:chOff x="2057400" y="2158920"/>
              <a:chExt cx="5715000" cy="687600"/>
            </a:xfrm>
          </p:grpSpPr>
          <p:sp>
            <p:nvSpPr>
              <p:cNvPr id="223" name=""/>
              <p:cNvSpPr/>
              <p:nvPr/>
            </p:nvSpPr>
            <p:spPr>
              <a:xfrm>
                <a:off x="2057400" y="2158920"/>
                <a:ext cx="5715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2133720" y="2311560"/>
                <a:ext cx="5409720" cy="534960"/>
                <a:chOff x="2133720" y="2311560"/>
                <a:chExt cx="5409720" cy="534960"/>
              </a:xfrm>
            </p:grpSpPr>
            <p:sp>
              <p:nvSpPr>
                <p:cNvPr id="225" name=""/>
                <p:cNvSpPr/>
                <p:nvPr/>
              </p:nvSpPr>
              <p:spPr>
                <a:xfrm rot="5400000">
                  <a:off x="2705040" y="173988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5400000">
                  <a:off x="4076640" y="173988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5400000">
                  <a:off x="5524200" y="173988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5400000">
                  <a:off x="6895800" y="173988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511000" y="240048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864960" y="240048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325480" y="241308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684480" y="24224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677040" y="260028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4" name=""/>
            <p:cNvGrpSpPr/>
            <p:nvPr/>
          </p:nvGrpSpPr>
          <p:grpSpPr>
            <a:xfrm>
              <a:off x="2057400" y="3606840"/>
              <a:ext cx="5715000" cy="687600"/>
              <a:chOff x="2057400" y="3606840"/>
              <a:chExt cx="5715000" cy="687600"/>
            </a:xfrm>
          </p:grpSpPr>
          <p:sp>
            <p:nvSpPr>
              <p:cNvPr id="235" name=""/>
              <p:cNvSpPr/>
              <p:nvPr/>
            </p:nvSpPr>
            <p:spPr>
              <a:xfrm>
                <a:off x="2057400" y="3606840"/>
                <a:ext cx="5715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2133720" y="3759480"/>
                <a:ext cx="5409720" cy="534960"/>
                <a:chOff x="2133720" y="3759480"/>
                <a:chExt cx="5409720" cy="534960"/>
              </a:xfrm>
            </p:grpSpPr>
            <p:sp>
              <p:nvSpPr>
                <p:cNvPr id="237" name=""/>
                <p:cNvSpPr/>
                <p:nvPr/>
              </p:nvSpPr>
              <p:spPr>
                <a:xfrm rot="5400000">
                  <a:off x="2705040" y="318780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5400000">
                  <a:off x="4076640" y="318780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5400000">
                  <a:off x="5524200" y="318780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5400000">
                  <a:off x="6895800" y="318780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11000" y="38484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864960" y="38484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325480" y="38610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684480" y="387036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677040" y="404820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6" name=""/>
            <p:cNvSpPr/>
            <p:nvPr/>
          </p:nvSpPr>
          <p:spPr>
            <a:xfrm>
              <a:off x="6045120" y="18921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46720" y="5067360"/>
              <a:ext cx="24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44800" y="33148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57400" y="5054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031840" y="4876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044800" y="3174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734240" y="4901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632720" y="1739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95680" y="1397160"/>
              <a:ext cx="909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89280" y="2562120"/>
              <a:ext cx="909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50680" y="4251240"/>
              <a:ext cx="909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56600" y="144792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89760" y="144792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36960" y="14479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15000" y="14479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43600" y="14479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96200" y="289548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56080" y="287964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03640" y="2895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62720" y="2895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61040" y="287964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61160" y="463248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75560" y="463248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72000" y="46483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91520" y="2933640"/>
              <a:ext cx="6858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32240" y="4632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43800" y="2895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99DC7-5789-427D-BD6B-7F7B246D7A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n a las decisiones concre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decisiones detalladas, complejas y con muchas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ben ser consistentes con el nivel tác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grar que la capacidad disponible se use en forma efectiva y efic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ribuir equipos y personal entre distintos trabajos y activ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B65B8-72A3-4464-8274-93CE36DB71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2812680" y="5029200"/>
            <a:ext cx="39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Gráficas de Carga a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346040" y="2590920"/>
            <a:ext cx="6426360" cy="2171520"/>
            <a:chOff x="1346040" y="2590920"/>
            <a:chExt cx="6426360" cy="217152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134604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363204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591804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7857-5E10-4353-A128-168EA74709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2457720" y="502920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jemplo de Nivela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447920" y="2590920"/>
            <a:ext cx="6476400" cy="2171520"/>
            <a:chOff x="1447920" y="2590920"/>
            <a:chExt cx="6476400" cy="2171520"/>
          </a:xfrm>
        </p:grpSpPr>
        <p:pic>
          <p:nvPicPr>
            <p:cNvPr id="282" name="" descr=""/>
            <p:cNvPicPr/>
            <p:nvPr/>
          </p:nvPicPr>
          <p:blipFill>
            <a:blip r:embed="rId1"/>
            <a:stretch/>
          </p:blipFill>
          <p:spPr>
            <a:xfrm>
              <a:off x="1447920" y="2590920"/>
              <a:ext cx="220464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719680" y="2590920"/>
              <a:ext cx="220464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3"/>
            <a:stretch/>
          </p:blipFill>
          <p:spPr>
            <a:xfrm>
              <a:off x="3733560" y="2590920"/>
              <a:ext cx="1854000" cy="21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A4A2D-2920-463F-A461-F7876997E8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1803240" y="5486400"/>
            <a:ext cx="67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íneas de Tiempo para la Carga Retrosp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1812960"/>
            <a:ext cx="7191360" cy="3368520"/>
            <a:chOff x="1447920" y="1812960"/>
            <a:chExt cx="7191360" cy="3368520"/>
          </a:xfrm>
        </p:grpSpPr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1447920" y="1839960"/>
              <a:ext cx="7191360" cy="33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460520" y="4267080"/>
              <a:ext cx="70866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555560" y="4470480"/>
              <a:ext cx="6706800" cy="630360"/>
              <a:chOff x="1555560" y="4470480"/>
              <a:chExt cx="6706800" cy="63036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2260440" y="37652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3960720" y="37652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5400000">
                <a:off x="5756040" y="37652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5400000">
                <a:off x="7456320" y="37652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025720" y="45885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702600" y="45885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514120" y="46054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97840" y="46180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82280" y="4854600"/>
                <a:ext cx="224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Línea de tiempo para el proyecto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1511280" y="2654280"/>
              <a:ext cx="70866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606320" y="2857680"/>
              <a:ext cx="6706800" cy="630360"/>
              <a:chOff x="1606320" y="2857680"/>
              <a:chExt cx="6706800" cy="630360"/>
            </a:xfrm>
          </p:grpSpPr>
          <p:sp>
            <p:nvSpPr>
              <p:cNvPr id="302" name=""/>
              <p:cNvSpPr/>
              <p:nvPr/>
            </p:nvSpPr>
            <p:spPr>
              <a:xfrm rot="5400000">
                <a:off x="2311200" y="21524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400000">
                <a:off x="4011480" y="21524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5400000">
                <a:off x="5806800" y="21524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400000">
                <a:off x="7507080" y="21524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76480" y="29757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753360" y="29757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564880" y="29926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248600" y="30052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533040" y="3241800"/>
                <a:ext cx="224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Línea de tiempo para el proyecto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867720" y="1812960"/>
              <a:ext cx="14731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 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14880" y="3489480"/>
              <a:ext cx="14731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 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67D44-8633-49CA-8A60-F3C1C8C747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2610000" y="4952880"/>
            <a:ext cx="47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Gráficas de Carga Retrosp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905120" y="2590920"/>
            <a:ext cx="5968800" cy="2171520"/>
            <a:chOff x="1905120" y="2590920"/>
            <a:chExt cx="5968800" cy="217152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1905120" y="2590920"/>
              <a:ext cx="185400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393696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019920" y="2590920"/>
              <a:ext cx="1854000" cy="21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52568-2392-4630-9AD3-52FE3DEEBB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3416760" y="5730840"/>
            <a:ext cx="252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Gráfica de Gan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Secuencia 1, 4, 5, 2, 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06880" y="5410080"/>
            <a:ext cx="45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Nota: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Los tiempos de movimiento se han elimin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286000" y="1371600"/>
            <a:ext cx="4876920" cy="4038480"/>
            <a:chOff x="2286000" y="1371600"/>
            <a:chExt cx="4876920" cy="4038480"/>
          </a:xfrm>
        </p:grpSpPr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2286000" y="1371600"/>
              <a:ext cx="487692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2919960" y="1782720"/>
              <a:ext cx="39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40120" y="2439000"/>
              <a:ext cx="39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40120" y="3085920"/>
              <a:ext cx="39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9D9EC-D4A6-42F1-B088-BE77FB836F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de 1 Máquin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: número de trabaj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tiempo requerido por el trabajo 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tiempo total corresponde a la suma de los tiempos requeridos por los trabajos, independiente del orden de és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quiere minimizar el tiempo medio de espera conviene ordenar los trabajos de menor a mayor tiempo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F1A35-AD3D-4D57-B7B4-EE1F2F3E11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ostr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033640" y="2205000"/>
                <a:ext cx="5802120" cy="382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rPr>
                            <m:lit/>
                            <m:nor/>
                          </m:rPr>
                          <m:t xml:space="preserve">espera</m:t>
                        </m:r>
                        <m:r>
                          <m:rPr>
                            <m:lit/>
                            <m:nor/>
                          </m:rPr>
                          <m:t xml:space="preserve">cliente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rPr>
                            <m:lit/>
                            <m:nor/>
                          </m:rPr>
                          <m:t xml:space="preserve">espera</m:t>
                        </m:r>
                        <m:r>
                          <m:rPr>
                            <m:lit/>
                            <m:nor/>
                          </m:rPr>
                          <m:t xml:space="preserve">cliente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rPr>
                            <m:lit/>
                            <m:nor/>
                          </m:rPr>
                          <m:t xml:space="preserve">espera</m:t>
                        </m:r>
                        <m:r>
                          <m:rPr>
                            <m:lit/>
                            <m:nor/>
                          </m:rPr>
                          <m:t xml:space="preserve">cliente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rPr>
                            <m:lit/>
                            <m:nor/>
                          </m:rPr>
                          <m:t xml:space="preserve">esper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rPr>
                            <m:lit/>
                            <m:nor/>
                          </m:rPr>
                          <m:t xml:space="preserve">medio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rPr>
                            <m:lit/>
                            <m:nor/>
                          </m:rPr>
                          <m:t xml:space="preserve">espera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onde z se minimiza con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rPr>
                            <m:lit/>
                            <m:nor/>
                          </m:rPr>
                          <m:t xml:space="preserve">corresponde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rPr>
                            <m:lit/>
                            <m:nor/>
                          </m:rPr>
                          <m:t xml:space="preserve">regla</m:t>
                        </m:r>
                        <m:r>
                          <m:rPr>
                            <m:lit/>
                            <m:nor/>
                          </m:rPr>
                          <m:t xml:space="preserve">propuest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B900E-ED80-468E-A16E-FCB15E3AAB7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de 2  Máquin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trabajos pasan por las dos máquinas en la misma secu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su secuenciamiento se utiliza la regla de la mano izquierda - mano derech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mar los proyectos más cortos en la máquina 1 y ubicarlos prim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mar los proyectos más cortos en la máquina 2 y ubicarlos al fi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A6821-ED80-4383-9A98-9FA55C3C08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143000" y="2147760"/>
            <a:ext cx="7323120" cy="34909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2187360" y="5638680"/>
            <a:ext cx="51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ecuenciamiento de Dos Má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09680" y="3657600"/>
            <a:ext cx="245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09680" y="2857680"/>
            <a:ext cx="245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716F4-4F3D-458B-8097-716A434A99F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menor es para la tarea A en la máquina 2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A al fi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uego el menor tiempo es para C en la máquina 2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 al final, antes de 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uego el menor tiempo es para B en la máquina 1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 al princip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uego el menor tiempo es para E en la máquina 1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 al comienzo, después de 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inalmente D se ubica entre E y 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6603D-9ECF-4E82-9663-E24BB31DFB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sultados espera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uena utilización de equipos y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ajo nivel d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uen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imización de cos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ción semanal en fábr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gnaciones médicas en hosp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ción de cam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0EA2F-F15C-48AB-90D1-A7191861BC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Gener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muy comple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utilizan modelos matemáticos y heuríst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bin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s de ejecu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oridad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de las máquin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07BD6-9706-4AC1-8C39-0C6E38DC99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as cajas de peaje son necesarias en un día de demanda al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auto demora en caja 30 segun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iene una estadística de la llegada de autos por minu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CDACE-5AE9-433F-BA14-43D1E8015DD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743280" y="2743200"/>
            <a:ext cx="1819440" cy="22860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105200" y="205740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legadas por minu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E8C5D-0650-4800-8436-AD4A449AA9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rueba con un número de cajas (n) igual a 1, 2, 3, 4, 5, 6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usca el número de cajas mínimo tal que no más del 3% de los autos espere más de 2 min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mulación por incrementos de tiemp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a hora cero las cajas (3 por ejemplo) se suponen vací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saber cuántas llegadas ocurren en el primer minuto se saca un número aleatorio proporcional a la frecu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14CE2-9816-4E53-96D3-9BEF02AD34F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525840" y="1955880"/>
            <a:ext cx="2928600" cy="3072960"/>
            <a:chOff x="3525840" y="1955880"/>
            <a:chExt cx="2928600" cy="3072960"/>
          </a:xfrm>
        </p:grpSpPr>
        <p:pic>
          <p:nvPicPr>
            <p:cNvPr id="353" name="" descr=""/>
            <p:cNvPicPr/>
            <p:nvPr/>
          </p:nvPicPr>
          <p:blipFill>
            <a:blip r:embed="rId1"/>
            <a:stretch/>
          </p:blipFill>
          <p:spPr>
            <a:xfrm>
              <a:off x="3525840" y="2384280"/>
              <a:ext cx="272268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4644720" y="19558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94760" y="21207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80840" y="22352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39560" y="26478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71480" y="33019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50640" y="45846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58920" y="2286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792080" y="5715000"/>
            <a:ext cx="60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roporciones Asociadas a las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rot="10623000">
            <a:off x="5076000" y="3068640"/>
            <a:ext cx="1675440" cy="19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4" y="0"/>
                </a:moveTo>
                <a:arcTo wR="10800" hR="10800" stAng="-5385938" swAng="5385938"/>
                <a:lnTo>
                  <a:pt x="10800" y="10800"/>
                </a:lnTo>
                <a:close/>
              </a:path>
              <a:path fill="none" w="21600" h="21600">
                <a:moveTo>
                  <a:pt x="10844" y="0"/>
                </a:moveTo>
                <a:arcTo wR="10800" hR="10800" stAng="-5385938" swAng="5385938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171120" y="502812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8D1CC-6DCF-4CAD-AB94-811DB2767BA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475000" y="2643120"/>
            <a:ext cx="4459320" cy="2766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157760" y="182880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Hist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252CE-E320-4310-B682-483228C6856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verificar cuánto espera cada auto utilizando regla FIF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vez hecha la simulación para n, se repite para n+1, n+2,..., etc.  Se ven las  estadísticas para cada valor y se elige el número de cajas más adecu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hora la pregunta que surge 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s minutos se debe experimentar según la confiabilidad del resulta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7ABB4-482B-46F1-9EFF-404022C1331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tención de números aleatorios de una distribución F(x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U[0,1]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409760" y="2721240"/>
            <a:ext cx="7833240" cy="3356280"/>
            <a:chOff x="1409760" y="2721240"/>
            <a:chExt cx="7833240" cy="3356280"/>
          </a:xfrm>
        </p:grpSpPr>
        <p:sp>
          <p:nvSpPr>
            <p:cNvPr id="372" name=""/>
            <p:cNvSpPr/>
            <p:nvPr/>
          </p:nvSpPr>
          <p:spPr>
            <a:xfrm flipV="1">
              <a:off x="2628720" y="281880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28720" y="533376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409760" y="3352320"/>
              <a:ext cx="243756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0669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06692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 rot="10718400">
              <a:off x="3685320" y="3777480"/>
              <a:ext cx="5531760" cy="22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672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6728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38600" y="38098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628360" y="377172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88600" y="50886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24160" y="42660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924000" y="44956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2628720" y="44956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70080" y="3600000"/>
              <a:ext cx="46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00880" y="2721240"/>
              <a:ext cx="671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853080" y="542196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6DEA3-0DEC-40BC-B693-87E790AC4F1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mulación próximo even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ngo tres equipos en serie (falla uno y se para la producció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abilidades de falla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, i = 1..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s de reparación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i = 1..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gun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porcentaje del tiempo está parado el sistem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dimien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t = 0 se parte generando tiempos de falla de cada máquina (independientes):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y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55CCF-53E1-454D-84B2-8CF50CA404B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38095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y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l sistema esta sin funcion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se generan próximas fallas del equipo 1. De igual manera para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y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(0, 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) la proporción del tiempo con el sistema sin funcionar 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0" y="27432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7598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767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98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528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864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9343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353760" y="2345400"/>
            <a:ext cx="37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31720" y="2345400"/>
            <a:ext cx="37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163640" y="2345400"/>
            <a:ext cx="37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33000" y="2787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42080" y="2726280"/>
            <a:ext cx="7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 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+ 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32400" y="2770560"/>
            <a:ext cx="7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 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+ 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55880" y="2770560"/>
            <a:ext cx="7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 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+ 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8040" y="2770560"/>
            <a:ext cx="3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04560" y="2770560"/>
            <a:ext cx="3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38200" y="2770560"/>
            <a:ext cx="3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4267080" y="5373720"/>
                <a:ext cx="13716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ABE4D-1D76-4137-AF2E-BBF2B0F7623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s en Lín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egu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tienen diversos productos, ¿qué se produce en cada moment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nto clav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prepar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producción clásica los altos tiempos de preparación determinan mayores lotes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los sistemas de manufactura flexible (FMS) los menores tiempos de preparación se traducen en lotes más ch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D19E1-8A2B-4909-B1E9-5990EB90DD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mulación determiníst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programación de camiones forestales ASIC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isten 10 orígenes en el bosque y 5 destinos (plantas de celulosa, puertos, aserraderos, etc.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carga y descarga de 20 min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viaje entre el origen i y el destino j es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50 cam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F766E-FEE5-4B05-91C4-A7EB136E31D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s 6 AM, llegan 10 camiones a los 10 orígenes y carg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s 6:20 AM parten a sus dest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 10 camiones empiezan a ser cargados en los orígenes a las 6: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mión 1 parte a las 6:20 AM y llega a las 8:45 AM a la planta de celulo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s 9:45 AM está descargado y parte en un nuevo viaje (reglas heurísticas para ver qué viaje le convien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í se le sigue la pista a cada cam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al llegar a un origen o destino hay algún camión siendo atendido, se hace co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16C5-A77C-4B1C-AB57-3F05E886611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avanza en el día a través de los viaj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lleva estadística 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dera que se transpor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miones usados y tiempo de trabaj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mpos de espera en co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mpos de viaje cargado y descarg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afí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as reglas de asignación de viajes que permitan programar viajes y diseñar flo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3DC97-5641-42EE-866D-483B64D9F62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s en Lín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Cómo secuenciar produc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r medio del tiempo de agotamiento (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rograman primero los productos con menor tiempo de agotamiento (menor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981080" y="3048120"/>
                <a:ext cx="43182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ventario</m:t>
                        </m:r>
                        <m:r>
                          <m:rPr>
                            <m:lit/>
                            <m:nor/>
                          </m:rPr>
                          <m:t xml:space="preserve">producto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manda</m:t>
                        </m:r>
                        <m:r>
                          <m:rPr>
                            <m:lit/>
                            <m:nor/>
                          </m:rPr>
                          <m:t xml:space="preserve">producto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DE934-FEDC-4194-8EEC-F5013D76F2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s Intermit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barca talleres, imprentas, garages.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proyectos o clientes esperan en una línea conforme cada unidad se transfiere de un centro de trabajo hasta el sigu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forma una cola de inventario de producto en proceso en cada centro de trabajo existiendo tiempos de espera para conseguir la disponibilidad de las instal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r lo tanto, puede pensarse en el problema de programación intermitente como una red de co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076CC-73BE-4E81-ABAD-F2F62F3DFD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pósi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ministrar la relación que existe entre las entradas y salidas de un centro de traba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rad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ntidad de trabajos que llegan a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centro por unidad de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g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trabajos en proceso que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y en 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locidad con que se terminan los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bajos en un cent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C6F69-FF17-4524-BFCD-6B01888C44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pacidad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locidad de producción máx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ciones que presentan cuellos de botel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bajos crít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apacidad no es clara para sistemas complej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19FFD-B628-48EF-9905-C7C5102F1E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716560" y="5486400"/>
            <a:ext cx="44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álculos de Entradas - Sa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905120" y="2057400"/>
            <a:ext cx="6324480" cy="3046320"/>
            <a:chOff x="1905120" y="2057400"/>
            <a:chExt cx="6324480" cy="30463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965240" y="2124000"/>
              <a:ext cx="5959440" cy="29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62520" y="2857680"/>
              <a:ext cx="2133360" cy="1066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roducto en proceso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$2 mill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05120" y="2057400"/>
              <a:ext cx="18288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ntr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$100.000/sem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00800" y="4038480"/>
              <a:ext cx="18288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Sali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$100.000/sem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50200" y="4508640"/>
              <a:ext cx="530280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ahoma"/>
                </a:rPr>
                <a:t>Tiempo de procesamiento del producto = $2.000.000/$100.000 = 20 semanas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4724280"/>
              <a:ext cx="51055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4E317-91F1-4A95-8047-C4E1B0E826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8T19:54:17Z</dcterms:created>
  <dc:creator>Antoine Sauré Valenzuela</dc:creator>
  <dc:description/>
  <dc:language>en-US</dc:language>
  <cp:lastModifiedBy>.................</cp:lastModifiedBy>
  <cp:lastPrinted>2001-08-10T01:13:48Z</cp:lastPrinted>
  <dcterms:modified xsi:type="dcterms:W3CDTF">2008-09-02T23:00:43Z</dcterms:modified>
  <cp:revision>16</cp:revision>
  <dc:subject/>
  <dc:title>Gestión de Operaciones</dc:title>
</cp:coreProperties>
</file>