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4F2C-8680-4F87-9E55-B455D2152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DA02-3E7E-4EBE-B0F8-2C66F3A0E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EE8B-165F-45E6-929A-7EE829128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7A9A-829B-412A-B256-190DAD147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DB0C8-0095-4A18-858D-0A49543A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D9DF7-2158-418E-8471-E383707F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72A3D-680D-44B7-92DF-52EAE07B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41EF3-44F1-4D04-8890-1811F9C6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4431D-A11B-403F-B1C3-4CCC032A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A6BE3-96A8-4C6D-8582-8D6509AA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1BC0F-77FF-4871-9A65-F087D132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633B-119B-4BCD-A05D-0B6FCE120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FAA4F-1093-4E6B-B3AE-E23F84F7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268F2-487F-4EAE-A7FC-F6602B0C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D616D-24E0-4946-9720-0A63EAB7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438B2-8E37-42D9-B0ED-720EBE8F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2FDD8-890B-412A-9737-5C4BA8FD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8A85-EE4D-4A0F-BFA6-FE12B047D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C6D1-F542-4933-817C-BE61A46F9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25FB-5EB8-4C9E-962D-5E62D0E8D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5D41-BCAD-45BE-9C4F-3C95CEF7B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4AA3-CA14-46A2-80EF-C2C6C6701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AE21-EBA7-4896-AAD7-80310DF53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5C76-8667-4F22-A65F-3EA734B04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622040" y="62737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BB9E-A57A-4732-967B-BA63C51768D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0E6E-0DC4-4265-996F-E38C61E9D152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505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rograma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53600" y="5486400"/>
            <a:ext cx="70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ventario de Producto vs Uso de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25640" y="1676520"/>
            <a:ext cx="5541840" cy="3735360"/>
            <a:chOff x="1925640" y="1676520"/>
            <a:chExt cx="5541840" cy="37353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981080" y="1700280"/>
              <a:ext cx="54864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0608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7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276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160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99400" y="5135400"/>
              <a:ext cx="567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32080" y="16765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4680" y="23623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2080" y="30862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4680" y="38098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4680" y="45259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981360" y="3323160"/>
              <a:ext cx="2378160" cy="48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(cientos de horas hombr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884F-CC5F-40AA-BCA2-D04CF76015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s posible reducir el inventario de producto en proceso en un 10% mientras que el uso de la mano de obra disminuye sólo en un 1%, ¿vale la pena la compens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inventario de producto en proceso es 2 millones de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200 personas que cuestan 5 dólares la 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esta 20 centavos mantener 1 dólar de inventario durante un a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26407-4E78-4912-838F-9D88B4AEBD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pues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de disminuir el uso de la mano de obra = 0.01·200·40·52·$5 = $20,8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horro anual de inventario =              0.1·20·$2,000,000 = $40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el ahorro de inventario es mayor que el costo debido a la reducción de mano de obra, vale la pena reducir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5F77-CAE6-4672-930C-4D8C209057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431800" y="5867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Relación entr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87680" y="1574640"/>
            <a:ext cx="4118040" cy="4234320"/>
            <a:chOff x="2587680" y="1574640"/>
            <a:chExt cx="4118040" cy="423432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627280" y="1574640"/>
              <a:ext cx="4078440" cy="42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96680" y="5562720"/>
              <a:ext cx="2806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ivel de inventarios de producto en 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1917000" y="3363480"/>
              <a:ext cx="17398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o 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29840" y="3429000"/>
              <a:ext cx="1642320" cy="246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14960" y="1600200"/>
              <a:ext cx="1736640" cy="398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me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04400" y="1600200"/>
              <a:ext cx="1073880" cy="55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ariación en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3738-FBCF-421A-883B-9E203AA884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un conjunto de trabajos que pasan por distintas máquinas, ¿cómo cargar el sistem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t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s los trabajos enviados al comienzo d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ábrica text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nám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trabajos siguen llegando durante 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 garage, 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6713-B59E-44A1-8DE0-DC8103ACF1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es de operación de cada máqui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prometid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oridade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a futu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n cargando hacia delante los trabajos y se ve si se cumplen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puede usar capacidad infinita para ver la capacidad necesaria o imponer la capacidad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se carga bien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no asegura bien cumplir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4FA2-CF69-4425-B8C1-59DB1E45F8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retrospe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r con las fechas de vencimiento y retroceder hasta el tiempo act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asegura el cumplimiento de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puede cargar mal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enta problemas sobre todo en el caso diná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 proyectos y 3 máqui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ías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movimiento/espera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091E-E417-4ECE-8C60-BBD1BE49BE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argar las máquinas con trabajos de manera de cumplir los plaz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13320" y="29718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atos de Proyectos par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411480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D68C-B18B-4B1A-827B-DE1DA05E27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234440" y="190512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a Futu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905120" y="2514600"/>
            <a:ext cx="6276600" cy="2903400"/>
            <a:chOff x="1905120" y="2514600"/>
            <a:chExt cx="6276600" cy="29034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905120" y="2774880"/>
              <a:ext cx="579744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740560" y="40258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33720" y="3429000"/>
              <a:ext cx="5562360" cy="685800"/>
              <a:chOff x="2133720" y="3429000"/>
              <a:chExt cx="5562360" cy="685800"/>
            </a:xfrm>
          </p:grpSpPr>
          <p:sp>
            <p:nvSpPr>
              <p:cNvPr id="167" name=""/>
              <p:cNvSpPr/>
              <p:nvPr/>
            </p:nvSpPr>
            <p:spPr>
              <a:xfrm>
                <a:off x="2133720" y="3429000"/>
                <a:ext cx="55623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33720" y="3505320"/>
                <a:ext cx="5409720" cy="534960"/>
                <a:chOff x="2133720" y="3505320"/>
                <a:chExt cx="5409720" cy="534960"/>
              </a:xfrm>
            </p:grpSpPr>
            <p:sp>
              <p:nvSpPr>
                <p:cNvPr id="169" name=""/>
                <p:cNvSpPr/>
                <p:nvPr/>
              </p:nvSpPr>
              <p:spPr>
                <a:xfrm rot="5400000">
                  <a:off x="27050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5400000">
                  <a:off x="40766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5400000">
                  <a:off x="55242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68958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1100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86496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25480" y="3606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84480" y="36162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677040" y="37940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6477120" y="3162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45320" y="3009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450864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2720" y="4368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057400" y="4724280"/>
              <a:ext cx="5715000" cy="687600"/>
              <a:chOff x="2057400" y="4724280"/>
              <a:chExt cx="5715000" cy="687600"/>
            </a:xfrm>
          </p:grpSpPr>
          <p:sp>
            <p:nvSpPr>
              <p:cNvPr id="183" name=""/>
              <p:cNvSpPr/>
              <p:nvPr/>
            </p:nvSpPr>
            <p:spPr>
              <a:xfrm>
                <a:off x="2057400" y="472428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2133720" y="4876920"/>
                <a:ext cx="5409720" cy="534960"/>
                <a:chOff x="2133720" y="4876920"/>
                <a:chExt cx="5409720" cy="534960"/>
              </a:xfrm>
            </p:grpSpPr>
            <p:sp>
              <p:nvSpPr>
                <p:cNvPr id="185" name=""/>
                <p:cNvSpPr/>
                <p:nvPr/>
              </p:nvSpPr>
              <p:spPr>
                <a:xfrm rot="5400000">
                  <a:off x="27050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5400000">
                  <a:off x="40766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5400000">
                  <a:off x="55242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5400000">
                  <a:off x="68958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1100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86496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5480" y="4978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84480" y="49878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77040" y="51656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199476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5008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083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800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25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004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1800" y="40989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0680" y="411480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584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3072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0080" y="251460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1C53-507F-4D97-A544-E4F66ADCB9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1420920"/>
            <a:ext cx="6629400" cy="4687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861560" y="6019920"/>
            <a:ext cx="51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dicación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Partir en A con proyecto 5 en vez de proyecto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400" y="5359320"/>
            <a:ext cx="5715000" cy="687600"/>
            <a:chOff x="2057400" y="5359320"/>
            <a:chExt cx="5715000" cy="687600"/>
          </a:xfrm>
        </p:grpSpPr>
        <p:sp>
          <p:nvSpPr>
            <p:cNvPr id="209" name=""/>
            <p:cNvSpPr/>
            <p:nvPr/>
          </p:nvSpPr>
          <p:spPr>
            <a:xfrm>
              <a:off x="2057400" y="535932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133720" y="5511960"/>
              <a:ext cx="5409720" cy="534960"/>
              <a:chOff x="2133720" y="5511960"/>
              <a:chExt cx="5409720" cy="534960"/>
            </a:xfrm>
          </p:grpSpPr>
          <p:sp>
            <p:nvSpPr>
              <p:cNvPr id="211" name=""/>
              <p:cNvSpPr/>
              <p:nvPr/>
            </p:nvSpPr>
            <p:spPr>
              <a:xfrm rot="5400000">
                <a:off x="27050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400000">
                <a:off x="40766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55242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400000">
                <a:off x="68958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1100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6496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25480" y="5613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84480" y="562284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77040" y="580068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4317840" y="1432080"/>
            <a:ext cx="324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56600" y="1397160"/>
            <a:ext cx="6242040" cy="3809520"/>
            <a:chOff x="1956600" y="1397160"/>
            <a:chExt cx="6242040" cy="3809520"/>
          </a:xfrm>
        </p:grpSpPr>
        <p:grpSp>
          <p:nvGrpSpPr>
            <p:cNvPr id="222" name=""/>
            <p:cNvGrpSpPr/>
            <p:nvPr/>
          </p:nvGrpSpPr>
          <p:grpSpPr>
            <a:xfrm>
              <a:off x="2057400" y="2158920"/>
              <a:ext cx="5715000" cy="687600"/>
              <a:chOff x="2057400" y="2158920"/>
              <a:chExt cx="5715000" cy="687600"/>
            </a:xfrm>
          </p:grpSpPr>
          <p:sp>
            <p:nvSpPr>
              <p:cNvPr id="223" name=""/>
              <p:cNvSpPr/>
              <p:nvPr/>
            </p:nvSpPr>
            <p:spPr>
              <a:xfrm>
                <a:off x="2057400" y="215892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133720" y="2311560"/>
                <a:ext cx="5409720" cy="534960"/>
                <a:chOff x="2133720" y="2311560"/>
                <a:chExt cx="5409720" cy="534960"/>
              </a:xfrm>
            </p:grpSpPr>
            <p:sp>
              <p:nvSpPr>
                <p:cNvPr id="225" name=""/>
                <p:cNvSpPr/>
                <p:nvPr/>
              </p:nvSpPr>
              <p:spPr>
                <a:xfrm rot="5400000">
                  <a:off x="27050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5400000">
                  <a:off x="40766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5400000">
                  <a:off x="55242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5400000">
                  <a:off x="68958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51100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6496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25480" y="24130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684480" y="2422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677040" y="260028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2057400" y="3606840"/>
              <a:ext cx="5715000" cy="687600"/>
              <a:chOff x="2057400" y="3606840"/>
              <a:chExt cx="5715000" cy="687600"/>
            </a:xfrm>
          </p:grpSpPr>
          <p:sp>
            <p:nvSpPr>
              <p:cNvPr id="235" name=""/>
              <p:cNvSpPr/>
              <p:nvPr/>
            </p:nvSpPr>
            <p:spPr>
              <a:xfrm>
                <a:off x="2057400" y="360684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2133720" y="3759480"/>
                <a:ext cx="5409720" cy="534960"/>
                <a:chOff x="2133720" y="3759480"/>
                <a:chExt cx="5409720" cy="534960"/>
              </a:xfrm>
            </p:grpSpPr>
            <p:sp>
              <p:nvSpPr>
                <p:cNvPr id="237" name=""/>
                <p:cNvSpPr/>
                <p:nvPr/>
              </p:nvSpPr>
              <p:spPr>
                <a:xfrm rot="5400000">
                  <a:off x="27050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5400000">
                  <a:off x="40766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5400000">
                  <a:off x="55242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5400000">
                  <a:off x="68958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1100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6496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325480" y="38610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84480" y="387036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677040" y="404820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6045120" y="18921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6720" y="5067360"/>
              <a:ext cx="24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44800" y="3314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5054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03184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044800" y="317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34240" y="4901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632720" y="1739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95680" y="139716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9280" y="256212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50680" y="425124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660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976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696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0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36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96200" y="2895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5608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0364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6272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104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11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55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0" y="46483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2933640"/>
              <a:ext cx="685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2240" y="4632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4380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945F-C02E-44DF-83EA-9A8F81353F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a las decisiones concre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cisiones detalladas, complejas y con much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en ser consistentes con el nivel t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grar que la capacidad disponible se use en forma efectiva y efi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ir equipos y personal entre distintos trabajos y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0149-2800-4EFE-9886-6E26EB298C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2812680" y="502920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a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46040" y="2590920"/>
            <a:ext cx="6426360" cy="2171520"/>
            <a:chOff x="1346040" y="2590920"/>
            <a:chExt cx="6426360" cy="217152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346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632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5918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700A-ECC9-4EA9-A670-194D8057DB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457720" y="50292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Nivela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2590920"/>
            <a:ext cx="6476400" cy="2171520"/>
            <a:chOff x="1447920" y="2590920"/>
            <a:chExt cx="6476400" cy="217152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144792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71968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1D2B-DCFF-496E-9E4A-42C17B0F41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803240" y="548640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1812960"/>
            <a:ext cx="7191360" cy="3368520"/>
            <a:chOff x="1447920" y="1812960"/>
            <a:chExt cx="7191360" cy="336852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1447920" y="1839960"/>
              <a:ext cx="7191360" cy="33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60520" y="42670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555560" y="4470480"/>
              <a:ext cx="6706800" cy="630360"/>
              <a:chOff x="1555560" y="4470480"/>
              <a:chExt cx="6706800" cy="63036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26044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396072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575604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400000">
                <a:off x="745632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2572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0260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14120" y="4605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97840" y="4618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82280" y="48546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511280" y="26542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606320" y="2857680"/>
              <a:ext cx="6706800" cy="630360"/>
              <a:chOff x="1606320" y="2857680"/>
              <a:chExt cx="6706800" cy="630360"/>
            </a:xfrm>
          </p:grpSpPr>
          <p:sp>
            <p:nvSpPr>
              <p:cNvPr id="302" name=""/>
              <p:cNvSpPr/>
              <p:nvPr/>
            </p:nvSpPr>
            <p:spPr>
              <a:xfrm rot="5400000">
                <a:off x="231120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01148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400000">
                <a:off x="580680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400000">
                <a:off x="750708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7648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5336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64880" y="29926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48600" y="30052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33040" y="32418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67720" y="181296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14880" y="348948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E89B-1193-4C37-AE01-C525D4EE33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9528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905120" y="2590920"/>
            <a:ext cx="5968800" cy="2171520"/>
            <a:chOff x="1905120" y="2590920"/>
            <a:chExt cx="5968800" cy="21715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9051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393696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0199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ECF2-1DDE-4804-A537-5F2739F293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3416760" y="5730840"/>
            <a:ext cx="252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 de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Secuencia 1, 4, 5, 2,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06880" y="5410080"/>
            <a:ext cx="45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os tiempos de movimiento se han elimin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0" y="1371600"/>
            <a:ext cx="4876920" cy="4038480"/>
            <a:chOff x="2286000" y="1371600"/>
            <a:chExt cx="4876920" cy="403848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2286000" y="1371600"/>
              <a:ext cx="48769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2919960" y="178272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40120" y="243900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40120" y="308592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0B73-1F15-4BB0-9AC2-60909E7899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de 1 Máqui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: número de trabaj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requerido por el trabajo 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iempo total corresponde a la suma de los tiempos requeridos por los trabajos, independiente del orden de é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tiempo medio de espera conviene ordenar los trabajos de menor a mayor tiemp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DBED-C8F1-426D-86D3-64178761A2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ost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033640" y="2205000"/>
                <a:ext cx="5802120" cy="382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medi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onde z se minimiza con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rPr>
                            <m:lit/>
                            <m:nor/>
                          </m:rPr>
                          <m:t xml:space="preserve">corresponde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rPr>
                            <m:lit/>
                            <m:nor/>
                          </m:rPr>
                          <m:t xml:space="preserve">regla</m:t>
                        </m:r>
                        <m:r>
                          <m:rPr>
                            <m:lit/>
                            <m:nor/>
                          </m:rPr>
                          <m:t xml:space="preserve">propuest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8621-0FEE-461F-9DB5-3195993B1B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de 2  Máquin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trabajos pasan por las dos máquinas en la misma s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u secuenciamiento se utiliza la regla de la mano izquierda - mano derech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mar los proyectos más cortos en la máquina 1 y ubicarlos prim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mar los proyectos más cortos en la máquina 2 y ubicarlos al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932D-F0C3-494A-B75D-6ED2B5D900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43000" y="2147760"/>
            <a:ext cx="7323120" cy="34909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187360" y="5638680"/>
            <a:ext cx="51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ecuenciamiento de Dos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09680" y="3657600"/>
            <a:ext cx="245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2857680"/>
            <a:ext cx="245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31D8-6396-4483-A707-997F7DBD2E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menor es para la tarea A en la máquina 2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 al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C en la máquina 2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 al final, antes de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B en la máquina 1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 al princip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E en la máquina 1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 al comienzo, después de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inalmente D se ubica entre E y 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D536-FF8D-4FE6-AE1F-738489FC72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ultados esp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a utilización de equipos y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jo nive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imización de 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semanal en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ciones médicas en 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cam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5F63-4054-496E-B69A-EF1743759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Gener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uy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n modelos matemáticos y heu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or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las máqui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73A1-C26F-4887-A079-617AC07AD0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s cajas de peaje son necesarias en un día de demanda al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auto demora en caja 30 segun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una estadística de la llegada de auto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1849-B065-4D73-AA19-5821559B23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743280" y="2743200"/>
            <a:ext cx="1819440" cy="2286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05200" y="20574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das por minu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CDC1-8EFB-4863-A068-4ADAAA79B1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ueba con un número de cajas (n) igual a 1, 2, 3, 4, 5, 6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el número de cajas mínimo tal que no más del 3% de los autos espere más de 2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or incrementos de tiem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hora cero las cajas (3 por ejemplo) se suponen vací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aber cuántas llegadas ocurren en el primer minuto se saca un número aleatorio proporcional a la fr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F33F-8FC0-44E6-A128-0F9515E304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525840" y="1955880"/>
            <a:ext cx="2928600" cy="3072960"/>
            <a:chOff x="3525840" y="1955880"/>
            <a:chExt cx="2928600" cy="307296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3525840" y="2384280"/>
              <a:ext cx="272268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4644720" y="1955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94760" y="21207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80840" y="22352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39560" y="2647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71480" y="3301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50640" y="458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8920" y="2286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792080" y="571500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roporciones Asociadas a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rot="10623000">
            <a:off x="5076000" y="3068640"/>
            <a:ext cx="1675440" cy="19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4" y="0"/>
                </a:moveTo>
                <a:arcTo wR="10800" hR="10800" stAng="-5385938" swAng="5385938"/>
                <a:lnTo>
                  <a:pt x="10800" y="10800"/>
                </a:lnTo>
                <a:close/>
              </a:path>
              <a:path fill="none" w="21600" h="21600">
                <a:moveTo>
                  <a:pt x="10844" y="0"/>
                </a:moveTo>
                <a:arcTo wR="10800" hR="10800" stAng="-5385938" swAng="538593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71120" y="50281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AF47-E422-4E11-B245-402A0C8AA6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475000" y="2643120"/>
            <a:ext cx="4459320" cy="2766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157760" y="18288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Hist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CB5E-B4E6-41DB-9398-147D59C0D8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verificar cuánto espera cada auto utilizando regla FIF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hecha la simulación para n, se repite para n+1, n+2,..., etc.  Se ven las  estadísticas para cada valor y se elige el número de cajas más adecu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la pregunta que surge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minutos se debe experimentar según la confiabilidad del result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0B12-C735-4680-9405-50E7D7F9FB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tención de números aleatorios de una distribución F(x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[0,1]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409760" y="2721240"/>
            <a:ext cx="7833240" cy="3356280"/>
            <a:chOff x="1409760" y="2721240"/>
            <a:chExt cx="7833240" cy="3356280"/>
          </a:xfrm>
        </p:grpSpPr>
        <p:sp>
          <p:nvSpPr>
            <p:cNvPr id="372" name=""/>
            <p:cNvSpPr/>
            <p:nvPr/>
          </p:nvSpPr>
          <p:spPr>
            <a:xfrm flipV="1">
              <a:off x="2628720" y="28188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28720" y="533376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409760" y="3352320"/>
              <a:ext cx="243756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66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669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10718400">
              <a:off x="3685320" y="3777480"/>
              <a:ext cx="5531760" cy="22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672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672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38600" y="3809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628360" y="37717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88600" y="50886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24160" y="42660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92400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628720" y="44956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70080" y="36000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0880" y="2721240"/>
              <a:ext cx="67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853080" y="54219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EEA8-BAC9-422F-BF20-A2770F4624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róximo ev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go tres equipos en serie (falla uno y se para la produc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abilidades de falla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reparación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porcentaje del tiempo está parado el sistem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t = 0 se parte generando tiempos de falla de cada máquina (independientes):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5DBA-E13E-4F14-ACA2-1366564B8F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3809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l sistema esta sin funcio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se generan próximas fallas del equipo 1. De igual manera para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(0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la proporción del tiempo con el sistema sin funcionar 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2743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598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343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5376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3172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364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33000" y="2787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42080" y="272628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3240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5588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804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456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820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267080" y="5373720"/>
                <a:ext cx="1371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70A4-57E7-49E9-8C6F-D05D8FD74D4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tienen diversos productos, ¿qué se produce en cada momen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nto cla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prepa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producción clásica los altos tiempos de preparación determinan mayores lot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los sistemas de manufactura flexible (FMS) los menores tiempos de preparación se traducen en lotes más ch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A01D-20A1-405B-9E74-6B43F12173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rogramación de camiones forestales ASI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n 10 orígenes en el bosque y 5 destinos (plantas de celulosa, puertos, aserraderos, etc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carga y descarga de 20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viaje entre el origen i y el destino j 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0 cam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8639-7776-4A1B-BDB0-A4F6FE5B7F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 AM, llegan 10 camiones a los 10 orígenes y carg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:20 AM parten a sus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10 camiones empiezan a ser cargados en los orígenes a las 6: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ón 1 parte a las 6:20 AM y llega a las 8:45 AM a la planta de celulo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9:45 AM está descargado y parte en un nuevo viaje (reglas heurísticas para ver qué viaje le convien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í se le sigue la pista a cada cam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al llegar a un origen o destino hay algún camión siendo atendido, se hace c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2BD7-CA2C-4B5C-A0CA-7D81D70B81F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avanza en el día a través de los via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lleva estadística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dera que se transpor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ones usados y tiempo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espera en co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viaje cargado y descarg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fí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s reglas de asignación de viajes que permitan programar viajes y diseñar flo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1F35-9D6B-403A-A63F-846AC7C854F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secuenciar produc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medio del tiempo de agotamiento 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ograman primero los productos con menor tiempo de agotamiento (menor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81080" y="3048120"/>
                <a:ext cx="431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ventario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manda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8AAF-F885-4C4D-B6A2-733CC490B3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Intermit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barca talleres, imprentas, garages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proyectos o clientes esperan en una línea conforme cada unidad se transfiere de un centro de trabajo hasta el sigu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forma una cola de inventario de producto en proceso en cada centro de trabajo existiendo tiempos de espera para conseguir la disponibilidad de las instal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lo tanto, puede pensarse en el problema de programación intermitente como una red de co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1F5D-0E76-463F-908E-651FD4F576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la relación que existe entre las entradas y salidas de un centro de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ntidad de trabajos que llegan 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entro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trabajos en proceso qu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en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con que se terminan l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en un cen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2C55-DBD8-40F1-B575-104B21F7FE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de producción máx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es que presentan cuellos de botel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crí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apacidad no es clara para sistemas comple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3AA0-1B05-4810-B594-9327432747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716560" y="548640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álculos d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5120" y="2057400"/>
            <a:ext cx="6324480" cy="3046320"/>
            <a:chOff x="1905120" y="2057400"/>
            <a:chExt cx="6324480" cy="30463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965240" y="2124000"/>
              <a:ext cx="595944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62520" y="2857680"/>
              <a:ext cx="2133360" cy="106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roducto en proceso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2 mill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5120" y="2057400"/>
              <a:ext cx="1828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nt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4038480"/>
              <a:ext cx="182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Sal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0200" y="4508640"/>
              <a:ext cx="53028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ahoma"/>
                </a:rPr>
                <a:t>Tiempo de procesamiento del producto = $2.000.000/$100.000 = 20 semanas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4724280"/>
              <a:ext cx="5105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320F-0175-4A56-8E83-A4DDE003F8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9:54:17Z</dcterms:created>
  <dc:creator>Antoine Sauré Valenzuela</dc:creator>
  <dc:description/>
  <dc:language>en-US</dc:language>
  <cp:lastModifiedBy>.................</cp:lastModifiedBy>
  <cp:lastPrinted>2001-08-10T01:13:48Z</cp:lastPrinted>
  <dcterms:modified xsi:type="dcterms:W3CDTF">2008-09-02T23:00:43Z</dcterms:modified>
  <cp:revision>16</cp:revision>
  <dc:subject/>
  <dc:title>Gestión de Operaciones</dc:title>
</cp:coreProperties>
</file>