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14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DE7F-9365-4BDB-8BBA-0CA6047C3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814AD-048C-43F1-BC0E-4FC0FD62E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90EF3-043F-4EC3-95A3-DC259AA0C9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3718D-0C84-4FCF-A96D-64283241A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8B969-ABB0-4B3B-8246-2285496B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95DEE-E79E-4785-B1D6-60DD7C92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A0761-2962-4934-A639-13A1EE30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0DE0D-608F-4A2D-8138-B2D97FDA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735F1-1A0F-40BD-9A70-A9BB15D1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88C90E-F985-4E4B-B384-00BF6285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0D08D-3955-4DE9-82AE-54C5C8AB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75F7A-3756-4B17-A364-7BAAC5422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5ACCA-BF5C-4946-9A77-C4124742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D676B-4669-4D35-B00A-DD5AB1EC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EA7E8-8C52-49C1-BE15-2B29A607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64977-7829-4753-8DDF-6684A462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7AF03-566D-4572-BEE1-BDA028BD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BC664-894B-465D-8C18-29D6CB25D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B0B2-7123-479D-B3D9-3BE1229FF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E438-CC7F-4540-ABAA-AF741582E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4B76-5B9A-4CE0-B7B0-8062E3705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68DC0-ABE6-4A04-8173-BD051C261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A114-91F3-46FC-B77C-F29B6014C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F74E8-3834-4B87-8BF8-5812DF331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622040" y="62737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BCB6-D8FF-4FAD-8F4D-877A984CE7B9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8D3A-2BAC-442C-89D9-E5B1EF8E4727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: Programa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B363-C175-4102-B55F-DA7AEC48B4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DDC5E-4500-443D-B57A-533E41D792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7B33F-4306-4B43-8879-1A69124C522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A6E97-D3D3-4253-9DF8-6EC2E0C5EB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5973D-5ED6-4947-B4F9-4D5140BCB2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7C3C-2324-4E84-BD42-2C4C43E0AC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F6AED-F943-4C4E-B417-EC40CC3192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3E3D-4724-48BB-B420-DB98A06FCE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14151-54A8-49F0-A15A-E5BB2F7809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D9EFC-57C6-440F-A97E-2521A9497E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14A7-DDE7-4B7B-9153-B71D002B3D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27D8-8723-4AE4-801A-32A780B3E9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BFDC-5EF6-492A-B15C-B04815C0B7D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DEB7-D689-48AB-8A78-2E42DDE9E6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B197-ECBD-44BC-A998-E0FEE63F1E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3416760" y="5730840"/>
            <a:ext cx="252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 de Gan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ahoma"/>
              </a:rPr>
              <a:t>Secuencia 1, 4, 5, 2,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06880" y="5410080"/>
            <a:ext cx="45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Nota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os tiempos de movimiento se han elimin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0" y="1371600"/>
            <a:ext cx="4876920" cy="4038480"/>
            <a:chOff x="2286000" y="1371600"/>
            <a:chExt cx="4876920" cy="403848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2286000" y="1371600"/>
              <a:ext cx="487692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2919960" y="17827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40120" y="243900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40120" y="3085920"/>
              <a:ext cx="39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A07CB-3B4D-4107-8136-D665129625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1 Máqui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: número de trabaj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: tiempo requerido por el trabajo 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tiempo total corresponde a la suma de los tiempos requeridos por los trabajos, independiente del orden de é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tiempo medio de espera conviene ordenar los trabajos de menor a mayor tiempo de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B0456-7591-43C4-8624-488A332B06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ost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033640" y="2205000"/>
                <a:ext cx="5802120" cy="382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cliente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medio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rPr>
                            <m:lit/>
                            <m:nor/>
                          </m:rPr>
                          <m:t xml:space="preserve">espera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onde z se minimiza con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rPr>
                            <m:lit/>
                            <m:nor/>
                          </m:rPr>
                          <m:t xml:space="preserve">corresponde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rPr>
                            <m:lit/>
                            <m:nor/>
                          </m:rPr>
                          <m:t xml:space="preserve">regla</m:t>
                        </m:r>
                        <m:r>
                          <m:rPr>
                            <m:lit/>
                            <m:nor/>
                          </m:rPr>
                          <m:t xml:space="preserve">propuest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07FA-B1D7-4B8A-B2F0-2035CC5B5F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de 2  Máquin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trabajos pasan por las dos máquinas en la misma s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u secuenciamiento se utiliza la regla de la mano izquierda - mano derech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1 y ubicarlos prim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mar los proyectos más cortos en la máquina 2 y ubicarlos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58E09-5B35-45DC-9CF4-8A196C022A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143000" y="2147760"/>
            <a:ext cx="7323120" cy="34909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"/>
          <p:cNvSpPr/>
          <p:nvPr/>
        </p:nvSpPr>
        <p:spPr>
          <a:xfrm>
            <a:off x="2187360" y="563868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ecuenciamiento de Dos Máqu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09680" y="365760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09680" y="2857680"/>
            <a:ext cx="245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B267-060B-4E87-9684-153CAC8390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menor es para la tarea A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 al fi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C en la máquina 2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final, antes de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B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 al princip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uego el menor tiempo es para E en la máquina 1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 al comienzo, después de B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inalmente D se ubica entre E y 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2A54-1DE4-4F04-AD77-D0189CD36A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5A474-FEB3-4655-A202-66757B9175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cuencia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General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 muy comple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utilizan modelos matemáticos y heu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bi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ejecu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or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s de ope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las máqui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3614-05D5-4349-8497-7BE348AD80E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8618-6791-4EE8-9806-D1E6736B39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2D3D-91FD-4AD4-95F9-3AEF46C794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E296F-081E-46F8-9BF7-1A6F311D34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7F216-811A-4AFD-9500-D85F38D585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955B-55AF-4223-A1B6-3AFF8EEBC86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0F75B-C879-47BD-9685-F297A06D306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72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EDA0-DE6F-415A-963B-8FE8279C75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F35B-3CCE-4757-B3B1-BF0EB5F85EB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C7E7-331E-41DC-B12A-45BFEBA672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C2B8B-F19D-41C1-8285-B010BA4A3E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C55CA-9DFB-4C21-8CF2-D728AAB84C6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96AA-8337-468B-9210-AE0E3BE77F9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31A6F-EF7E-4987-8BCE-86AB63AA933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E2515-E0D3-4E6A-85A8-B330F0B971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03FF-A645-46D6-8BAB-9AD7ED12FB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9DE2-6128-4D2F-8433-B432D25A00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4918A-BB13-421D-971B-C46EC45E2C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4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742C-752F-4567-BB40-374B625D2D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.................</cp:lastModifiedBy>
  <cp:lastPrinted>2001-08-10T01:13:48Z</cp:lastPrinted>
  <dcterms:modified xsi:type="dcterms:W3CDTF">2008-09-02T23:00:43Z</dcterms:modified>
  <cp:revision>16</cp:revision>
  <dc:subject/>
  <dc:title>Gestión de Operaciones</dc:title>
</cp:coreProperties>
</file>