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C9BE-1D44-4E00-BEF4-02574A4B7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BA63-DC00-4E88-BF72-CDE208E9E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C0B1-648D-4F29-A9A3-9EAA685CE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E34F-2E27-4AE9-802C-F71DC0D90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70CF1-23E3-4477-A5E4-7F1AA32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49F27-B4AD-488F-850F-B3D72E4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C77CD-0F8D-4782-B6EB-C1421A7E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E1B3E-1B0F-4B23-AE65-4FC4BC2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36D8-ADD5-4821-B2DB-6035073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ECF5-8C2B-4B04-8694-47ABF8A9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DF7E1-E027-42A2-8786-09B1812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D14A-950D-445C-9E3E-CBA4028B9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B6E4-3690-443B-956A-11E0394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539C-36ED-4615-B610-6D40076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1F29-A8D5-4CE3-A992-E832E77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7C559-227C-4FF7-B97D-F77A5E73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B4F75-F8C3-442C-A8FA-233DF6DA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9830-3777-47F4-8EBA-3FB0D8BDE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0850-4DF6-40C4-8EF0-DEBD1C2E4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BE33-CC3D-4DD8-BB61-0BB779030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4E67-F9A1-4E69-9099-61D68F6F5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CB8C-0C40-4FB1-86CD-1326B67D1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BF82-6D67-41EC-8601-8B69247F6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FB69-DB82-44A2-B6BD-1FDB9B24C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105160" y="627696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D2A-9BD9-4D97-AC56-1F8F9BBA20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6AFB-FF09-46EF-B4AC-4FAE9A19FCA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pítulo 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4C33-22E8-4F79-94D8-3D046DE0B6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- 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6ABD-49E2-4D48-8032-DE1A01660B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- 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- 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83B1-BCAB-43F4-9C7F-7DB8BB98E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6400-04F5-49FF-8870-83E3ACFB4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quemas de Solución Ejemplo simple de Un produc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pl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s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venientes para casos complejos de producc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o frecuente y exito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594F-3C95-42C7-9875-B95E041DA5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0E75-EE20-4F3C-84D7-AC02C3A4E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A6CB-8E44-4489-A53F-3C5DE31786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A7B6-1F05-4E6F-8E75-76B257C6C8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142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992C-3905-4880-A418-5A6A9650DC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2215-4A9C-40F5-A288-17DC582088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izonte típico: 12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ción de productos en demanda y produ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maneja la oferta y en menor gra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26255-E1E0-411A-A747-FAA984120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6805-05E2-4CB6-B9FA-847C83DA15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CD7A-424B-4A2E-AE8B-C4112BDAAF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2424240"/>
                <a:ext cx="769608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n 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área d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apacidad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demanda del destino j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cosecha del rodal s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fijo de construcción de un camino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6B91-422F-41E9-A31F-12D6D7D946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00200" y="2833560"/>
                <a:ext cx="594360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ectareas del rodal s cortada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volumen de madera que sale de 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flujo de madera en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si se construye camino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,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en 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E9BB-7527-4D21-A758-C5A115B1E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de madera por rod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Área por cort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09880" y="2862360"/>
                <a:ext cx="4132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801800" y="3875040"/>
            <a:ext cx="58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i]: conjunto de todos los rodales que cargan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ra en el orige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076480" y="5470560"/>
                <a:ext cx="4248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8273-C47A-4456-8B45-9BFF6298BB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jo puede existir sólo si se construye cami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81080" y="2341440"/>
                <a:ext cx="594360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si j es orige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si j es intersec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06640" y="5105520"/>
                <a:ext cx="43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 j, 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28E2-FCC6-4B1B-8047-112BD975C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eza de las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30320" y="2590920"/>
                <a:ext cx="436896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s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D0C9-D222-43C0-90A6-E59C483E4B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5800" y="2743200"/>
                <a:ext cx="8077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d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Ventas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secha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Transporte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e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nstrucción</m:t>
                                </m:r>
                              </m:lim>
                            </m:limLow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0413-006C-4D98-92EB-1D1E39A57D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ilidad en la producción fu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aciones se consideran fi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A378-53BA-458E-B152-C9E9E4B3E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B5E8-3833-4A24-9487-A142518735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C612-16C3-4309-AE95-8DC2859CC0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Para Manejar la Ofer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07B0-0FC5-4216-8945-7F59C5EB62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FDDE-48F5-4239-B66B-B466ECF42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0FEE-6AC3-4E85-B8A3-BC553F8C4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7976-704A-4EC3-801C-EA7E0F838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.................</cp:lastModifiedBy>
  <cp:lastPrinted>2002-05-03T22:14:12Z</cp:lastPrinted>
  <dcterms:modified xsi:type="dcterms:W3CDTF">2008-09-02T14:34:17Z</dcterms:modified>
  <cp:revision>18</cp:revision>
  <dc:subject/>
  <dc:title>Gestión de Operaciones</dc:title>
</cp:coreProperties>
</file>