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B6CC-93B4-44AF-B603-B8579F992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807E-60CD-4DF7-A3D6-DF7F98255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91A6-6A45-4071-A52A-7D3BE411E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8993-058A-4864-A31A-53E57AB50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FD6B4-248E-4E78-AAD0-2F82B405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F7953-0E4D-4A5E-896E-29F342C4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56280-80FC-491A-A5B1-F6F7851E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D61FE-2F49-4DA0-9D6E-7AB4D4DC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7475D-A380-4CEF-9083-C16ECE8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A5709-9155-4B0F-A95D-1E767006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621A9-1F78-412F-AA3C-6A6621A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150D-E4BD-4E83-B2B1-6F0D41616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03977-6AE2-4232-BF96-F4E65E4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0DCB6-CBAD-452A-ACBB-05C853B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E202D-8DE2-46BC-A6B9-10CE80DA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DBF6B-93D1-412E-864A-F3A0E54A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3078A-6A0F-4DA2-9277-BEC60531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3214-0C2B-410D-A273-B5235D8C5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969E-D126-421B-BCB1-A9DE8BFBE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5BDB-78D4-483A-9733-0A3F9E648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3BA6-CBDC-4158-9A02-764F23BBB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D4E2-D444-4AF9-8FE0-370735DDD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CE5E-A8BD-46C1-9DED-241CDE9D9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E0D3-6879-4FCF-876F-60EDBEDA8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105160" y="627696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172D-28E4-4685-9006-860383A58E8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6C97-04D3-419D-987D-CD2BBD625C1C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pítulo : Planeación Agre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- Costo de contratación y desp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lu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o so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de desahu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AA4E-D7A9-42AA-B48A-5B2082683F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- Costos de horas extras y horas no trabaja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bajos de mantención en una 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- Costos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olescenci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7442-E536-4B6B-A49E-B01700118D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- Costos de subcontratistas y mano de obra eventu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 de produ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- Costo de agotamient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F204-BE52-4717-AD0E-2EA9497871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las de Decisión por Lóg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ir entre una forma nivelada y una siguien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en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nóstic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onstante de suav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38280" y="5192640"/>
                <a:ext cx="5715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0</m:t>
                    </m:r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7E40-0748-4667-8E47-4BA8E3D237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quemas de Solución Ejemplo simple de Un produc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aquetes comercia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t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pl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si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onvenientes para casos complejos de producc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gramación Line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o frecuente y exito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antidad a produci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demanda a satisface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nivel de inventario del período t al t+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0319-DDE5-457B-95A3-0B5C554A8F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tiempo normal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sobretiempo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os subcontratistas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añadida por contrat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perdida por desp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CB8D-5047-4198-9C4A-BCC2877050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bás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de produc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onibilidad de sobre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94000" y="2590920"/>
                <a:ext cx="4032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62320" y="3657600"/>
                <a:ext cx="4092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390760" y="4795920"/>
                <a:ext cx="4033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2D47-1890-49BB-BC66-33340F7105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ndo 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06600" y="2168640"/>
                <a:ext cx="5289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82920" y="3805200"/>
                <a:ext cx="4330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EE4E-F82E-4ECB-9DE3-0209C181EB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de contrat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333240" y="487692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el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2590920"/>
            <a:ext cx="3510360" cy="2034000"/>
            <a:chOff x="3048120" y="2590920"/>
            <a:chExt cx="3510360" cy="2034000"/>
          </a:xfrm>
        </p:grpSpPr>
        <p:sp>
          <p:nvSpPr>
            <p:cNvPr id="142" name=""/>
            <p:cNvSpPr/>
            <p:nvPr/>
          </p:nvSpPr>
          <p:spPr>
            <a:xfrm>
              <a:off x="3048120" y="4343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72000" y="2590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7200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0952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33412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327636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5520" y="43178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7720" y="312408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4200" y="38480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24240" y="3962520"/>
              <a:ext cx="534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-L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7572-6E78-4BF9-A6F8-7ED213748A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el caso no lineal a tram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la función objetivo el costo 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752480" y="4073400"/>
                <a:ext cx="6902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08600" y="4937040"/>
            <a:ext cx="665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o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primero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canza valor f antes qu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eda ser 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62320" y="2144880"/>
                <a:ext cx="37638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C312-9017-474C-8CA5-7C96FE52EB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izonte típico: 12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ción de productos en demanda y produc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maneja la oferta y en menor gra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7859-17B3-44E4-898C-E3C00E102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ivel de planeación agregada no se ve el detalle de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fábrica de calzado, con 500 modelos y 8 números por model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.000 decision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e número se puede reducir por ejemplo a 50 agregando por similitud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E8C5-E524-4F71-91DA-BC55DA718F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 existir consistencia entre el nivel táctico y la producción detallada pos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vez agregado se tiene una caja negra, es decir, debe dar lo mismo cuanto se hace de cada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no se pueden agregar mocasines con boto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lución agregada ind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genera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financi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rimientos de personal y maqu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 necesa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9F04-8885-4040-9610-8F45D9EE49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2424240"/>
                <a:ext cx="7696080" cy="36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: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n el rod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área del rod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apacidad cami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demanda del destino j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cosecha del rodal s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 el arc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fijo de construcción de un camino en el arc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D49B-3CAF-433C-B039-B36E5A5ADC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00200" y="2833560"/>
                <a:ext cx="5943600" cy="23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número de hectareas del rodal s cortadas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volumen de madera que sale de s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flujo de madera en cami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si se construye camino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,j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en 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7E41-2A3B-43B2-8D0D-7183B24194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de madera por rod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Área por cort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09880" y="2862360"/>
                <a:ext cx="4132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i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801800" y="3875040"/>
            <a:ext cx="58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i]: conjunto de todos los rodales que cargan 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ra en el orige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076480" y="5470560"/>
                <a:ext cx="4248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    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A6A4-9342-4CD0-A226-0DFB7EEE1C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jo puede existir sólo si se construye camin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81080" y="2341440"/>
                <a:ext cx="594360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r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si j es orige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si j es intersecció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06640" y="5105520"/>
                <a:ext cx="43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i, j, 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9AF0-FE36-4B4F-8AD2-1BC0CAFF6B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eza de las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30320" y="2590920"/>
                <a:ext cx="436896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s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 j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 j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A7EA-CC19-4465-A54F-E50D6CFDAD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85800" y="2743200"/>
                <a:ext cx="80773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d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d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>
                                              <m:e>
                                                <m:r>
                                                  <m:t xml:space="preserve">w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Ventas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t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Cosecha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Transporte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Sup>
                                              <m:e>
                                                <m:r>
                                                  <m:t xml:space="preserve">e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Construcción</m:t>
                                </m:r>
                              </m:lim>
                            </m:limLow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9DD6-0E46-42EA-9268-B68F47D928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tivos típ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ación de beneficios (minimización de cost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ar 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ilidad en la producción fut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enas relaciones labo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ben ser consistentes con el nivel estratég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aciones se consideran fi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BBF8-EFCC-439B-9CB4-DAF79776B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- Para Maneja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ajar precios para alisa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es los días miérco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ifas de hoteles fuera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quidaciones: venta de ropa en fin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 Management: líneas aér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ris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mé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1992-14A9-40E6-B381-059C154DB3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arrollo de productos complem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aurant tipo almuerzo ofrece com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endas de deportes combinan ski con deportes náu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D3CD-5FA6-4A9C-B36A-890A971CA9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- Para Manejar la Ofer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os cost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as extras y semanas cor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Eu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mano de obra tempo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inv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alisar la producción en demandas estacion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BCD6-9E21-40AF-A11D-3CC105520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ontratis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eglos de cooperación (alianzas estratégicas o táctica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rolín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te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77D1-C718-4216-927F-5D02035408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velar la Fuerza de Trabajo y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lquier variación en la demanda debe absorberse mediante el uso de inventarios, tiempo extra, subcontrataciones, arreglos de cooperación o cualquiera de las opciones que influyen en la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uede incurrir en 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75A5-5F6B-4B98-81A8-23607120C9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i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ste caso la fuerza de trabajo absorbe todos los cambios en la demanda, sin necesidad de mantener inventarios ni utilizar alguna de las variables disponibles para la planeación agreg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den utilizarse estas dos estrategias puras junto combinaciones entre ellas para satisfacer las fluctuaciones de la dem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5E75-A367-46E8-B445-11223B14C7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.................</cp:lastModifiedBy>
  <cp:lastPrinted>2002-05-03T22:14:12Z</cp:lastPrinted>
  <dcterms:modified xsi:type="dcterms:W3CDTF">2008-09-02T14:34:17Z</dcterms:modified>
  <cp:revision>18</cp:revision>
  <dc:subject/>
  <dc:title>Gestión de Operaciones</dc:title>
</cp:coreProperties>
</file>