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4DCB-ACC1-4B49-A5B8-5927B3A03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C9E8-C60C-45CC-B2EB-14A5BFB54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1058-4BF6-4129-857C-18DA99318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4A1B-C28E-469D-A901-102905BCC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AAA0F-7FCB-4F1A-8EB5-1FA92794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474B0-6861-46D5-A21E-53F360C3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608D5-3937-4111-8260-417FAF59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5D9CB-104F-4D02-BBB3-9C3E74C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9F43A-AE65-4C1E-9ACE-D35249A0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97ECE-7712-4969-AF51-ED580000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84716-E4F4-4EDB-9012-C200949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1F54-9DEA-4A56-8403-195F814BA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7BD68-47D6-4C9A-9453-A7AA5531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661DD-4631-491C-81B5-74DFA35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BA181-4BDB-4B5C-BBA2-4B1DA41A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FE22A-FFC0-4D36-AB97-31544922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E5277-1CA2-4264-AE25-2C99C89E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E1D1-7AE3-459A-8CF6-1F3F6A228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EA26-08AE-4B51-B9CF-3EDEF8EF8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5B96-CDBC-4733-ABA9-381757702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8AC3-4A66-4FD2-A9FC-9B1478691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0D5B-5703-4C74-B206-F68CD6915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E57C-3001-4240-BD39-E0FBAB525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9BA4-4B12-4A72-9900-5652A0F2D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105160" y="627696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80E-95E1-47B7-80B9-5E878AAC7E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33F6-5F9D-4135-8E80-DBDA18C7E1F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pítulo : Planeación Agre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- Costo de contratación y desp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lu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o so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de desahu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AA67-A4E4-4636-B6EF-28DD519846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- Costos de horas extras y horas no trabaja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bajos de mantención en una 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- Costos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olescenc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06A3-56C6-49DB-AC5D-A46620D81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- Costos de subcontratistas y mano de obra eventu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 de produ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.- Costo de agotamient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3AE8-7B2E-42AA-BDE3-00529EC04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las de Decisión por Lóg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ir entre una forma nivelada y una siguien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en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nóstic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onstante de suav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38280" y="5192640"/>
                <a:ext cx="571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0</m:t>
                    </m:r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77D5-099C-4E59-AE58-FD795C7CFB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quemas de Solución Ejemplo simple de Un produc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aquetes comercia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t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pl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s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onvenientes para casos complejos de producc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gramación Line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o frecuente y exito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antidad a produci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demanda a satisface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nivel de inventario del período t al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13EE-4BA8-4785-9672-41DC0B6146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tiempo normal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sobretiempo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os subcontratistas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añadida por contrat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perdida por desp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F4A4-90D4-42D5-BA91-21F36C6D10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bás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de produc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onibilidad de sobre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94000" y="2590920"/>
                <a:ext cx="4032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62320" y="3657600"/>
                <a:ext cx="4092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390760" y="4795920"/>
                <a:ext cx="4033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F2A0-53E5-4364-A6D9-66620E2E16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ndo 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06600" y="2168640"/>
                <a:ext cx="5289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82920" y="3805200"/>
                <a:ext cx="4330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72B4-F582-44DE-A874-DC2D5AC08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de contrat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333240" y="487692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el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2590920"/>
            <a:ext cx="3510360" cy="2034000"/>
            <a:chOff x="3048120" y="2590920"/>
            <a:chExt cx="3510360" cy="2034000"/>
          </a:xfrm>
        </p:grpSpPr>
        <p:sp>
          <p:nvSpPr>
            <p:cNvPr id="142" name=""/>
            <p:cNvSpPr/>
            <p:nvPr/>
          </p:nvSpPr>
          <p:spPr>
            <a:xfrm>
              <a:off x="3048120" y="4343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7200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7200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0952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33412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27636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5520" y="43178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7720" y="312408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4200" y="38480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24240" y="3962520"/>
              <a:ext cx="534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-L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94F1-1C3D-4DEC-8ABC-87E5A8F5C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l caso no lineal a tram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la función objetivo el costo 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752480" y="4073400"/>
                <a:ext cx="6902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08600" y="4937040"/>
            <a:ext cx="665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o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rimero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canza valor f antes qu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eda ser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62320" y="2144880"/>
                <a:ext cx="37638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E30A-1577-4072-A2C3-210DC4C525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izonte típico: 12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ción de productos en demanda y produc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maneja la oferta y en menor gra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EE85-272A-4B8A-B65D-788C5BD82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ivel de planeación agregada no se ve el detalle de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fábrica de calzado, con 500 modelos y 8 números por model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.000 decision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e número se puede reducir por ejemplo a 50 agregando por similitud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4079-2353-4687-AD02-372FEC4674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 existir consistencia entre el nivel táctico y la producción detallada pos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vez agregado se tiene una caja negra, es decir, debe dar lo mismo cuanto se hace de cada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no se pueden agregar mocasines con boto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ción agregada ind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genera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financi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rimientos de personal y maqu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 neces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0DCA-A587-4F51-B657-361AFC35F0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2424240"/>
                <a:ext cx="7696080" cy="36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n el rod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área del rod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apacidad cami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demanda del destino j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cosecha del rodal s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 el arc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osto fijo de construcción de un camino en el arc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el período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4750-EE3B-48A5-B59D-A5B4873314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00200" y="2833560"/>
                <a:ext cx="5943600" cy="23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ectareas del rodal s cortadas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volumen de madera que sale de s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flujo de madera en cami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si se construye camino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,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en 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9A8E-7F0B-4D8B-9DC2-67462AFB29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de madera por rod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Área por cort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09880" y="2862360"/>
                <a:ext cx="4132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i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801800" y="3875040"/>
            <a:ext cx="58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i]: conjunto de todos los rodales que cargan 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ra en el orige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076480" y="5470560"/>
                <a:ext cx="4248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    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5F7C-DCC3-422B-AB15-9571201459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jo puede existir sólo si se construye camin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81080" y="2341440"/>
                <a:ext cx="594360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r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si j es orige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si j es intersecció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06640" y="5105520"/>
                <a:ext cx="43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i, j, 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96CC-4684-44C0-B8A9-82E77CC7D3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eza de las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30320" y="2590920"/>
                <a:ext cx="436896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s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 j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 j,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E629-77DC-425E-B129-1019C9077B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ducción y Diseño de Camin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85800" y="2743200"/>
                <a:ext cx="8077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d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d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>
                                              <m:e>
                                                <m:r>
                                                  <m:t xml:space="preserve">w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Ventas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t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Cosecha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Transporte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/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sSubSup>
                                              <m:e>
                                                <m:r>
                                                  <m:t xml:space="preserve">e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nary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Costo Construcción</m:t>
                                </m:r>
                              </m:lim>
                            </m:limLow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50AB-686B-48E5-AEB8-FB16F65659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tivos típ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ación de beneficios (minimización de cost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r 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ilidad en la producción fut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enas relaciones labo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ben ser consistentes con el nivel estratég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aciones se consideran fi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2738-C202-4448-B89F-A618BBC7C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- Para Maneja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ajar precios para alisa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es los días miérco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ifas de hoteles fuera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aciones: venta de ropa en fin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Management: líneas aér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is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mé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1CCF-F22D-42A8-A996-6C7D78B23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arrollo de producto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aurant tipo almuerzo ofrece com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endas de deportes combinan ski con deportes náu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326F-FF63-4B13-8279-F9DCD61A60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- Para Manejar la Ofer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os cost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as extras y semanas cor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Eu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mano de obra temp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inv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alisar la producción en demandas estacion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87A0-5C45-41BB-A37E-62D06ED4A7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pciones de Toma de Decis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ontratis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eglos de cooperación (alianzas estratégicas o táctica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rolín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te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22E0-E407-4DE0-B126-1439BEC745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velar la Fuerza de Trabajo y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variación en la demanda debe absorberse mediante el uso de inventarios, tiempo extra, subcontrataciones, arreglos de cooperación o cualquiera de las opciones que influyen en la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 incurrir en 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0AD3-2043-4086-9227-7EB5A3517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i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ste caso la fuerza de trabajo absorbe todos los cambios en la demanda, sin necesidad de mantener inventarios ni utilizar alguna de las variables disponibles para la planeación agreg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den utilizarse estas dos estrategias puras junto combinaciones entre ellas para satisfacer las fluctuaciones de la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69BC-511C-4696-A79E-4A3C62443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.................</cp:lastModifiedBy>
  <cp:lastPrinted>2002-05-03T22:14:12Z</cp:lastPrinted>
  <dcterms:modified xsi:type="dcterms:W3CDTF">2008-09-02T14:34:17Z</dcterms:modified>
  <cp:revision>18</cp:revision>
  <dc:subject/>
  <dc:title>Gestión de Operaciones</dc:title>
</cp:coreProperties>
</file>