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061F-F299-42B9-8D8E-4BAFCDF1C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C007-5F69-45EE-8DCC-E16F25F10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D4A4-301F-4AC9-80DE-590854AE9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8FBF-860B-479F-88B0-6763E5408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9168C-4D76-48C5-BFF1-8CA1AB64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65329-C241-4561-AC8D-2574A78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E4DC2-2C27-418C-97BB-32307783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5F59-D08C-488B-A513-E22A9200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C5240-BCF3-495C-AB09-1B4C2FE6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F975A-7725-4804-BA57-8739D421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273C4-86A5-47B7-A32F-A1200A6E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F6D62-4F94-42BC-B924-6DE5C78DA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05BEB-C2B9-46CF-BD6A-96C1CC8A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E7E3F-90FD-4C95-9F10-C58B635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EA245-464D-4AD0-AC30-2E9BCA85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59382-4DC7-4D8E-B0E6-43D0898B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350B-3694-4452-876A-A623BBA0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796A5-A66B-4238-A26C-C97BCADC0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3603-4D42-4473-9D51-00CAB9131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7425-C111-425F-801E-A1D75314C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4420-354A-40C0-B617-9C11E698F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14947-042C-4D92-AA01-255B58E89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F5CF-001E-4B19-A5CA-E4A036DF1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1E7F-F531-4D2D-9458-EE940A6B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5237-7578-403F-9BB8-7974680D06A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685F-C441-409F-A6C9-470C85CA7A75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F3D2-DF1D-426D-877A-CE87D09247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8F6D-3FF6-413E-95BA-6F4010768C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3F742-F9FE-4466-B24B-74A5374E8E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0B87D-5D2A-44E8-BA60-C73779194A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CC80-AB43-4C32-B1C5-BFF24252B3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4EB4-489C-41E2-AB4D-AAD578419F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9A32-F7E0-437D-B225-A736DC504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64DAA-25F8-4068-975B-67267B818B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4D46-86DA-4383-8E61-2C0EB3654B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B4B2-4FD8-4962-8BCE-2FFA5C851D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65F59-81DB-4658-825A-354C3741AA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5707-8D03-47ED-AA1E-A50CD8E55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8-08-27T23:03:35Z</dcterms:modified>
  <cp:revision>156</cp:revision>
  <dc:subject/>
  <dc:title>Comercio Electrónico</dc:title>
</cp:coreProperties>
</file>