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5F95-61A6-4E4C-94F6-878A21DBD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A422-8017-47A2-AB61-84298248C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6873-E403-4A07-8E1C-0B07DABAF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9F04-3389-42A9-B535-E260859BA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BEE29-94BA-476C-A307-CDA19D7F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C54C-5F53-450E-A9EC-F098EB29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AD6EC-606C-4BCF-9512-47672761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DA7DC-4ECB-40A2-9BA3-DB938084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FC314-E0C1-4F8F-80FF-4F0BA98F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512F4-EDBC-4E57-8649-22947277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1E0AD-921F-41AF-9C4B-301E76A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0B32-96EB-40F3-990B-D6FD0860C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1170C-1C5C-4779-ADA1-EFDA4E5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B796E-0963-4D66-BBE6-4CE3F658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79DE3-55CD-40E9-AD5B-DAFAF700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179DF-1FC6-429C-AF57-399AF9E6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185B-9A5E-485B-9FD5-180565EF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A772-13D9-4DC5-8A53-A03ACBAB0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E12E-F508-4721-92B8-5BD2CAE9B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EABD2-5B06-4942-AEF4-C4CB18DAA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22C2-7DE4-46E1-885C-1E7C7B8F0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14AF-3F07-405B-98E6-F554CE6AD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82BB-E222-4488-A056-FC78CBFDA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CA00-0A4E-4A62-A0F5-C2969BE2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FCEF-84D5-441E-8BD2-D4752BF7E3D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6271-F48A-4E4C-A19E-5BE45F69BF9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B9BC-7F2A-414C-97EC-B6B6CFF6D0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B645-6C94-4ED7-8D4E-970BA937BE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43D7-F115-4E72-A2FC-3823B1AE29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6D70-A0B4-4D9E-BAD8-705316535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019F-7823-4B90-B424-4F0DAF8C6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80CB-EC5C-4AF8-A2FA-E115C2879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B318-41B1-4768-AF0C-E3D987C71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6669-98E2-4A87-B785-F40679B6DF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84CA-61AA-40A5-9CFA-E92128D04C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9B39-7D6F-4E45-9DC0-CCEABF2A2D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01FB1-664C-4C12-ABB2-CD7531FA98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30AC-4247-4E81-9849-6A9596EB6C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8-08-27T23:03:35Z</dcterms:modified>
  <cp:revision>156</cp:revision>
  <dc:subject/>
  <dc:title>Comercio Electrónico</dc:title>
</cp:coreProperties>
</file>