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6779-1C76-4FF1-A3A4-8CF9F4F4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352F-DE7C-4D02-A7B1-7C0B6562D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7001-CFE8-4333-B227-00D838CB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19A3-E7BF-4A01-B8FB-F861C1CA9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069EA-12B6-4A6B-9D4A-441BEB81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69748-D3A2-425E-80F5-3618F865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39A4D-0D28-4C19-996D-0A699B3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4BD0B-467C-4D92-9AAE-BC29E3A6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F7E3-DE50-479C-BE57-8DCDEDE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3F2C1-5E9F-4DEF-AA5B-BCD7DA5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9459-BB9C-418C-A2DD-C9251DDA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8D43-26C3-454E-89DF-C5B67A2B2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F1035-73A2-498F-AAE5-6823F3E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1AC1-0700-4991-9893-96D2592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58FB-5596-4A6E-B763-961ABA72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D57E5-806B-403B-965F-439453E7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68C74-A3D5-4886-A4A9-5EDB3AB3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4EEE-3E11-4F24-9B96-54D6633D5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9873-2F39-4350-8299-280B8AFE5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DA2F-71CD-48C1-AA12-984AB222E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5F91-806B-446C-A1DA-52CD2C665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5F9A-C66D-4B44-8A78-EEF813554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B025-B8CD-47EF-8B58-B125E9DF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10B8-E075-49F0-B35C-6043EDD48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89F0-29B4-44B9-88A3-C1096967811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636-1FFC-4B95-A099-AEDF3AFE9E09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92B4-B98E-4F98-97F8-6C75226B9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87CA-BA8A-404A-AF6D-581698AEE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0079-53C3-4035-BA42-AFA11DCF95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4A66-8FC2-4F16-AE91-6F1526B83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76ED-6C2C-47A7-9885-D9B0D9EB04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AE46-7A65-4CC1-BA36-D68A3EB10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0548-25D8-4D14-80F7-43385F52FC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C31D-276A-454A-873A-8BAD842C2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C784-82D0-4655-B088-B6F393C95C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3D58-BA4A-497F-BFD7-F9AE7A1EB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E254-6A75-41B2-88AB-DC80EED8C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7AF2-C39D-4CD6-A843-B458D56197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8-08-27T23:03:35Z</dcterms:modified>
  <cp:revision>156</cp:revision>
  <dc:subject/>
  <dc:title>Comercio Electrónico</dc:title>
</cp:coreProperties>
</file>