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8D724-162F-41FE-8465-A8CA915C2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443B-A74E-498F-8D94-8A9067379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7712-FF32-4682-9F2D-AC4FAC443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750C-4A31-4BEE-8E77-1E7F1958E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3EB86-6F63-415E-8387-B6892947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01C35-A21F-4049-961A-EDA5C39D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B2052-CE31-43F2-83CD-527526B5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146AF-A907-41D0-8C61-6ECC910D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4D47F-F4A8-4E12-97F6-1F9570E0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2F3FD-6FAA-4F35-95B9-C1050147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F37A5-848E-4CC3-97BA-26F5A585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1010-5E3F-428A-AC56-4FBFF8625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FF74B-D835-4A73-A6FE-B4287D29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89DED-0B5F-40D7-AFF3-BEBF009A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692D9-DC5B-4CA2-A934-3B44ACE6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1664A-5046-470A-9E52-F8D06015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7F656-B991-4574-8F9B-413ED309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7285-60F6-4FDC-B1E1-C5B311F87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C8C4-7CC5-46D5-89E9-415CD4AFC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CAF8-8F3E-41AE-BFBB-5EBBA4D2E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F783-3327-4169-BBC7-D697548B8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39ED-5A74-447F-9BFF-285DE2456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990D-ED1F-437E-8E18-BDCAD1A98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C101-2CFF-499D-A643-8EDBFF609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E5E0-4003-4E60-92D3-0A83811DBF2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A49E-3F05-4684-A233-80B01994CE25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7902-B944-4125-B9E1-2A48ED4548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BE82-34D9-4894-87A6-1E85A0E77E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7F97-7C94-4E82-A2A3-A187333A80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FDE6-3E6E-47D4-A44E-019CAE509D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C766-10A1-4A9E-B49F-6461999ED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6F59-954A-435A-A532-8C14A406A6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D05C-99E0-4DA0-92FD-AC0051B13A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3041-8D33-465E-AAD8-122DE400FE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D3F4-BE4A-4020-A167-818B0B59A2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B3C5-0245-43FE-8ED3-302065C6EE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0BDC-CF86-4E51-A80D-3DAD1889EA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205A-6301-4C97-831B-4D2132B4C5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8-08-27T23:03:35Z</dcterms:modified>
  <cp:revision>156</cp:revision>
  <dc:subject/>
  <dc:title>Comercio Electrónico</dc:title>
</cp:coreProperties>
</file>