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54B2E-920A-432C-84C5-27BA83FFA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4610-2564-43EE-B110-9F86C8168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0855-4447-4ECF-869B-D3517A7E6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AC2A-713D-4D17-B9B0-6A19F7815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CAEFC-96EC-49CE-8121-5927D44F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A3F0E-EB77-4881-BF20-B20C5564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9A386-46B0-4DAA-A914-E967DC4F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9A9CC-5A8F-491C-B8BC-B7AC3395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76F44-B734-4526-972A-8F84BEC3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1D038-B2D7-45AD-A886-EDF1973F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3CFA2-40BB-48B9-8667-079A357E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0930-E60E-46AB-A691-694A2C3D3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5D11D-A206-43A1-BC22-56BF25B2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9A05D-BE64-4392-9F0C-76553884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A5767-24FE-4B7C-84BF-2B6DE44D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1F2B2-B3A7-4F0D-8E88-093A7801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72D60-D0E8-4756-BD30-678828AD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7025-FA0E-4B9D-9F27-EEB5B0C28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A855-9EB3-4104-8FCB-8C5C36AED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9ECB-2CCD-4998-A6C4-8AE077055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5A0E-A481-4579-87B3-47C702E8A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0598C-238B-41CC-9125-6BA9E27B4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FB8F-414B-471C-912F-ECC162A0C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EE90-752A-48DC-B7CF-114EC65BB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8A90-1E40-4AAE-A3CB-DF3AAD7AAAA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A19A-2CB3-4A75-A118-191EE624DE89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0CBF-B8F2-4C81-8B69-59CE7297C7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233D-A176-41DE-B55F-14330B3A8A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4CB6-8496-4B34-9850-63D00B746D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BD59-93A5-497A-AF0C-539049CA0A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37BB-F482-40ED-A8DB-BE23894178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CEB7-562D-4D6F-92C8-053FA858B3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ECD4-02F8-4463-BEA6-68C88942FF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B662-25BF-4A08-AFA0-E936FF0722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0E91-867F-4C05-8C85-1AF62045E9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78CA-6B7E-4CEA-8DCD-692DF1BEDB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D8E2-2A42-4919-8A33-BA4921F079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14D6-35B3-4B65-A77E-288DEFA63D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8-08-27T23:03:35Z</dcterms:modified>
  <cp:revision>156</cp:revision>
  <dc:subject/>
  <dc:title>Comercio Electrónico</dc:title>
</cp:coreProperties>
</file>