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3290-3DB7-4DCF-9F5A-989D5971524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23.xml"/><Relationship Id="rId3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25.xml"/><Relationship Id="rId3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6179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2629080" y="5384880"/>
            <a:ext cx="37540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5" name=""/>
          <p:cNvGrpSpPr/>
          <p:nvPr/>
        </p:nvGrpSpPr>
        <p:grpSpPr>
          <a:xfrm>
            <a:off x="-88560" y="1074600"/>
            <a:ext cx="2537640" cy="7153200"/>
            <a:chOff x="-88560" y="1074600"/>
            <a:chExt cx="2537640" cy="7153200"/>
          </a:xfrm>
        </p:grpSpPr>
        <p:sp>
          <p:nvSpPr>
            <p:cNvPr id="496" name=""/>
            <p:cNvSpPr/>
            <p:nvPr/>
          </p:nvSpPr>
          <p:spPr>
            <a:xfrm>
              <a:off x="-85320" y="107460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-88560" y="52408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440" y="147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440" y="17154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440" y="21877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40" y="19515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4440" y="24238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440" y="2660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440" y="313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4440" y="289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440" y="33681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440" y="36043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440" y="40766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440" y="38404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4440" y="56307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40" y="58669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440" y="63392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440" y="61030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440" y="65750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440" y="68112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440" y="728352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440" y="704736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440" y="751968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40" y="775584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440" y="82278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440" y="7992000"/>
              <a:ext cx="2384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C9EB-AC8B-4466-9255-83E4270DD3F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2B5-0B39-4B51-9C2D-2E41B2184E0A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506520" y="1293840"/>
            <a:ext cx="3778200" cy="2833560"/>
          </a:xfrm>
          <a:prstGeom prst="rect">
            <a:avLst/>
          </a:prstGeom>
          <a:ln w="0">
            <a:noFill/>
          </a:ln>
        </p:spPr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2" name=""/>
          <p:cNvGrpSpPr/>
          <p:nvPr/>
        </p:nvGrpSpPr>
        <p:grpSpPr>
          <a:xfrm>
            <a:off x="4330440" y="1127160"/>
            <a:ext cx="2536560" cy="7152840"/>
            <a:chOff x="4330440" y="1127160"/>
            <a:chExt cx="2536560" cy="7152840"/>
          </a:xfrm>
        </p:grpSpPr>
        <p:sp>
          <p:nvSpPr>
            <p:cNvPr id="533" name=""/>
            <p:cNvSpPr/>
            <p:nvPr/>
          </p:nvSpPr>
          <p:spPr>
            <a:xfrm>
              <a:off x="4333680" y="11271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330440" y="529308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83440" y="15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83440" y="17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83440" y="2240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83440" y="2004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83440" y="2476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83440" y="2712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83440" y="3184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83440" y="2948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83440" y="3420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83440" y="3656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83440" y="4128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83440" y="3892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83440" y="5682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3440" y="5919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83440" y="6391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83440" y="6155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483440" y="6627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83440" y="686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3440" y="7335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483440" y="7099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83440" y="75718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83440" y="78080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440" y="8280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3440" y="80442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04C-C0DC-41EC-80AC-BF84F3B7A356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506520" y="1257480"/>
            <a:ext cx="3776400" cy="2831760"/>
          </a:xfrm>
          <a:prstGeom prst="rect">
            <a:avLst/>
          </a:prstGeom>
          <a:ln w="0">
            <a:noFill/>
          </a:ln>
        </p:spPr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15880" y="5384880"/>
            <a:ext cx="3757680" cy="28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66" name=""/>
          <p:cNvGrpSpPr/>
          <p:nvPr/>
        </p:nvGrpSpPr>
        <p:grpSpPr>
          <a:xfrm>
            <a:off x="4330440" y="1152360"/>
            <a:ext cx="2536560" cy="7151400"/>
            <a:chOff x="4330440" y="1152360"/>
            <a:chExt cx="2536560" cy="7151400"/>
          </a:xfrm>
        </p:grpSpPr>
        <p:sp>
          <p:nvSpPr>
            <p:cNvPr id="467" name=""/>
            <p:cNvSpPr/>
            <p:nvPr/>
          </p:nvSpPr>
          <p:spPr>
            <a:xfrm>
              <a:off x="4333680" y="11523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30440" y="5317560"/>
              <a:ext cx="55296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83440" y="15570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83440" y="17931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83440" y="22651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83440" y="2028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83440" y="25012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83440" y="27370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83440" y="320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3440" y="29732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83440" y="344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83440" y="36813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83440" y="415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83440" y="391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440" y="57074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440" y="59436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3440" y="64155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83440" y="61794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83440" y="66517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83440" y="688752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3440" y="73598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83440" y="712368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83440" y="759564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83440" y="783180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3440" y="83037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83440" y="8067960"/>
              <a:ext cx="2383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E6C7-DE41-44E2-AA4E-32D1D709A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6F10-89B5-40EF-8819-CA82DC3A7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40F7-37CC-4517-95D4-32648E160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CE04-816F-42E3-B0E1-F150F2C09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60296-BAD4-478B-956A-2507CB7A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5784C-FA31-4BF1-8D6A-DAE69903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387D2-7413-456E-BE3B-7FAF600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441E7-D4FC-4BA6-B85B-2DCF342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75BB9-2C87-4F19-864F-5276AC2F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2B030-DCDC-48D8-80A1-298206B2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63F23-FEA9-4502-A350-00569E97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F410-3A0E-4ABC-9AD5-4192B1056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03C14-908A-4C33-8BF4-EFE11C91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2F983-18DC-4E6D-BC7C-5A471D5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D22EF-9FFF-49A9-B6B6-84556135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F173B-DA9D-4AE0-A1B6-C37007C3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CE145-59B4-4FC0-B208-0EC7CC4C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AA71-0317-4EE3-B5C9-D05F84924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4EF4-7ED9-480C-BDBE-6629A0945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6D2D-EED5-4C82-A7D1-27D2DD469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909A-106E-4635-A863-23B0DBDCF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1D8FA-A93D-47C9-960F-E1F8CF3D1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6C3C-6CB6-41C0-BF6B-FD8FB2BC7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447C-A19A-4428-9CBD-D77A0AC6B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015F-94C9-4562-ABA1-AE66D77E7EA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DEED-D904-407A-B360-7BE1ABC23ABE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oyota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9051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4257720" cy="283860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3886200" cy="2874960"/>
          </a:xfrm>
          <a:prstGeom prst="rect">
            <a:avLst/>
          </a:prstGeom>
          <a:ln w="9360">
            <a:solidFill>
              <a:srgbClr val="990033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3DFF-BCDE-4533-8713-12EC699E1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315B-D6C7-4FA7-92A0-DE8FB3B38B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Proceso Continu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luye entre etapas sin interrupción. Las distintas etapa del proceso están perfectamente amalgam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3733920"/>
            <a:ext cx="9907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7339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3886200"/>
            <a:ext cx="3124080" cy="228600"/>
          </a:xfrm>
          <a:prstGeom prst="rightArrow">
            <a:avLst>
              <a:gd name="adj1" fmla="val 33333"/>
              <a:gd name="adj2" fmla="val 16943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fin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 y Farmacéu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CC7D-E515-43FE-8EB6-026C7300C2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0" y="1557360"/>
            <a:ext cx="56386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ísima Eficiencia (~ 90%+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poca flexi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utilización de equ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uy especi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fác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uy a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100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F3A3-A963-4E87-ABF2-B5BF3ABDC8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225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226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1BC9-F7A9-40BE-9CA0-295A99718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1B1A-E213-4FA1-8E00-270FFE2B9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485360" y="1712880"/>
            <a:ext cx="90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79040" y="171288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Lí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68480" y="1712880"/>
            <a:ext cx="72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Intermit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9360" y="1712880"/>
            <a:ext cx="55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86080" y="18954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85720" y="208296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pe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7400" y="2082960"/>
            <a:ext cx="80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s gran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6960" y="20829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52800" y="2082960"/>
            <a:ext cx="1172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ducción Contin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85720" y="242892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5812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n secu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86600" y="2428920"/>
            <a:ext cx="75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sord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53160" y="242892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inu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85360" y="2603520"/>
            <a:ext cx="1235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edad del produ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9200" y="2603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040" y="2603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53160" y="260352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85720" y="277668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59200" y="27766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as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8040" y="277668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or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53160" y="277668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specia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86440" y="2946240"/>
            <a:ext cx="49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9200" y="2946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8040" y="2946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53520" y="29462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6080" y="313056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86440" y="3316320"/>
            <a:ext cx="65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59200" y="33163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768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53160" y="33163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5360" y="348948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ipo de ta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200" y="34894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petiti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8804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3160" y="348948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86440" y="36608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al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59200" y="36608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804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53160" y="36608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85720" y="38433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85360" y="40291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5920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8040" y="40291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53160" y="4029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85360" y="4203720"/>
            <a:ext cx="55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42037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804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53160" y="42037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4373640"/>
            <a:ext cx="3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5848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86960" y="437364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2440" y="4373640"/>
            <a:ext cx="1230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espe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5000" y="4556160"/>
            <a:ext cx="57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87520" y="4743360"/>
            <a:ext cx="63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5920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8040" y="474336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53160" y="4743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85360" y="49165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59200" y="4916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040" y="491652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53160" y="49165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86440" y="5089680"/>
            <a:ext cx="42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8120" y="508968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st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88040" y="50896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508968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86080" y="525924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59200" y="525924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8040" y="525924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3160" y="52592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85720" y="5443560"/>
            <a:ext cx="1253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Control y plane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85360" y="5629320"/>
            <a:ext cx="123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5956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9120" y="56293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53520" y="5629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86080" y="580248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956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89120" y="580248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53520" y="580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86080" y="5973840"/>
            <a:ext cx="116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ontrol de 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5956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89120" y="597384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53520" y="59738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1670040"/>
            <a:ext cx="25200" cy="4468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10280" y="1676520"/>
            <a:ext cx="2556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73120" y="160020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73120" y="6113520"/>
            <a:ext cx="6985080" cy="74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89800" y="17035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3240" y="207324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13600" y="24192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ing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113600" y="2593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uy 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3600" y="27669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Ún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13240" y="2936880"/>
            <a:ext cx="91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Una sola un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13600" y="33066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13600" y="347976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o rutinar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13600" y="365112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3600" y="40194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13960" y="4194000"/>
            <a:ext cx="34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12520" y="4363920"/>
            <a:ext cx="1188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ropósitos gener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13600" y="47340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3600" y="4906800"/>
            <a:ext cx="21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13960" y="507996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13600" y="524988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4680" y="561960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14680" y="579276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14680" y="5964120"/>
            <a:ext cx="30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442360" y="168588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9051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311472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383868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54356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5419800"/>
            <a:ext cx="7010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03760" y="1681200"/>
            <a:ext cx="2556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241880" y="1676520"/>
            <a:ext cx="25200" cy="44431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1666800"/>
            <a:ext cx="25200" cy="4443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AF252-4314-4568-9E1F-119381B527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Costos, Cumplimiento de plazos, 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taurant, Sastre, Imprenta, Alfombras Tej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154400"/>
            <a:ext cx="86108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Servicio (ventas no cumplidas),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</a:t>
            </a:r>
            <a:r>
              <a:rPr b="0" lang="es-ES_tradnl" sz="2000" spc="-1" strike="noStrike">
                <a:solidFill>
                  <a:srgbClr val="000000"/>
                </a:solidFill>
                <a:latin typeface="Garamond"/>
              </a:rPr>
              <a:t>Autos, TV, Mc Donald, Ropa en Tie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5EC9-A1F5-442A-9C0F-67BD27F10D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, 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3984-2249-4BE1-8692-EBD0ACBF8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C74B-7D5D-4536-A1CA-469B25978F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EFDA-EBC3-4A55-B1F4-0A11B13E9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5FB1-B269-4F60-ACF3-4AFE3680C6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1904-B67B-4AC6-A73B-97C0C25738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78DF-7510-4C48-A2BF-BFF03D5AF3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Producción Personalizada en Masa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sar tecnologías y la imaginación para rápidamente producir en grandes volúmenes productos que satisfagan las necesidades (únicas) de cada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Bajo la producción-en-masa personaliza los tres tipos de procesos (Intermitente, en Línea y Continuo) se hacen tan flexible que no es posible distinguirlos haciendo la diferencia entre variedad y volumen menos signifi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lca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Variedad (job sho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jos costos (proceso continu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jemplos: Dell, GM,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oyota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, Nike, Z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CC46-1061-4050-8B89-829FBC6263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Sistemas de Manufactura Flexible (SMF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En 2004, Nissan produjo 260,066 vehículos en su planta de Canton, Mississippi, incluyendo 91,296 camionetas Titan, 68,684 Altima, 43,958 minivan Quest, 40,437 SUV Armada y 15,691 SUV Infinity QXC5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Toyota en su planta de Georgetown produce 4 tipos diferentes de vehículos (Camry, Avalon, Solara, Hybrid) cada 2 minu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F6E5-F137-4C31-B6F0-C869AF013A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4724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Un Ejemplo de SMF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5334120"/>
            <a:ext cx="87631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n general,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&gt; I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D 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y D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Palatino Linotype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son variables aleatorias (riesgo de merca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uáles son los niveles óptimos de capacidad Flexible y Dedicada a insta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03800" y="1463760"/>
            <a:ext cx="7855560" cy="3873240"/>
            <a:chOff x="703800" y="1463760"/>
            <a:chExt cx="7855560" cy="3873240"/>
          </a:xfrm>
        </p:grpSpPr>
        <p:sp>
          <p:nvSpPr>
            <p:cNvPr id="373" name=""/>
            <p:cNvSpPr/>
            <p:nvPr/>
          </p:nvSpPr>
          <p:spPr>
            <a:xfrm>
              <a:off x="901800" y="2916360"/>
              <a:ext cx="1270080" cy="72684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57040" y="30607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04760" y="32544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1040" y="336708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47320" y="32544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6440" y="218916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088080" y="233532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17800" y="25290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776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9204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80720" y="1569960"/>
              <a:ext cx="2236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Flexibl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6440" y="3643200"/>
              <a:ext cx="1454040" cy="72576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93840" y="37879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3920" y="39816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388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8592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9800" y="2673360"/>
              <a:ext cx="598320" cy="600120"/>
            </a:xfrm>
            <a:custGeom>
              <a:avLst/>
              <a:gdLst/>
              <a:ahLst/>
              <a:rect l="l" t="t" r="r" b="b"/>
              <a:pathLst>
                <a:path w="377" h="378">
                  <a:moveTo>
                    <a:pt x="377" y="0"/>
                  </a:moveTo>
                  <a:lnTo>
                    <a:pt x="292" y="0"/>
                  </a:lnTo>
                  <a:lnTo>
                    <a:pt x="321" y="29"/>
                  </a:lnTo>
                  <a:lnTo>
                    <a:pt x="0" y="349"/>
                  </a:lnTo>
                  <a:lnTo>
                    <a:pt x="29" y="378"/>
                  </a:lnTo>
                  <a:lnTo>
                    <a:pt x="349" y="57"/>
                  </a:lnTo>
                  <a:lnTo>
                    <a:pt x="377" y="85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9800" y="3287880"/>
              <a:ext cx="598320" cy="596880"/>
            </a:xfrm>
            <a:custGeom>
              <a:avLst/>
              <a:gdLst/>
              <a:ahLst/>
              <a:rect l="l" t="t" r="r" b="b"/>
              <a:pathLst>
                <a:path w="377" h="376">
                  <a:moveTo>
                    <a:pt x="377" y="376"/>
                  </a:moveTo>
                  <a:lnTo>
                    <a:pt x="292" y="376"/>
                  </a:lnTo>
                  <a:lnTo>
                    <a:pt x="321" y="349"/>
                  </a:lnTo>
                  <a:lnTo>
                    <a:pt x="0" y="28"/>
                  </a:lnTo>
                  <a:lnTo>
                    <a:pt x="29" y="0"/>
                  </a:lnTo>
                  <a:lnTo>
                    <a:pt x="349" y="320"/>
                  </a:lnTo>
                  <a:lnTo>
                    <a:pt x="377" y="293"/>
                  </a:lnTo>
                  <a:lnTo>
                    <a:pt x="377" y="376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25880" y="2189160"/>
              <a:ext cx="1273320" cy="72720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2920" y="23353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17680" y="25290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40080" y="26398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4360" y="25290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6840" y="1569960"/>
              <a:ext cx="2397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100" spc="-1" strike="noStrike">
                  <a:solidFill>
                    <a:srgbClr val="000080"/>
                  </a:solidFill>
                  <a:latin typeface="Garamond"/>
                </a:rPr>
                <a:t>Sistema Dedicad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99200" y="24591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79"/>
                  </a:lnTo>
                  <a:lnTo>
                    <a:pt x="436" y="79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25880" y="3643200"/>
              <a:ext cx="1273320" cy="725760"/>
            </a:xfrm>
            <a:prstGeom prst="rect">
              <a:avLst/>
            </a:prstGeom>
            <a:solidFill>
              <a:srgbClr val="80004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82920" y="378792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Capacid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4160" y="3981600"/>
              <a:ext cx="12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46200" y="4092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ffffff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8240" y="39816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ffffff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9200" y="3911760"/>
              <a:ext cx="785880" cy="188640"/>
            </a:xfrm>
            <a:custGeom>
              <a:avLst/>
              <a:gdLst/>
              <a:ahLst/>
              <a:rect l="l" t="t" r="r" b="b"/>
              <a:pathLst>
                <a:path w="495" h="119">
                  <a:moveTo>
                    <a:pt x="495" y="59"/>
                  </a:moveTo>
                  <a:lnTo>
                    <a:pt x="436" y="0"/>
                  </a:lnTo>
                  <a:lnTo>
                    <a:pt x="436" y="40"/>
                  </a:lnTo>
                  <a:lnTo>
                    <a:pt x="0" y="40"/>
                  </a:lnTo>
                  <a:lnTo>
                    <a:pt x="0" y="80"/>
                  </a:lnTo>
                  <a:lnTo>
                    <a:pt x="436" y="80"/>
                  </a:lnTo>
                  <a:lnTo>
                    <a:pt x="436" y="119"/>
                  </a:lnTo>
                  <a:lnTo>
                    <a:pt x="495" y="59"/>
                  </a:lnTo>
                  <a:close/>
                </a:path>
              </a:pathLst>
            </a:custGeom>
            <a:solidFill>
              <a:srgbClr val="e6e6e6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380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3952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160" y="4824360"/>
              <a:ext cx="7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916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77120" y="4532400"/>
              <a:ext cx="178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Costos Operaciona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39840" y="4726080"/>
              <a:ext cx="6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903920" y="4824360"/>
              <a:ext cx="89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57120" y="4726080"/>
              <a:ext cx="20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ad de capacida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41680" y="146376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41680" y="1841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41680" y="221940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41680" y="2597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41680" y="2975040"/>
              <a:ext cx="1800" cy="23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41680" y="335124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41680" y="372888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1680" y="410688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41680" y="4484520"/>
              <a:ext cx="1800" cy="23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1680" y="4862520"/>
              <a:ext cx="180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41680" y="5240160"/>
              <a:ext cx="1800" cy="9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3840" y="29624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69400" y="305928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18720" y="296244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3840" y="441468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3720" y="45133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20880" y="441468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89760" y="2193840"/>
              <a:ext cx="1454040" cy="727200"/>
            </a:xfrm>
            <a:custGeom>
              <a:avLst/>
              <a:gdLst/>
              <a:ahLst/>
              <a:rect l="l" t="t" r="r" b="b"/>
              <a:pathLst>
                <a:path w="916" h="458">
                  <a:moveTo>
                    <a:pt x="0" y="229"/>
                  </a:moveTo>
                  <a:lnTo>
                    <a:pt x="2" y="209"/>
                  </a:lnTo>
                  <a:lnTo>
                    <a:pt x="8" y="187"/>
                  </a:lnTo>
                  <a:lnTo>
                    <a:pt x="19" y="167"/>
                  </a:lnTo>
                  <a:lnTo>
                    <a:pt x="32" y="147"/>
                  </a:lnTo>
                  <a:lnTo>
                    <a:pt x="49" y="127"/>
                  </a:lnTo>
                  <a:lnTo>
                    <a:pt x="69" y="109"/>
                  </a:lnTo>
                  <a:lnTo>
                    <a:pt x="93" y="92"/>
                  </a:lnTo>
                  <a:lnTo>
                    <a:pt x="120" y="76"/>
                  </a:lnTo>
                  <a:lnTo>
                    <a:pt x="150" y="60"/>
                  </a:lnTo>
                  <a:lnTo>
                    <a:pt x="182" y="47"/>
                  </a:lnTo>
                  <a:lnTo>
                    <a:pt x="217" y="35"/>
                  </a:lnTo>
                  <a:lnTo>
                    <a:pt x="255" y="25"/>
                  </a:lnTo>
                  <a:lnTo>
                    <a:pt x="293" y="17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7"/>
                  </a:lnTo>
                  <a:lnTo>
                    <a:pt x="662" y="25"/>
                  </a:lnTo>
                  <a:lnTo>
                    <a:pt x="699" y="35"/>
                  </a:lnTo>
                  <a:lnTo>
                    <a:pt x="735" y="47"/>
                  </a:lnTo>
                  <a:lnTo>
                    <a:pt x="767" y="60"/>
                  </a:lnTo>
                  <a:lnTo>
                    <a:pt x="797" y="76"/>
                  </a:lnTo>
                  <a:lnTo>
                    <a:pt x="823" y="92"/>
                  </a:lnTo>
                  <a:lnTo>
                    <a:pt x="847" y="109"/>
                  </a:lnTo>
                  <a:lnTo>
                    <a:pt x="868" y="127"/>
                  </a:lnTo>
                  <a:lnTo>
                    <a:pt x="885" y="147"/>
                  </a:lnTo>
                  <a:lnTo>
                    <a:pt x="898" y="167"/>
                  </a:lnTo>
                  <a:lnTo>
                    <a:pt x="908" y="187"/>
                  </a:lnTo>
                  <a:lnTo>
                    <a:pt x="914" y="209"/>
                  </a:lnTo>
                  <a:lnTo>
                    <a:pt x="916" y="229"/>
                  </a:lnTo>
                  <a:lnTo>
                    <a:pt x="914" y="250"/>
                  </a:lnTo>
                  <a:lnTo>
                    <a:pt x="908" y="272"/>
                  </a:lnTo>
                  <a:lnTo>
                    <a:pt x="898" y="292"/>
                  </a:lnTo>
                  <a:lnTo>
                    <a:pt x="885" y="313"/>
                  </a:lnTo>
                  <a:lnTo>
                    <a:pt x="868" y="332"/>
                  </a:lnTo>
                  <a:lnTo>
                    <a:pt x="847" y="350"/>
                  </a:lnTo>
                  <a:lnTo>
                    <a:pt x="823" y="367"/>
                  </a:lnTo>
                  <a:lnTo>
                    <a:pt x="797" y="384"/>
                  </a:lnTo>
                  <a:lnTo>
                    <a:pt x="767" y="399"/>
                  </a:lnTo>
                  <a:lnTo>
                    <a:pt x="735" y="412"/>
                  </a:lnTo>
                  <a:lnTo>
                    <a:pt x="699" y="424"/>
                  </a:lnTo>
                  <a:lnTo>
                    <a:pt x="662" y="435"/>
                  </a:lnTo>
                  <a:lnTo>
                    <a:pt x="624" y="443"/>
                  </a:lnTo>
                  <a:lnTo>
                    <a:pt x="584" y="450"/>
                  </a:lnTo>
                  <a:lnTo>
                    <a:pt x="542" y="455"/>
                  </a:lnTo>
                  <a:lnTo>
                    <a:pt x="501" y="457"/>
                  </a:lnTo>
                  <a:lnTo>
                    <a:pt x="458" y="458"/>
                  </a:lnTo>
                  <a:lnTo>
                    <a:pt x="416" y="457"/>
                  </a:lnTo>
                  <a:lnTo>
                    <a:pt x="375" y="455"/>
                  </a:lnTo>
                  <a:lnTo>
                    <a:pt x="333" y="450"/>
                  </a:lnTo>
                  <a:lnTo>
                    <a:pt x="293" y="443"/>
                  </a:lnTo>
                  <a:lnTo>
                    <a:pt x="255" y="435"/>
                  </a:lnTo>
                  <a:lnTo>
                    <a:pt x="217" y="424"/>
                  </a:lnTo>
                  <a:lnTo>
                    <a:pt x="182" y="412"/>
                  </a:lnTo>
                  <a:lnTo>
                    <a:pt x="150" y="399"/>
                  </a:lnTo>
                  <a:lnTo>
                    <a:pt x="120" y="384"/>
                  </a:lnTo>
                  <a:lnTo>
                    <a:pt x="93" y="367"/>
                  </a:lnTo>
                  <a:lnTo>
                    <a:pt x="69" y="350"/>
                  </a:lnTo>
                  <a:lnTo>
                    <a:pt x="49" y="332"/>
                  </a:lnTo>
                  <a:lnTo>
                    <a:pt x="32" y="313"/>
                  </a:lnTo>
                  <a:lnTo>
                    <a:pt x="19" y="292"/>
                  </a:lnTo>
                  <a:lnTo>
                    <a:pt x="8" y="272"/>
                  </a:lnTo>
                  <a:lnTo>
                    <a:pt x="2" y="250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31400" y="2340000"/>
              <a:ext cx="896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61120" y="25336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91080" y="264492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35360" y="253368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7520" y="296712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12720" y="3063960"/>
              <a:ext cx="8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62040" y="2967120"/>
              <a:ext cx="69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10280" y="3641760"/>
              <a:ext cx="1454400" cy="725400"/>
            </a:xfrm>
            <a:custGeom>
              <a:avLst/>
              <a:gdLst/>
              <a:ahLst/>
              <a:rect l="l" t="t" r="r" b="b"/>
              <a:pathLst>
                <a:path w="916" h="457">
                  <a:moveTo>
                    <a:pt x="0" y="228"/>
                  </a:moveTo>
                  <a:lnTo>
                    <a:pt x="2" y="208"/>
                  </a:lnTo>
                  <a:lnTo>
                    <a:pt x="8" y="187"/>
                  </a:lnTo>
                  <a:lnTo>
                    <a:pt x="19" y="166"/>
                  </a:lnTo>
                  <a:lnTo>
                    <a:pt x="32" y="146"/>
                  </a:lnTo>
                  <a:lnTo>
                    <a:pt x="49" y="127"/>
                  </a:lnTo>
                  <a:lnTo>
                    <a:pt x="69" y="108"/>
                  </a:lnTo>
                  <a:lnTo>
                    <a:pt x="93" y="91"/>
                  </a:lnTo>
                  <a:lnTo>
                    <a:pt x="120" y="75"/>
                  </a:lnTo>
                  <a:lnTo>
                    <a:pt x="150" y="60"/>
                  </a:lnTo>
                  <a:lnTo>
                    <a:pt x="182" y="46"/>
                  </a:lnTo>
                  <a:lnTo>
                    <a:pt x="217" y="34"/>
                  </a:lnTo>
                  <a:lnTo>
                    <a:pt x="255" y="24"/>
                  </a:lnTo>
                  <a:lnTo>
                    <a:pt x="293" y="16"/>
                  </a:lnTo>
                  <a:lnTo>
                    <a:pt x="333" y="9"/>
                  </a:lnTo>
                  <a:lnTo>
                    <a:pt x="375" y="4"/>
                  </a:lnTo>
                  <a:lnTo>
                    <a:pt x="416" y="1"/>
                  </a:lnTo>
                  <a:lnTo>
                    <a:pt x="458" y="0"/>
                  </a:lnTo>
                  <a:lnTo>
                    <a:pt x="501" y="1"/>
                  </a:lnTo>
                  <a:lnTo>
                    <a:pt x="542" y="4"/>
                  </a:lnTo>
                  <a:lnTo>
                    <a:pt x="584" y="9"/>
                  </a:lnTo>
                  <a:lnTo>
                    <a:pt x="624" y="16"/>
                  </a:lnTo>
                  <a:lnTo>
                    <a:pt x="662" y="24"/>
                  </a:lnTo>
                  <a:lnTo>
                    <a:pt x="699" y="34"/>
                  </a:lnTo>
                  <a:lnTo>
                    <a:pt x="735" y="46"/>
                  </a:lnTo>
                  <a:lnTo>
                    <a:pt x="767" y="60"/>
                  </a:lnTo>
                  <a:lnTo>
                    <a:pt x="797" y="75"/>
                  </a:lnTo>
                  <a:lnTo>
                    <a:pt x="823" y="91"/>
                  </a:lnTo>
                  <a:lnTo>
                    <a:pt x="847" y="108"/>
                  </a:lnTo>
                  <a:lnTo>
                    <a:pt x="868" y="127"/>
                  </a:lnTo>
                  <a:lnTo>
                    <a:pt x="885" y="146"/>
                  </a:lnTo>
                  <a:lnTo>
                    <a:pt x="898" y="166"/>
                  </a:lnTo>
                  <a:lnTo>
                    <a:pt x="908" y="187"/>
                  </a:lnTo>
                  <a:lnTo>
                    <a:pt x="914" y="208"/>
                  </a:lnTo>
                  <a:lnTo>
                    <a:pt x="916" y="228"/>
                  </a:lnTo>
                  <a:lnTo>
                    <a:pt x="914" y="250"/>
                  </a:lnTo>
                  <a:lnTo>
                    <a:pt x="908" y="271"/>
                  </a:lnTo>
                  <a:lnTo>
                    <a:pt x="898" y="291"/>
                  </a:lnTo>
                  <a:lnTo>
                    <a:pt x="885" y="312"/>
                  </a:lnTo>
                  <a:lnTo>
                    <a:pt x="868" y="331"/>
                  </a:lnTo>
                  <a:lnTo>
                    <a:pt x="847" y="349"/>
                  </a:lnTo>
                  <a:lnTo>
                    <a:pt x="823" y="367"/>
                  </a:lnTo>
                  <a:lnTo>
                    <a:pt x="797" y="383"/>
                  </a:lnTo>
                  <a:lnTo>
                    <a:pt x="767" y="398"/>
                  </a:lnTo>
                  <a:lnTo>
                    <a:pt x="735" y="411"/>
                  </a:lnTo>
                  <a:lnTo>
                    <a:pt x="699" y="424"/>
                  </a:lnTo>
                  <a:lnTo>
                    <a:pt x="662" y="434"/>
                  </a:lnTo>
                  <a:lnTo>
                    <a:pt x="624" y="442"/>
                  </a:lnTo>
                  <a:lnTo>
                    <a:pt x="584" y="449"/>
                  </a:lnTo>
                  <a:lnTo>
                    <a:pt x="542" y="454"/>
                  </a:lnTo>
                  <a:lnTo>
                    <a:pt x="501" y="456"/>
                  </a:lnTo>
                  <a:lnTo>
                    <a:pt x="458" y="457"/>
                  </a:lnTo>
                  <a:lnTo>
                    <a:pt x="416" y="456"/>
                  </a:lnTo>
                  <a:lnTo>
                    <a:pt x="375" y="454"/>
                  </a:lnTo>
                  <a:lnTo>
                    <a:pt x="333" y="449"/>
                  </a:lnTo>
                  <a:lnTo>
                    <a:pt x="293" y="442"/>
                  </a:lnTo>
                  <a:lnTo>
                    <a:pt x="255" y="434"/>
                  </a:lnTo>
                  <a:lnTo>
                    <a:pt x="217" y="424"/>
                  </a:lnTo>
                  <a:lnTo>
                    <a:pt x="182" y="411"/>
                  </a:lnTo>
                  <a:lnTo>
                    <a:pt x="150" y="398"/>
                  </a:lnTo>
                  <a:lnTo>
                    <a:pt x="120" y="383"/>
                  </a:lnTo>
                  <a:lnTo>
                    <a:pt x="93" y="367"/>
                  </a:lnTo>
                  <a:lnTo>
                    <a:pt x="69" y="349"/>
                  </a:lnTo>
                  <a:lnTo>
                    <a:pt x="49" y="331"/>
                  </a:lnTo>
                  <a:lnTo>
                    <a:pt x="32" y="312"/>
                  </a:lnTo>
                  <a:lnTo>
                    <a:pt x="19" y="291"/>
                  </a:lnTo>
                  <a:lnTo>
                    <a:pt x="8" y="271"/>
                  </a:lnTo>
                  <a:lnTo>
                    <a:pt x="2" y="25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cece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358040" y="3786120"/>
              <a:ext cx="88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Mercado 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88120" y="397980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18080" y="4091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466b14"/>
                  </a:solidFill>
                  <a:latin typeface="Palatino Linotype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49760" y="3979800"/>
              <a:ext cx="91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 </a:t>
              </a:r>
              <a:r>
                <a:rPr b="1" lang="es-CL" sz="1300" spc="-1" strike="noStrike">
                  <a:solidFill>
                    <a:srgbClr val="466b14"/>
                  </a:solidFill>
                  <a:latin typeface="Palatino Linotype"/>
                </a:rPr>
                <a:t>(unid/año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98040" y="4413240"/>
              <a:ext cx="90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Ingresos: 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7920" y="451152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00"/>
                  </a:solidFill>
                  <a:latin typeface="Garamond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85080" y="4413240"/>
              <a:ext cx="65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es-CL" sz="1300" spc="-1" strike="noStrike">
                  <a:solidFill>
                    <a:srgbClr val="000000"/>
                  </a:solidFill>
                  <a:latin typeface="Garamond"/>
                </a:rPr>
                <a:t>($/uni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B2E0-DDED-474E-BD67-A45E340994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3080" y="2365200"/>
            <a:ext cx="218448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d. en 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ersona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Difícil de Conseguir pero altamente rent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Dell, Za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1C81A-846F-45A7-89D2-ED780B0A43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Cómo Alcanzar Manufactura Flexi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46280" y="1663560"/>
            <a:ext cx="80928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Invertir en Tecnologías de Produc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Diseño Modul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ostergar procesos de diferencia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Reducir los lead-time de producción y transpor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Gestión de la Cadena de Abastecimi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49"/>
              </a:spcBef>
              <a:buClr>
                <a:srgbClr val="9900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nales de Comunicación (comercio electrónico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A580-D2A5-4E05-A6D2-9CD2484217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Qué Debemos Tomar en Cuenta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39974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540240"/>
            <a:ext cx="2133360" cy="83808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75640" y="3728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978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67760" y="35053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7800" y="35053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3120" y="2921040"/>
            <a:ext cx="685800" cy="6094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800" y="2133720"/>
            <a:ext cx="19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ipos de Insu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692440"/>
            <a:ext cx="0" cy="83808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75248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Tecnologías de Producción,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iseño de Productos &amp;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conomías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238520" y="2819520"/>
            <a:ext cx="685800" cy="7617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5680" y="1523880"/>
            <a:ext cx="253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olumen de Demand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Nivel de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stacion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457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pac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98640" y="411480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Tiempo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9120" y="4114800"/>
            <a:ext cx="16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onfia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Lead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32BD-E4C8-4D13-8D10-84B71E399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160" y="685440"/>
            <a:ext cx="7899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ahoma"/>
              </a:rPr>
              <a:t>Diseño de Procesos: Auditoria Operacion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alineado con las capacidades centrales del la organiz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á el proceso diseñado para alcanzar ventajas competitivas en términos de diferenciación, respuesta, o costo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imina el proceso etapas innecesario que no agregan valo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implificación: “menos es má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tandardiz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 prueba de err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yuda el proceso a maximizar el valor generado según lo percibido por el clien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irá el proceso ganar participación de merc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F8DD-E545-4BE5-96C7-A548D6FDBC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696960"/>
            <a:ext cx="60372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Matriz de Producto-Proce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592360" y="2273400"/>
            <a:ext cx="6178680" cy="3592440"/>
          </a:xfrm>
          <a:custGeom>
            <a:avLst/>
            <a:gdLst/>
            <a:ahLst/>
            <a:rect l="l" t="t" r="r" b="b"/>
            <a:pathLst>
              <a:path w="3503" h="2112">
                <a:moveTo>
                  <a:pt x="1" y="0"/>
                </a:moveTo>
                <a:lnTo>
                  <a:pt x="957" y="0"/>
                </a:lnTo>
                <a:lnTo>
                  <a:pt x="3503" y="0"/>
                </a:lnTo>
                <a:lnTo>
                  <a:pt x="3503" y="2112"/>
                </a:lnTo>
                <a:lnTo>
                  <a:pt x="2229" y="2112"/>
                </a:lnTo>
                <a:lnTo>
                  <a:pt x="0" y="817"/>
                </a:lnTo>
                <a:lnTo>
                  <a:pt x="1" y="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920" y="2262240"/>
            <a:ext cx="26715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Job 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impresión, carpinte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41040" y="3760920"/>
            <a:ext cx="20480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Línea de Ensambl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au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57960" y="4610160"/>
            <a:ext cx="2557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993300"/>
                </a:solidFill>
                <a:latin typeface="Arial Narrow"/>
              </a:rPr>
              <a:t>Proceso Continu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 Narrow"/>
              </a:rPr>
              <a:t>(minería, química, vid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3040" y="2262240"/>
            <a:ext cx="23878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a Varied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Unas pocas unidades producidas por lo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permite personaliza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1520" y="3659040"/>
            <a:ext cx="2471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Cambios Modula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ción en lotes estandarizad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86200"/>
            <a:ext cx="243828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ducto altamente estandarizado (solo cambios menores en graduación, composic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7200" y="4853160"/>
            <a:ext cx="280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ff0101"/>
                </a:solidFill>
                <a:latin typeface="Arial Narrow"/>
              </a:rPr>
              <a:t>Ma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(Costos variables muy al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33480" y="1441440"/>
            <a:ext cx="13942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Baj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Intermitent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2400" y="1417680"/>
            <a:ext cx="208764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Proceso Repetitiv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Modular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22880" y="1441440"/>
            <a:ext cx="13546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Alto-Volum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CL" sz="1700" spc="-1" strike="noStrike">
                <a:solidFill>
                  <a:srgbClr val="246600"/>
                </a:solidFill>
                <a:latin typeface="Arial Narrow"/>
              </a:rPr>
              <a:t>(Continu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6072120"/>
            <a:ext cx="643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14600" y="1881000"/>
            <a:ext cx="0" cy="419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7440" y="611028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17680" y="16653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Times New Roman"/>
              </a:rPr>
              <a:t>Var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6CF6-C956-4A96-8FF9-B0F5914E6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ínea de Ensamblaj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48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59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63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84E0-D9F0-4AEC-BAA1-A1AE9FF24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36B5-A756-489B-9520-5A1FECB101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8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0A4A-3EE6-4348-BB07-31D214DD5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74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77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94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95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4D18-9029-42B1-8B5B-5C623A816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Rene Caldentey</cp:lastModifiedBy>
  <cp:lastPrinted>2001-04-12T20:51:56Z</cp:lastPrinted>
  <dcterms:modified xsi:type="dcterms:W3CDTF">2008-08-05T12:44:20Z</dcterms:modified>
  <cp:revision>174</cp:revision>
  <dc:subject/>
  <dc:title>Comercio Electrónico</dc:title>
</cp:coreProperties>
</file>