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353-CAE1-4D37-A8CF-2EA3AA2FCA1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6179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629080" y="5384880"/>
            <a:ext cx="37540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5" name=""/>
          <p:cNvGrpSpPr/>
          <p:nvPr/>
        </p:nvGrpSpPr>
        <p:grpSpPr>
          <a:xfrm>
            <a:off x="-88560" y="1074600"/>
            <a:ext cx="2537640" cy="7153200"/>
            <a:chOff x="-88560" y="1074600"/>
            <a:chExt cx="2537640" cy="7153200"/>
          </a:xfrm>
        </p:grpSpPr>
        <p:sp>
          <p:nvSpPr>
            <p:cNvPr id="496" name=""/>
            <p:cNvSpPr/>
            <p:nvPr/>
          </p:nvSpPr>
          <p:spPr>
            <a:xfrm>
              <a:off x="-85320" y="107460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88560" y="52408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40" y="147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440" y="17154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440" y="21877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40" y="19515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440" y="24238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40" y="2660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440" y="313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440" y="289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40" y="33681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440" y="36043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" y="40766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" y="38404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40" y="56307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40" y="58669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40" y="633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440" y="61030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40" y="6575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40" y="68112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440" y="72835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440" y="70473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440" y="75196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40" y="775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40" y="82278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40" y="799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1A2-9282-4843-B45C-31DB375257C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84F-7690-423F-B3B0-26DE4638313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506520" y="1293840"/>
            <a:ext cx="3778200" cy="2833560"/>
          </a:xfrm>
          <a:prstGeom prst="rect">
            <a:avLst/>
          </a:prstGeom>
          <a:ln w="0">
            <a:noFill/>
          </a:ln>
        </p:spPr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2" name=""/>
          <p:cNvGrpSpPr/>
          <p:nvPr/>
        </p:nvGrpSpPr>
        <p:grpSpPr>
          <a:xfrm>
            <a:off x="4330440" y="1127160"/>
            <a:ext cx="2536560" cy="7152840"/>
            <a:chOff x="4330440" y="1127160"/>
            <a:chExt cx="2536560" cy="7152840"/>
          </a:xfrm>
        </p:grpSpPr>
        <p:sp>
          <p:nvSpPr>
            <p:cNvPr id="533" name=""/>
            <p:cNvSpPr/>
            <p:nvPr/>
          </p:nvSpPr>
          <p:spPr>
            <a:xfrm>
              <a:off x="4333680" y="11271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0440" y="52930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3440" y="15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3440" y="17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83440" y="2240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83440" y="2004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83440" y="2476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83440" y="2712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83440" y="3184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83440" y="2948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83440" y="3420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3440" y="3656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83440" y="4128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83440" y="3892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83440" y="5682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3440" y="5919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3440" y="6391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83440" y="6155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83440" y="6627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3440" y="686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3440" y="7335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83440" y="7099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83440" y="7571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83440" y="78080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440" y="8280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3440" y="80442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E3C7-B060-46A9-998E-FEF1AB9C72C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5065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66" name=""/>
          <p:cNvGrpSpPr/>
          <p:nvPr/>
        </p:nvGrpSpPr>
        <p:grpSpPr>
          <a:xfrm>
            <a:off x="4330440" y="1152360"/>
            <a:ext cx="2536560" cy="7151400"/>
            <a:chOff x="4330440" y="1152360"/>
            <a:chExt cx="2536560" cy="7151400"/>
          </a:xfrm>
        </p:grpSpPr>
        <p:sp>
          <p:nvSpPr>
            <p:cNvPr id="467" name=""/>
            <p:cNvSpPr/>
            <p:nvPr/>
          </p:nvSpPr>
          <p:spPr>
            <a:xfrm>
              <a:off x="4333680" y="11523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0440" y="53175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83440" y="1557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83440" y="17931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83440" y="2265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83440" y="2028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83440" y="2501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83440" y="27370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83440" y="320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3440" y="2973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3440" y="344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83440" y="36813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3440" y="415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3440" y="391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440" y="5707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440" y="5943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3440" y="641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83440" y="617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83440" y="6651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3440" y="688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3440" y="7359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83440" y="712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3440" y="75956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83440" y="78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3440" y="830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83440" y="80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F916-3B74-47D7-A044-AF8587E9C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6C23-F2CD-4B6C-AF22-ABF51E66B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D585-D029-4F6C-A6B5-C1219F40E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7CC7-D731-45C2-BD2E-D91299083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0CFB-62FB-4624-9304-73832F96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8DF44-6856-4B7C-BBDF-42611BF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6DF9-87D3-4C78-833F-CAC8B09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2BC08-B4FA-4171-A4E9-6FCC7EE1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71C39-0E35-4A6C-83FD-D9F6398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F5550-F154-4D73-B3BF-C54F5C2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B7343-A1FC-47C6-8C5C-916F565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467D-22DE-4B5F-A57A-6AFFBB9F9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40989-88A8-4DAF-8AE2-A76198A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E7B36-D487-4FBB-8585-B10F129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036F6-0C74-41F8-9DC1-5817E638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BDDB7-AF94-491E-94DE-168524A6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B684-DD9A-433D-8A63-25651EF9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468E-3C13-4ED7-8629-4EDE5CD87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4C42-A59D-4EE7-9D6B-6CEFC8812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2BFF-1C20-4BE3-A088-07EC68C7E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11BE-41F9-4181-AD3C-D6B8FF98B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2C64-3AA3-4389-81B5-EC96C3F51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4298-9509-4641-8755-6152B549F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61BA-F50C-4D5B-A457-BDDBD7329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667B-31E6-43E6-9870-6FF2FE6854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5B18-33A8-4C36-96BB-48F4F24A828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oyota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257720" cy="28386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886200" cy="2874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4B04-556E-4A97-B03C-8F41A28FE0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2A21-7120-4762-A16D-37362649E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ceso Continu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luye entre etapas sin interrupción. Las distintas etapa del proceso están perfectamente amalgam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733920"/>
            <a:ext cx="9907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7339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886200"/>
            <a:ext cx="3124080" cy="228600"/>
          </a:xfrm>
          <a:prstGeom prst="rightArrow">
            <a:avLst>
              <a:gd name="adj1" fmla="val 33333"/>
              <a:gd name="adj2" fmla="val 16943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in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 y Farmacéu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2720-328D-4C0B-BE63-03C3EE96E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0" y="1557360"/>
            <a:ext cx="5638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ísima Eficiencia (~ 90%+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poca flexi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utilización de equ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uy especi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fác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uy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49A7-D799-4621-859E-3560BB6D0F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225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226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20CD-26F7-4196-B1EE-777093926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686E-52BE-4776-A975-E2CBA6C9A6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85360" y="1712880"/>
            <a:ext cx="90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79040" y="17128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8480" y="171288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termit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9360" y="1712880"/>
            <a:ext cx="5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6080" y="18954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5720" y="208296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pe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7400" y="2082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s gra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6960" y="2082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52800" y="208296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ducción Contin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85720" y="242892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5812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n s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60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sord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53160" y="242892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5360" y="2603520"/>
            <a:ext cx="123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edad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9200" y="2603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040" y="2603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260352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85720" y="277668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9200" y="27766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s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8040" y="27766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or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53160" y="277668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speci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86440" y="294624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9200" y="2946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8040" y="2946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53520" y="29462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6080" y="313056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86440" y="3316320"/>
            <a:ext cx="65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9200" y="3316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5360" y="348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t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200" y="34894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8804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316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86440" y="36608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9200" y="36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804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5316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5720" y="38433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5360" y="40291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5920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8040" y="40291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85360" y="4203720"/>
            <a:ext cx="55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42037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804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316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43736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848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6960" y="437364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244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5000" y="4556160"/>
            <a:ext cx="5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7520" y="4743360"/>
            <a:ext cx="63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920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8040" y="47433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5316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85360" y="49165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9200" y="4916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040" y="49165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53160" y="4916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86440" y="5089680"/>
            <a:ext cx="42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8120" y="508968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st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88040" y="50896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508968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86080" y="52592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9200" y="5259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8040" y="5259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3160" y="52592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85720" y="5443560"/>
            <a:ext cx="125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rol y 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5360" y="5629320"/>
            <a:ext cx="123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956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9120" y="56293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5352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86080" y="580248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956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89120" y="580248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53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86080" y="5973840"/>
            <a:ext cx="116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5956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89120" y="59738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5352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670040"/>
            <a:ext cx="25200" cy="4468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676520"/>
            <a:ext cx="2556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3120" y="160020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3120" y="611352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89800" y="17035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240" y="207324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13600" y="24192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0" y="2593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3600" y="27669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Ú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3240" y="293688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13600" y="3306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0" y="347976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13600" y="3651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3600" y="40194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13960" y="419400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2520" y="436392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3600" y="47340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3600" y="49068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3960" y="507996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3600" y="524988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4680" y="561960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4680" y="579276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14680" y="5964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42360" y="168588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9051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147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83868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54356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541980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03760" y="1681200"/>
            <a:ext cx="2556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41880" y="1676520"/>
            <a:ext cx="2520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166680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D628-60B1-48E5-BA22-370FC7280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stos, Cumplimiento de plazos, 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taurant, Sastre, Imprenta, Alfombras Tej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154400"/>
            <a:ext cx="8610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rvicio (ventas no cumplidas),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tos, TV, Mc Donald, Ropa en Tie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68E7-0908-4023-BC1D-322A77968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, 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4905-C174-4785-B3CB-CBD665BCD0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B309-2EE7-4A72-9FDE-9C4C712BA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1605-2506-4A84-BF2F-AC48C2312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28A4-DC8B-4227-901E-A2F4EA1DAD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5E99-A5A8-468C-ADB8-D96025548A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5A20-5103-49DA-AF88-F2224412DF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Producción Personalizada en Masa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tecnologías y la imaginación para rápidamente producir en grandes volúmenes productos que satisfagan las necesidades (únicas) de cada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jo la producción-en-masa personaliza los tres tipos de procesos (Intermitente, en Línea y Continuo) se hacen tan flexible que no es posible distinguirlos haciendo la diferencia entre variedad y volumen menos signifi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lca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riedad (job sho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s costos (proceso continu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: Dell, GM,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oyot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Nike, Z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732C-96C8-4577-85BA-978C00940E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Sistemas de Manufactura Flexible (SM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2004, Nissan produjo 260,066 vehículos en su planta de Canton, Mississippi, incluyendo 91,296 camionetas Titan, 68,684 Altima, 43,958 minivan Quest, 40,437 SUV Armada y 15,691 SUV Infinity QXC5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Toyota en su planta de Georgetown produce 4 tipos diferentes de vehículos (Camry, Avalon, Solara, Hybrid) cada 2 minu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8ED1-39DF-4D44-9B52-0A3099E3EF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4724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Un Ejemplo de SM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5334120"/>
            <a:ext cx="876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n general,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&gt;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D 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son variables aleatorias (riesgo de merc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uáles son los niveles óptimos de capacidad Flexible y Dedicada a insta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03800" y="1463760"/>
            <a:ext cx="7855560" cy="3873240"/>
            <a:chOff x="703800" y="1463760"/>
            <a:chExt cx="7855560" cy="3873240"/>
          </a:xfrm>
        </p:grpSpPr>
        <p:sp>
          <p:nvSpPr>
            <p:cNvPr id="373" name=""/>
            <p:cNvSpPr/>
            <p:nvPr/>
          </p:nvSpPr>
          <p:spPr>
            <a:xfrm>
              <a:off x="901800" y="2916360"/>
              <a:ext cx="1270080" cy="72684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57040" y="30607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4760" y="32544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1040" y="336708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47320" y="32544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6440" y="218916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88080" y="23353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17800" y="25290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76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9204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0720" y="1569960"/>
              <a:ext cx="2236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Flexi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440" y="3643200"/>
              <a:ext cx="1454040" cy="72576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93840" y="37879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3920" y="39816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388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592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9800" y="2673360"/>
              <a:ext cx="598320" cy="600120"/>
            </a:xfrm>
            <a:custGeom>
              <a:avLst/>
              <a:gdLst/>
              <a:ahLst/>
              <a:rect l="l" t="t" r="r" b="b"/>
              <a:pathLst>
                <a:path w="377" h="378">
                  <a:moveTo>
                    <a:pt x="377" y="0"/>
                  </a:moveTo>
                  <a:lnTo>
                    <a:pt x="292" y="0"/>
                  </a:lnTo>
                  <a:lnTo>
                    <a:pt x="321" y="29"/>
                  </a:lnTo>
                  <a:lnTo>
                    <a:pt x="0" y="349"/>
                  </a:lnTo>
                  <a:lnTo>
                    <a:pt x="29" y="378"/>
                  </a:lnTo>
                  <a:lnTo>
                    <a:pt x="349" y="57"/>
                  </a:lnTo>
                  <a:lnTo>
                    <a:pt x="377" y="85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9800" y="3287880"/>
              <a:ext cx="598320" cy="596880"/>
            </a:xfrm>
            <a:custGeom>
              <a:avLst/>
              <a:gdLst/>
              <a:ahLst/>
              <a:rect l="l" t="t" r="r" b="b"/>
              <a:pathLst>
                <a:path w="377" h="376">
                  <a:moveTo>
                    <a:pt x="377" y="376"/>
                  </a:moveTo>
                  <a:lnTo>
                    <a:pt x="292" y="376"/>
                  </a:lnTo>
                  <a:lnTo>
                    <a:pt x="321" y="34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349" y="320"/>
                  </a:lnTo>
                  <a:lnTo>
                    <a:pt x="377" y="293"/>
                  </a:lnTo>
                  <a:lnTo>
                    <a:pt x="377" y="376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5880" y="2189160"/>
              <a:ext cx="1273320" cy="72720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2920" y="23353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7680" y="25290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4008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436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6840" y="1569960"/>
              <a:ext cx="239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Dedicad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99200" y="24591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436" y="79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25880" y="3643200"/>
              <a:ext cx="1273320" cy="72576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2920" y="37879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4160" y="39816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620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824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9200" y="39117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436" y="80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380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952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160" y="482436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7712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984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03920" y="48243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12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41680" y="146376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41680" y="1841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1680" y="2219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1680" y="2597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41680" y="2975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41680" y="335124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41680" y="372888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1680" y="410688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1680" y="448452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1680" y="486252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1680" y="5240160"/>
              <a:ext cx="180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3840" y="29624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9400" y="30592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18720" y="296244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3840" y="441468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3720" y="4513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0880" y="441468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89760" y="219384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1400" y="23400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61120" y="25336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91080" y="264492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35360" y="253368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7520" y="296712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12720" y="306396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2040" y="296712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3641760"/>
              <a:ext cx="1454400" cy="72540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8040" y="37861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88120" y="39798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8080" y="409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49760" y="39798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98040" y="44132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7920" y="45115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85080" y="441324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54B8-8F4C-4774-9299-39F23DD166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2365200"/>
            <a:ext cx="21844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d. en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erson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Difícil de Conseguir pero altamente ren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Dell, Z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7FDD-561A-4627-ACFE-8FBA8F97B3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Cómo Alcanzar Manufactura Flexi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Invertir en Tecnologías de Produ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iseño 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ostergar procesos de diferenci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Reducir los lead-time de producción y transpor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Gestión de la Cadena de Abastecimi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nales de Comunicación (comercio electrón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5AE3-D573-4742-9C84-219F5A4643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é Debemos Tomar en Cuent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997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540240"/>
            <a:ext cx="2133360" cy="838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5640" y="3728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978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7760" y="3505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7800" y="35053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3120" y="2921040"/>
            <a:ext cx="685800" cy="6094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800" y="2133720"/>
            <a:ext cx="19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ipos de Ins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692440"/>
            <a:ext cx="0" cy="838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ecnologías de Producción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iseño de Productos &amp;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conomías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38520" y="2819520"/>
            <a:ext cx="685800" cy="7617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5680" y="1523880"/>
            <a:ext cx="25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olumen de Deman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ivel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stacion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457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pac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98640" y="411480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9120" y="4114800"/>
            <a:ext cx="16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nfi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Lead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4319-FC1B-4B2F-8002-A66648B4E8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160" y="685440"/>
            <a:ext cx="789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Diseño de Procesos: Auditoria Operacio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alineado con las capacidades centrales del la organiz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diseñado para alcanzar ventajas competitivas en términos de diferenciación, respuesta, o costo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imina el proceso etapas innecesario que no agregan valo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implificación: “menos es má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tandard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prueba de err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yuda el proceso a maximizar el valor generado según lo percibido por el clien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irá el proceso ganar participación de merc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5351-7701-4BE2-8571-1ABD17102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461B-A0BA-439A-9A74-7F28DA67A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ínea de Ensamblaj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48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59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4EE2-6504-4F29-BAE8-0180FADE86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8A4A-4460-4407-B34C-D751BDC72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8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3134-C53B-4FF2-A37F-39790DA77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74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94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95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E727-0D6B-4C32-8F91-F64596794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8-08-05T12:44:20Z</dcterms:modified>
  <cp:revision>174</cp:revision>
  <dc:subject/>
  <dc:title>Comercio Electrónico</dc:title>
</cp:coreProperties>
</file>