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90C6-BA29-42E0-A223-0E024B9D4EF5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../slides/slide23.xml"/><Relationship Id="rId3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../slides/slide25.xml"/><Relationship Id="rId3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2617920" y="1257480"/>
            <a:ext cx="3776400" cy="2831760"/>
          </a:xfrm>
          <a:prstGeom prst="rect">
            <a:avLst/>
          </a:prstGeom>
          <a:ln w="0">
            <a:noFill/>
          </a:ln>
        </p:spPr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2629080" y="5384880"/>
            <a:ext cx="3754080" cy="283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95" name=""/>
          <p:cNvGrpSpPr/>
          <p:nvPr/>
        </p:nvGrpSpPr>
        <p:grpSpPr>
          <a:xfrm>
            <a:off x="-88560" y="1074600"/>
            <a:ext cx="2537640" cy="7153200"/>
            <a:chOff x="-88560" y="1074600"/>
            <a:chExt cx="2537640" cy="7153200"/>
          </a:xfrm>
        </p:grpSpPr>
        <p:sp>
          <p:nvSpPr>
            <p:cNvPr id="496" name=""/>
            <p:cNvSpPr/>
            <p:nvPr/>
          </p:nvSpPr>
          <p:spPr>
            <a:xfrm>
              <a:off x="-85320" y="107460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-88560" y="524088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440" y="14792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4440" y="171540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440" y="218772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440" y="195156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4440" y="242388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440" y="26600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440" y="313200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4440" y="28958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440" y="336816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440" y="360432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440" y="40766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440" y="384048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440" y="563076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440" y="586692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440" y="63392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440" y="610308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440" y="65750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440" y="681120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440" y="728352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440" y="704736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440" y="751968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440" y="77558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440" y="822780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440" y="799200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A0E4-3D8D-4939-9E87-898290396476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001A-B963-4262-83A2-C28A4BE52AEF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506520" y="1293840"/>
            <a:ext cx="3778200" cy="2833560"/>
          </a:xfrm>
          <a:prstGeom prst="rect">
            <a:avLst/>
          </a:prstGeom>
          <a:ln w="0">
            <a:noFill/>
          </a:ln>
        </p:spPr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515880" y="5384880"/>
            <a:ext cx="3757680" cy="283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32" name=""/>
          <p:cNvGrpSpPr/>
          <p:nvPr/>
        </p:nvGrpSpPr>
        <p:grpSpPr>
          <a:xfrm>
            <a:off x="4330440" y="1127160"/>
            <a:ext cx="2536560" cy="7152840"/>
            <a:chOff x="4330440" y="1127160"/>
            <a:chExt cx="2536560" cy="7152840"/>
          </a:xfrm>
        </p:grpSpPr>
        <p:sp>
          <p:nvSpPr>
            <p:cNvPr id="533" name=""/>
            <p:cNvSpPr/>
            <p:nvPr/>
          </p:nvSpPr>
          <p:spPr>
            <a:xfrm>
              <a:off x="4333680" y="112716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30440" y="529308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83440" y="15318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83440" y="17679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483440" y="22402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483440" y="20041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483440" y="24764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83440" y="27122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483440" y="31845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83440" y="29484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83440" y="34207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83440" y="36568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483440" y="41288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83440" y="38926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83440" y="56829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83440" y="59191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83440" y="63914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83440" y="61552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83440" y="66276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83440" y="68637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483440" y="73357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483440" y="70995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83440" y="75718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483440" y="78080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83440" y="82800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3440" y="80442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F178-791D-4176-82A6-3EE2BAD37557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506520" y="1257480"/>
            <a:ext cx="3776400" cy="2831760"/>
          </a:xfrm>
          <a:prstGeom prst="rect">
            <a:avLst/>
          </a:prstGeom>
          <a:ln w="0">
            <a:noFill/>
          </a:ln>
        </p:spPr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515880" y="5384880"/>
            <a:ext cx="3757680" cy="283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66" name=""/>
          <p:cNvGrpSpPr/>
          <p:nvPr/>
        </p:nvGrpSpPr>
        <p:grpSpPr>
          <a:xfrm>
            <a:off x="4330440" y="1152360"/>
            <a:ext cx="2536560" cy="7151400"/>
            <a:chOff x="4330440" y="1152360"/>
            <a:chExt cx="2536560" cy="7151400"/>
          </a:xfrm>
        </p:grpSpPr>
        <p:sp>
          <p:nvSpPr>
            <p:cNvPr id="467" name=""/>
            <p:cNvSpPr/>
            <p:nvPr/>
          </p:nvSpPr>
          <p:spPr>
            <a:xfrm>
              <a:off x="4333680" y="115236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30440" y="531756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83440" y="15570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83440" y="17931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83440" y="22651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83440" y="20289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83440" y="25012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83440" y="27370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83440" y="32094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83440" y="29732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83440" y="34455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83440" y="36813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83440" y="41536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83440" y="39175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440" y="57074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440" y="59436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83440" y="64155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83440" y="61794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83440" y="66517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83440" y="68875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83440" y="73598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83440" y="71236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83440" y="75956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83440" y="78318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83440" y="83037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83440" y="80679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45087-0441-4BFB-A14C-A9574754B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AC8E4-E4F4-4D4E-BB0A-631085288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E986A-263B-445C-B340-0F3ECA54C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58C6E-F108-4C69-94C0-CD14F4AE42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A23DF-2D90-45A3-B487-0F25A12B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9D503-5DDA-4BD1-96EA-2C8BBB9A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DB66A-7E10-4AA5-93A5-30F41F35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AF583-D77B-402E-926D-795F8687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0C2C1-7406-422B-A3E4-43803593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1DE81-7B92-462D-BDE5-0B4471E0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6006F-0BEF-4F68-BB89-0037DC3A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D9448-FA12-47D0-B2AF-1A5ACAA13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39396-450F-4C2E-BF76-72C16A82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63905-D59E-4720-AF99-07804A34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B7AEB-1FE3-49B4-B84B-AB58C69D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14177-E473-42F3-A297-B9EF8037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9EEDC-3ABD-422E-AD94-7C6DD252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2BFFB-4CA3-421A-A3D2-8E3970DD4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CAE3C-5840-4773-854D-9D99419B6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3783F-D9F0-43C8-8CF6-661262700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792C5-5136-4F42-8422-6F21DC538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55E30-934B-45A9-817D-3365362B2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B0665-CE1F-42C2-A0E9-2FDBB9A42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2CE16-9A66-4D6A-9745-1F1DC967E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4912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0304-5B77-42C6-B575-C666A9D2193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1B90-F86D-45D5-9B01-B7B5C28775CF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toyota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9051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Selección del Proceso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4257720" cy="2838600"/>
          </a:xfrm>
          <a:prstGeom prst="rect">
            <a:avLst/>
          </a:prstGeom>
          <a:ln w="9360">
            <a:solidFill>
              <a:srgbClr val="990033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24280" y="3733920"/>
            <a:ext cx="3886200" cy="2874960"/>
          </a:xfrm>
          <a:prstGeom prst="rect">
            <a:avLst/>
          </a:prstGeom>
          <a:ln w="9360">
            <a:solidFill>
              <a:srgbClr val="990033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quipo y mano de obra se organizan en centros o equipos de trabajo por tipos similares de habil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eficiencia (~ 20 - 40%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inver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habilidad de la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utilización de equi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quinaria más gener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más difíc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 más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EAA3-71E7-43E0-A536-9FDB656BDD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a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ller de Mue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lt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58A5B-D7FB-4507-A979-C8F36DDBFA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17100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639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Proceso Continu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fluye entre etapas sin interrupción. Las distintas etapa del proceso están perfectamente amalgama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3733920"/>
            <a:ext cx="9907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ien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3733920"/>
            <a:ext cx="91440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71800" y="3886200"/>
            <a:ext cx="3124080" cy="228600"/>
          </a:xfrm>
          <a:prstGeom prst="rightArrow">
            <a:avLst>
              <a:gd name="adj1" fmla="val 33333"/>
              <a:gd name="adj2" fmla="val 16943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4724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finer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Química y Farmacéu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B4B44-814B-4FC4-B600-4DB56EB10E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86000" y="1557360"/>
            <a:ext cx="56386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ísima Eficiencia (~ 90%+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y poca flexibi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rsión al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habilidad de la mano de ob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utilización de equi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quinaria muy especiali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más fác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 muy al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17100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C5855-565C-4666-AF47-67C30FFA62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Flujo por Proye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intas etapas que se enlazan para realizar un traba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3416400" y="48006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3505320"/>
            <a:ext cx="83808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ien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3505320"/>
            <a:ext cx="91440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5445360" y="3074400"/>
            <a:ext cx="636840" cy="51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60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03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94160" y="29973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500280" y="3096000"/>
            <a:ext cx="37836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327560" y="3186000"/>
            <a:ext cx="770040" cy="1121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657440" y="5378400"/>
            <a:ext cx="3290760" cy="794520"/>
            <a:chOff x="1657440" y="5378400"/>
            <a:chExt cx="3290760" cy="794520"/>
          </a:xfrm>
        </p:grpSpPr>
        <p:grpSp>
          <p:nvGrpSpPr>
            <p:cNvPr id="225" name=""/>
            <p:cNvGrpSpPr/>
            <p:nvPr/>
          </p:nvGrpSpPr>
          <p:grpSpPr>
            <a:xfrm>
              <a:off x="1657440" y="5378400"/>
              <a:ext cx="2637000" cy="533160"/>
              <a:chOff x="1657440" y="5378400"/>
              <a:chExt cx="2637000" cy="533160"/>
            </a:xfrm>
          </p:grpSpPr>
          <p:sp>
            <p:nvSpPr>
              <p:cNvPr id="226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34320" y="5454360"/>
                <a:ext cx="1860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activida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1670040" y="5835600"/>
              <a:ext cx="3278160" cy="337320"/>
              <a:chOff x="1670040" y="5835600"/>
              <a:chExt cx="3278160" cy="337320"/>
            </a:xfrm>
          </p:grpSpPr>
          <p:sp>
            <p:nvSpPr>
              <p:cNvPr id="229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00840" y="58356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Relación de precedencia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>
            <a:off x="3886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19720" y="445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3962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5627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D6BC-EC7B-44E9-A54A-8A17155724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edif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bar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yecto de consulto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25BB5-3835-4823-A0ED-2363C04924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1485360" y="1712880"/>
            <a:ext cx="90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79040" y="171288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ín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68480" y="1712880"/>
            <a:ext cx="72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termit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29360" y="1712880"/>
            <a:ext cx="55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ontinu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86080" y="1895400"/>
            <a:ext cx="55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85720" y="2082960"/>
            <a:ext cx="83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Tipo de pedi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57400" y="2082960"/>
            <a:ext cx="80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Lotes gran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6960" y="20829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L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52800" y="2082960"/>
            <a:ext cx="1172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roducción Contin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85720" y="2428920"/>
            <a:ext cx="100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lujo del produ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58120" y="2428920"/>
            <a:ext cx="75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En s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86600" y="2428920"/>
            <a:ext cx="75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esorden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53160" y="242892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ntinu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85360" y="2603520"/>
            <a:ext cx="123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ariedad del produ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59200" y="26035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88040" y="26035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53160" y="2603520"/>
            <a:ext cx="52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uy B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85720" y="2776680"/>
            <a:ext cx="94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Tipo de 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59200" y="277668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asiv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88040" y="277668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or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53160" y="2776680"/>
            <a:ext cx="779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Especializ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86440" y="2946240"/>
            <a:ext cx="49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59200" y="294624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88040" y="294624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53520" y="2946240"/>
            <a:ext cx="49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uy 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86080" y="313056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Mano de ob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86440" y="3316320"/>
            <a:ext cx="65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59200" y="33163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7680" y="33163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53160" y="33163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5360" y="3489480"/>
            <a:ext cx="74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Tipo de t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59200" y="3489480"/>
            <a:ext cx="62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Repetitiv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88040" y="348948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No rutinar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53160" y="348948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No rutinar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86440" y="366084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Sal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59200" y="36608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88040" y="366084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53160" y="366084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85720" y="384336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85360" y="402912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59200" y="40291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88040" y="402912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53160" y="40291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85360" y="4203720"/>
            <a:ext cx="55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59200" y="42037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8040" y="42037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53160" y="42037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86080" y="437364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Equi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58480" y="4373640"/>
            <a:ext cx="1230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ropósitos espe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86960" y="4373640"/>
            <a:ext cx="1188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ropósitos gene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52440" y="4373640"/>
            <a:ext cx="1230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ropósitos espe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85000" y="4556160"/>
            <a:ext cx="57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87520" y="4743360"/>
            <a:ext cx="63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59200" y="474336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88040" y="474336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53160" y="474336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85360" y="491652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59200" y="49165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88040" y="491652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53160" y="49165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86440" y="5089680"/>
            <a:ext cx="42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58120" y="5089680"/>
            <a:ext cx="57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nst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88040" y="508968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3160" y="508968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86080" y="5259240"/>
            <a:ext cx="45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Servi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59200" y="525924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88040" y="525924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53160" y="52592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485720" y="5443560"/>
            <a:ext cx="1253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ontrol y plane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85360" y="5629320"/>
            <a:ext cx="1236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ntrol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59560" y="56293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89120" y="562932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53520" y="56293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86080" y="5802480"/>
            <a:ext cx="101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ntrol de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59560" y="58024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389120" y="580248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53520" y="58024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86080" y="5973840"/>
            <a:ext cx="1164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ntrol de 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59560" y="59738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89120" y="597384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53520" y="59738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1670040"/>
            <a:ext cx="25200" cy="4468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10280" y="1676520"/>
            <a:ext cx="25560" cy="4443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73120" y="1600200"/>
            <a:ext cx="6985080" cy="74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73120" y="6113520"/>
            <a:ext cx="6985080" cy="74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489800" y="1703520"/>
            <a:ext cx="54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13240" y="2073240"/>
            <a:ext cx="91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Una sola un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13600" y="2419200"/>
            <a:ext cx="47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Ning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113600" y="2593800"/>
            <a:ext cx="4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uy 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13600" y="27669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Ún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13240" y="2936880"/>
            <a:ext cx="91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Una sola un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113600" y="3306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13600" y="347976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No rutinar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13600" y="36511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13600" y="401940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13960" y="419400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12520" y="4363920"/>
            <a:ext cx="1188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ropósitos gene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13600" y="473400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13600" y="490680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113960" y="507996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13600" y="524988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14680" y="561960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14680" y="579276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14680" y="596412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442360" y="1685880"/>
            <a:ext cx="25200" cy="4443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1905120"/>
            <a:ext cx="7010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3114720"/>
            <a:ext cx="7010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47920" y="3838680"/>
            <a:ext cx="7010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4543560"/>
            <a:ext cx="7010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47920" y="5419800"/>
            <a:ext cx="7010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03760" y="1681200"/>
            <a:ext cx="25560" cy="4443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41880" y="1676520"/>
            <a:ext cx="25200" cy="4443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1666800"/>
            <a:ext cx="25200" cy="4443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790DA-57A3-4008-8941-542B0A6F45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A Ped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oductos elaborados de acuerdo a especificaciones del cliente (fecha, precio, etc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Costos, Cumplimiento de plazos, Cumplimiento de especif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staurant, Sastre, Imprenta, Alfombras Tej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4154400"/>
            <a:ext cx="861084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ara Inventar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oductos son elaborados para venta por stock contra deman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Servicio (ventas no cumplidas), Co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 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Autos, TV, Mc Donald, Ropa en Tien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CCFA-313B-4DD9-885D-ED7AFEFA2E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conveni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r pedidos e invent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poner el ensamble d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r inventario de producto genér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Caso Benetton, 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71FBA-F9A5-4C10-825D-BDF7B3A90A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543800" cy="27403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219320" y="20574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ahoma"/>
              </a:rPr>
              <a:t>Fabricación para Inventario versus Fabricación por Ped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BCA22-5D5D-44E5-807A-3C33368ABA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selección del proceso productivo corresponde a una decisión de nivel estratég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elaciona fuertemente con el diseño del producto, los volúmenes de producción y las tecnologí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C003-5FA8-4828-AEC1-3E48D5BCAD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324840" cy="34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37997-4FF5-430A-8BA4-86FEA5FCD0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querimientos de capital y costos de op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en línea requiere mayor costo de capital, pero menor costo opera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Condicione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umen alto lleva a un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ompetencia puede exigir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ponibilidad, costo y habilidades de la mano de ob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slado de industrias a países en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B2192-9330-4FA5-B6F8-C4ACB83C86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apacidad administrat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bcontratación de algunos procesos (ejemplo: transpor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Disponibilidad y precio de la materia pri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necesita suministro continuo de insu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Estado de la tecn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tiene mayor riesgo frente a factor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18759-2B8B-48A4-B012-1A4B0364A6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Producción Personalizada en Masa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Usar tecnologías y la imaginación para rápidamente producir en grandes volúmenes productos que satisfagan las necesidades (únicas) de cada cl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Bajo la producción-en-masa personaliza los tres tipos de procesos (Intermitente, en Línea y Continuo) se hacen tan flexible que no es posible distinguirlos haciendo la diferencia entre variedad y volumen menos significa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lcan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riedad (job shop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jos costos (proceso continu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s: Dell, GM,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Toyota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, Nike, Za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950E8-4E6E-4553-A9E7-8B461CBB24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391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ahoma"/>
              </a:rPr>
              <a:t>Sistemas de Manufactura Flexible (SMF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746280" y="1663560"/>
            <a:ext cx="80928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En 2004, Nissan produjo 260,066 vehículos en su planta de Canton, Mississippi, incluyendo 91,296 camionetas Titan, 68,684 Altima, 43,958 minivan Quest, 40,437 SUV Armada y 15,691 SUV Infinity QXC5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Toyota en su planta de Georgetown produce 4 tipos diferentes de vehículos (Camry, Avalon, Solara, Hybrid) cada 2 minut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48A83-584A-4D88-A584-242BD58D57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4724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Un Ejemplo de SMF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5334120"/>
            <a:ext cx="876312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En general, I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Palatino Linotype"/>
              </a:rPr>
              <a:t>F</a:t>
            </a: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 &gt; I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Palatino Linotype"/>
              </a:rPr>
              <a:t>D </a:t>
            </a: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y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 y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Palatino Linotype"/>
              </a:rPr>
              <a:t>B</a:t>
            </a: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 son variables aleatorias (riesgo de merca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Cuáles son los niveles óptimos de capacidad Flexible y Dedicada a insta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703800" y="1463760"/>
            <a:ext cx="7855560" cy="3873240"/>
            <a:chOff x="703800" y="1463760"/>
            <a:chExt cx="7855560" cy="3873240"/>
          </a:xfrm>
        </p:grpSpPr>
        <p:sp>
          <p:nvSpPr>
            <p:cNvPr id="373" name=""/>
            <p:cNvSpPr/>
            <p:nvPr/>
          </p:nvSpPr>
          <p:spPr>
            <a:xfrm>
              <a:off x="901800" y="2916360"/>
              <a:ext cx="1270080" cy="726840"/>
            </a:xfrm>
            <a:prstGeom prst="rect">
              <a:avLst/>
            </a:prstGeom>
            <a:solidFill>
              <a:srgbClr val="800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57040" y="306072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Capacid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04760" y="3254400"/>
              <a:ext cx="12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21040" y="3367080"/>
              <a:ext cx="72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ffffff"/>
                  </a:solidFill>
                  <a:latin typeface="Palatino Linotype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47320" y="32544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46440" y="2189160"/>
              <a:ext cx="1454040" cy="727200"/>
            </a:xfrm>
            <a:custGeom>
              <a:avLst/>
              <a:gdLst/>
              <a:ahLst/>
              <a:rect l="l" t="t" r="r" b="b"/>
              <a:pathLst>
                <a:path w="916" h="458">
                  <a:moveTo>
                    <a:pt x="0" y="229"/>
                  </a:moveTo>
                  <a:lnTo>
                    <a:pt x="2" y="209"/>
                  </a:lnTo>
                  <a:lnTo>
                    <a:pt x="8" y="187"/>
                  </a:lnTo>
                  <a:lnTo>
                    <a:pt x="19" y="167"/>
                  </a:lnTo>
                  <a:lnTo>
                    <a:pt x="32" y="147"/>
                  </a:lnTo>
                  <a:lnTo>
                    <a:pt x="49" y="127"/>
                  </a:lnTo>
                  <a:lnTo>
                    <a:pt x="69" y="109"/>
                  </a:lnTo>
                  <a:lnTo>
                    <a:pt x="93" y="92"/>
                  </a:lnTo>
                  <a:lnTo>
                    <a:pt x="120" y="76"/>
                  </a:lnTo>
                  <a:lnTo>
                    <a:pt x="150" y="60"/>
                  </a:lnTo>
                  <a:lnTo>
                    <a:pt x="182" y="47"/>
                  </a:lnTo>
                  <a:lnTo>
                    <a:pt x="217" y="35"/>
                  </a:lnTo>
                  <a:lnTo>
                    <a:pt x="255" y="25"/>
                  </a:lnTo>
                  <a:lnTo>
                    <a:pt x="293" y="17"/>
                  </a:lnTo>
                  <a:lnTo>
                    <a:pt x="333" y="9"/>
                  </a:lnTo>
                  <a:lnTo>
                    <a:pt x="375" y="4"/>
                  </a:lnTo>
                  <a:lnTo>
                    <a:pt x="416" y="1"/>
                  </a:lnTo>
                  <a:lnTo>
                    <a:pt x="458" y="0"/>
                  </a:lnTo>
                  <a:lnTo>
                    <a:pt x="501" y="1"/>
                  </a:lnTo>
                  <a:lnTo>
                    <a:pt x="542" y="4"/>
                  </a:lnTo>
                  <a:lnTo>
                    <a:pt x="584" y="9"/>
                  </a:lnTo>
                  <a:lnTo>
                    <a:pt x="624" y="17"/>
                  </a:lnTo>
                  <a:lnTo>
                    <a:pt x="662" y="25"/>
                  </a:lnTo>
                  <a:lnTo>
                    <a:pt x="699" y="35"/>
                  </a:lnTo>
                  <a:lnTo>
                    <a:pt x="735" y="47"/>
                  </a:lnTo>
                  <a:lnTo>
                    <a:pt x="767" y="60"/>
                  </a:lnTo>
                  <a:lnTo>
                    <a:pt x="797" y="76"/>
                  </a:lnTo>
                  <a:lnTo>
                    <a:pt x="823" y="92"/>
                  </a:lnTo>
                  <a:lnTo>
                    <a:pt x="847" y="109"/>
                  </a:lnTo>
                  <a:lnTo>
                    <a:pt x="868" y="127"/>
                  </a:lnTo>
                  <a:lnTo>
                    <a:pt x="885" y="147"/>
                  </a:lnTo>
                  <a:lnTo>
                    <a:pt x="898" y="167"/>
                  </a:lnTo>
                  <a:lnTo>
                    <a:pt x="908" y="187"/>
                  </a:lnTo>
                  <a:lnTo>
                    <a:pt x="914" y="209"/>
                  </a:lnTo>
                  <a:lnTo>
                    <a:pt x="916" y="229"/>
                  </a:lnTo>
                  <a:lnTo>
                    <a:pt x="914" y="250"/>
                  </a:lnTo>
                  <a:lnTo>
                    <a:pt x="908" y="272"/>
                  </a:lnTo>
                  <a:lnTo>
                    <a:pt x="898" y="292"/>
                  </a:lnTo>
                  <a:lnTo>
                    <a:pt x="885" y="313"/>
                  </a:lnTo>
                  <a:lnTo>
                    <a:pt x="868" y="332"/>
                  </a:lnTo>
                  <a:lnTo>
                    <a:pt x="847" y="350"/>
                  </a:lnTo>
                  <a:lnTo>
                    <a:pt x="823" y="367"/>
                  </a:lnTo>
                  <a:lnTo>
                    <a:pt x="797" y="384"/>
                  </a:lnTo>
                  <a:lnTo>
                    <a:pt x="767" y="399"/>
                  </a:lnTo>
                  <a:lnTo>
                    <a:pt x="735" y="412"/>
                  </a:lnTo>
                  <a:lnTo>
                    <a:pt x="699" y="424"/>
                  </a:lnTo>
                  <a:lnTo>
                    <a:pt x="662" y="435"/>
                  </a:lnTo>
                  <a:lnTo>
                    <a:pt x="624" y="443"/>
                  </a:lnTo>
                  <a:lnTo>
                    <a:pt x="584" y="450"/>
                  </a:lnTo>
                  <a:lnTo>
                    <a:pt x="542" y="455"/>
                  </a:lnTo>
                  <a:lnTo>
                    <a:pt x="501" y="457"/>
                  </a:lnTo>
                  <a:lnTo>
                    <a:pt x="458" y="458"/>
                  </a:lnTo>
                  <a:lnTo>
                    <a:pt x="416" y="457"/>
                  </a:lnTo>
                  <a:lnTo>
                    <a:pt x="375" y="455"/>
                  </a:lnTo>
                  <a:lnTo>
                    <a:pt x="333" y="450"/>
                  </a:lnTo>
                  <a:lnTo>
                    <a:pt x="293" y="443"/>
                  </a:lnTo>
                  <a:lnTo>
                    <a:pt x="255" y="435"/>
                  </a:lnTo>
                  <a:lnTo>
                    <a:pt x="217" y="424"/>
                  </a:lnTo>
                  <a:lnTo>
                    <a:pt x="182" y="412"/>
                  </a:lnTo>
                  <a:lnTo>
                    <a:pt x="150" y="399"/>
                  </a:lnTo>
                  <a:lnTo>
                    <a:pt x="120" y="384"/>
                  </a:lnTo>
                  <a:lnTo>
                    <a:pt x="93" y="367"/>
                  </a:lnTo>
                  <a:lnTo>
                    <a:pt x="69" y="350"/>
                  </a:lnTo>
                  <a:lnTo>
                    <a:pt x="49" y="332"/>
                  </a:lnTo>
                  <a:lnTo>
                    <a:pt x="32" y="313"/>
                  </a:lnTo>
                  <a:lnTo>
                    <a:pt x="19" y="292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cece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88080" y="2335320"/>
              <a:ext cx="896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Mercado 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17800" y="2529000"/>
              <a:ext cx="12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47760" y="2639880"/>
              <a:ext cx="8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466b14"/>
                  </a:solidFill>
                  <a:latin typeface="Palatino Linotype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92040" y="25290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80720" y="1569960"/>
              <a:ext cx="2236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100" spc="-1" strike="noStrike">
                  <a:solidFill>
                    <a:srgbClr val="000080"/>
                  </a:solidFill>
                  <a:latin typeface="Garamond"/>
                </a:rPr>
                <a:t>Sistema Flexibl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6440" y="3643200"/>
              <a:ext cx="1454040" cy="725760"/>
            </a:xfrm>
            <a:custGeom>
              <a:avLst/>
              <a:gdLst/>
              <a:ahLst/>
              <a:rect l="l" t="t" r="r" b="b"/>
              <a:pathLst>
                <a:path w="916" h="457">
                  <a:moveTo>
                    <a:pt x="0" y="228"/>
                  </a:moveTo>
                  <a:lnTo>
                    <a:pt x="2" y="208"/>
                  </a:lnTo>
                  <a:lnTo>
                    <a:pt x="8" y="187"/>
                  </a:lnTo>
                  <a:lnTo>
                    <a:pt x="19" y="166"/>
                  </a:lnTo>
                  <a:lnTo>
                    <a:pt x="32" y="146"/>
                  </a:lnTo>
                  <a:lnTo>
                    <a:pt x="49" y="127"/>
                  </a:lnTo>
                  <a:lnTo>
                    <a:pt x="69" y="108"/>
                  </a:lnTo>
                  <a:lnTo>
                    <a:pt x="93" y="91"/>
                  </a:lnTo>
                  <a:lnTo>
                    <a:pt x="120" y="75"/>
                  </a:lnTo>
                  <a:lnTo>
                    <a:pt x="150" y="60"/>
                  </a:lnTo>
                  <a:lnTo>
                    <a:pt x="182" y="46"/>
                  </a:lnTo>
                  <a:lnTo>
                    <a:pt x="217" y="34"/>
                  </a:lnTo>
                  <a:lnTo>
                    <a:pt x="255" y="24"/>
                  </a:lnTo>
                  <a:lnTo>
                    <a:pt x="293" y="16"/>
                  </a:lnTo>
                  <a:lnTo>
                    <a:pt x="333" y="9"/>
                  </a:lnTo>
                  <a:lnTo>
                    <a:pt x="375" y="4"/>
                  </a:lnTo>
                  <a:lnTo>
                    <a:pt x="416" y="1"/>
                  </a:lnTo>
                  <a:lnTo>
                    <a:pt x="458" y="0"/>
                  </a:lnTo>
                  <a:lnTo>
                    <a:pt x="501" y="1"/>
                  </a:lnTo>
                  <a:lnTo>
                    <a:pt x="542" y="4"/>
                  </a:lnTo>
                  <a:lnTo>
                    <a:pt x="584" y="9"/>
                  </a:lnTo>
                  <a:lnTo>
                    <a:pt x="624" y="16"/>
                  </a:lnTo>
                  <a:lnTo>
                    <a:pt x="662" y="24"/>
                  </a:lnTo>
                  <a:lnTo>
                    <a:pt x="699" y="34"/>
                  </a:lnTo>
                  <a:lnTo>
                    <a:pt x="735" y="46"/>
                  </a:lnTo>
                  <a:lnTo>
                    <a:pt x="767" y="60"/>
                  </a:lnTo>
                  <a:lnTo>
                    <a:pt x="797" y="75"/>
                  </a:lnTo>
                  <a:lnTo>
                    <a:pt x="823" y="91"/>
                  </a:lnTo>
                  <a:lnTo>
                    <a:pt x="847" y="108"/>
                  </a:lnTo>
                  <a:lnTo>
                    <a:pt x="868" y="127"/>
                  </a:lnTo>
                  <a:lnTo>
                    <a:pt x="885" y="146"/>
                  </a:lnTo>
                  <a:lnTo>
                    <a:pt x="898" y="166"/>
                  </a:lnTo>
                  <a:lnTo>
                    <a:pt x="908" y="187"/>
                  </a:lnTo>
                  <a:lnTo>
                    <a:pt x="914" y="208"/>
                  </a:lnTo>
                  <a:lnTo>
                    <a:pt x="916" y="228"/>
                  </a:lnTo>
                  <a:lnTo>
                    <a:pt x="914" y="250"/>
                  </a:lnTo>
                  <a:lnTo>
                    <a:pt x="908" y="271"/>
                  </a:lnTo>
                  <a:lnTo>
                    <a:pt x="898" y="291"/>
                  </a:lnTo>
                  <a:lnTo>
                    <a:pt x="885" y="312"/>
                  </a:lnTo>
                  <a:lnTo>
                    <a:pt x="868" y="331"/>
                  </a:lnTo>
                  <a:lnTo>
                    <a:pt x="847" y="349"/>
                  </a:lnTo>
                  <a:lnTo>
                    <a:pt x="823" y="367"/>
                  </a:lnTo>
                  <a:lnTo>
                    <a:pt x="797" y="383"/>
                  </a:lnTo>
                  <a:lnTo>
                    <a:pt x="767" y="398"/>
                  </a:lnTo>
                  <a:lnTo>
                    <a:pt x="735" y="411"/>
                  </a:lnTo>
                  <a:lnTo>
                    <a:pt x="699" y="424"/>
                  </a:lnTo>
                  <a:lnTo>
                    <a:pt x="662" y="434"/>
                  </a:lnTo>
                  <a:lnTo>
                    <a:pt x="624" y="442"/>
                  </a:lnTo>
                  <a:lnTo>
                    <a:pt x="584" y="449"/>
                  </a:lnTo>
                  <a:lnTo>
                    <a:pt x="542" y="454"/>
                  </a:lnTo>
                  <a:lnTo>
                    <a:pt x="501" y="456"/>
                  </a:lnTo>
                  <a:lnTo>
                    <a:pt x="458" y="457"/>
                  </a:lnTo>
                  <a:lnTo>
                    <a:pt x="416" y="456"/>
                  </a:lnTo>
                  <a:lnTo>
                    <a:pt x="375" y="454"/>
                  </a:lnTo>
                  <a:lnTo>
                    <a:pt x="333" y="449"/>
                  </a:lnTo>
                  <a:lnTo>
                    <a:pt x="293" y="442"/>
                  </a:lnTo>
                  <a:lnTo>
                    <a:pt x="255" y="434"/>
                  </a:lnTo>
                  <a:lnTo>
                    <a:pt x="217" y="424"/>
                  </a:lnTo>
                  <a:lnTo>
                    <a:pt x="182" y="411"/>
                  </a:lnTo>
                  <a:lnTo>
                    <a:pt x="150" y="398"/>
                  </a:lnTo>
                  <a:lnTo>
                    <a:pt x="120" y="383"/>
                  </a:lnTo>
                  <a:lnTo>
                    <a:pt x="93" y="367"/>
                  </a:lnTo>
                  <a:lnTo>
                    <a:pt x="69" y="349"/>
                  </a:lnTo>
                  <a:lnTo>
                    <a:pt x="49" y="331"/>
                  </a:lnTo>
                  <a:lnTo>
                    <a:pt x="32" y="312"/>
                  </a:lnTo>
                  <a:lnTo>
                    <a:pt x="19" y="291"/>
                  </a:lnTo>
                  <a:lnTo>
                    <a:pt x="8" y="271"/>
                  </a:lnTo>
                  <a:lnTo>
                    <a:pt x="2" y="250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cece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93840" y="3787920"/>
              <a:ext cx="884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Mercado 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23920" y="3981600"/>
              <a:ext cx="12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53880" y="40924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466b14"/>
                  </a:solidFill>
                  <a:latin typeface="Palatino Linotype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85920" y="39816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79800" y="2673360"/>
              <a:ext cx="598320" cy="600120"/>
            </a:xfrm>
            <a:custGeom>
              <a:avLst/>
              <a:gdLst/>
              <a:ahLst/>
              <a:rect l="l" t="t" r="r" b="b"/>
              <a:pathLst>
                <a:path w="377" h="378">
                  <a:moveTo>
                    <a:pt x="377" y="0"/>
                  </a:moveTo>
                  <a:lnTo>
                    <a:pt x="292" y="0"/>
                  </a:lnTo>
                  <a:lnTo>
                    <a:pt x="321" y="29"/>
                  </a:lnTo>
                  <a:lnTo>
                    <a:pt x="0" y="349"/>
                  </a:lnTo>
                  <a:lnTo>
                    <a:pt x="29" y="378"/>
                  </a:lnTo>
                  <a:lnTo>
                    <a:pt x="349" y="57"/>
                  </a:lnTo>
                  <a:lnTo>
                    <a:pt x="377" y="85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e6e6e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79800" y="3287880"/>
              <a:ext cx="598320" cy="596880"/>
            </a:xfrm>
            <a:custGeom>
              <a:avLst/>
              <a:gdLst/>
              <a:ahLst/>
              <a:rect l="l" t="t" r="r" b="b"/>
              <a:pathLst>
                <a:path w="377" h="376">
                  <a:moveTo>
                    <a:pt x="377" y="376"/>
                  </a:moveTo>
                  <a:lnTo>
                    <a:pt x="292" y="376"/>
                  </a:lnTo>
                  <a:lnTo>
                    <a:pt x="321" y="349"/>
                  </a:lnTo>
                  <a:lnTo>
                    <a:pt x="0" y="28"/>
                  </a:lnTo>
                  <a:lnTo>
                    <a:pt x="29" y="0"/>
                  </a:lnTo>
                  <a:lnTo>
                    <a:pt x="349" y="320"/>
                  </a:lnTo>
                  <a:lnTo>
                    <a:pt x="377" y="293"/>
                  </a:lnTo>
                  <a:lnTo>
                    <a:pt x="377" y="376"/>
                  </a:lnTo>
                  <a:close/>
                </a:path>
              </a:pathLst>
            </a:custGeom>
            <a:solidFill>
              <a:srgbClr val="e6e6e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25880" y="2189160"/>
              <a:ext cx="1273320" cy="727200"/>
            </a:xfrm>
            <a:prstGeom prst="rect">
              <a:avLst/>
            </a:prstGeom>
            <a:solidFill>
              <a:srgbClr val="800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2920" y="233532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Capacid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17680" y="2529000"/>
              <a:ext cx="12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40080" y="2639880"/>
              <a:ext cx="8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ffffff"/>
                  </a:solidFill>
                  <a:latin typeface="Palatino Linotype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4360" y="25290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56840" y="1569960"/>
              <a:ext cx="2397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100" spc="-1" strike="noStrike">
                  <a:solidFill>
                    <a:srgbClr val="000080"/>
                  </a:solidFill>
                  <a:latin typeface="Garamond"/>
                </a:rPr>
                <a:t>Sistema Dedicad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99200" y="2459160"/>
              <a:ext cx="785880" cy="188640"/>
            </a:xfrm>
            <a:custGeom>
              <a:avLst/>
              <a:gdLst/>
              <a:ahLst/>
              <a:rect l="l" t="t" r="r" b="b"/>
              <a:pathLst>
                <a:path w="495" h="119">
                  <a:moveTo>
                    <a:pt x="495" y="59"/>
                  </a:moveTo>
                  <a:lnTo>
                    <a:pt x="436" y="0"/>
                  </a:lnTo>
                  <a:lnTo>
                    <a:pt x="436" y="40"/>
                  </a:lnTo>
                  <a:lnTo>
                    <a:pt x="0" y="40"/>
                  </a:lnTo>
                  <a:lnTo>
                    <a:pt x="0" y="79"/>
                  </a:lnTo>
                  <a:lnTo>
                    <a:pt x="436" y="79"/>
                  </a:lnTo>
                  <a:lnTo>
                    <a:pt x="436" y="119"/>
                  </a:lnTo>
                  <a:lnTo>
                    <a:pt x="495" y="59"/>
                  </a:lnTo>
                  <a:close/>
                </a:path>
              </a:pathLst>
            </a:custGeom>
            <a:solidFill>
              <a:srgbClr val="e6e6e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25880" y="3643200"/>
              <a:ext cx="1273320" cy="725760"/>
            </a:xfrm>
            <a:prstGeom prst="rect">
              <a:avLst/>
            </a:prstGeom>
            <a:solidFill>
              <a:srgbClr val="800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82920" y="378792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Capacid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4160" y="3981600"/>
              <a:ext cx="12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46200" y="40924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ffffff"/>
                  </a:solidFill>
                  <a:latin typeface="Palatino Linotype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78240" y="39816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99200" y="3911760"/>
              <a:ext cx="785880" cy="188640"/>
            </a:xfrm>
            <a:custGeom>
              <a:avLst/>
              <a:gdLst/>
              <a:ahLst/>
              <a:rect l="l" t="t" r="r" b="b"/>
              <a:pathLst>
                <a:path w="495" h="119">
                  <a:moveTo>
                    <a:pt x="495" y="59"/>
                  </a:moveTo>
                  <a:lnTo>
                    <a:pt x="436" y="0"/>
                  </a:lnTo>
                  <a:lnTo>
                    <a:pt x="436" y="40"/>
                  </a:lnTo>
                  <a:lnTo>
                    <a:pt x="0" y="40"/>
                  </a:lnTo>
                  <a:lnTo>
                    <a:pt x="0" y="80"/>
                  </a:lnTo>
                  <a:lnTo>
                    <a:pt x="436" y="80"/>
                  </a:lnTo>
                  <a:lnTo>
                    <a:pt x="436" y="119"/>
                  </a:lnTo>
                  <a:lnTo>
                    <a:pt x="495" y="59"/>
                  </a:lnTo>
                  <a:close/>
                </a:path>
              </a:pathLst>
            </a:custGeom>
            <a:solidFill>
              <a:srgbClr val="e6e6e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3800" y="4532400"/>
              <a:ext cx="178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Costos Operacional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9520" y="472608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02160" y="4824360"/>
              <a:ext cx="72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39160" y="4726080"/>
              <a:ext cx="20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dad de capacida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77120" y="4532400"/>
              <a:ext cx="178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Costos Operacional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39840" y="472608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03920" y="48243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57120" y="4726080"/>
              <a:ext cx="20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dad de capacida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41680" y="1463760"/>
              <a:ext cx="18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41680" y="1841400"/>
              <a:ext cx="18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41680" y="2219400"/>
              <a:ext cx="18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41680" y="2597040"/>
              <a:ext cx="18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41680" y="2975040"/>
              <a:ext cx="18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41680" y="3351240"/>
              <a:ext cx="180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41680" y="3728880"/>
              <a:ext cx="1800" cy="23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41680" y="4106880"/>
              <a:ext cx="180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41680" y="4484520"/>
              <a:ext cx="1800" cy="23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41680" y="4862520"/>
              <a:ext cx="180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41680" y="5240160"/>
              <a:ext cx="1800" cy="9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33840" y="2962440"/>
              <a:ext cx="90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ngresos: 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69400" y="3059280"/>
              <a:ext cx="8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18720" y="2962440"/>
              <a:ext cx="69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33840" y="4414680"/>
              <a:ext cx="90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ngresos: 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73720" y="45133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20880" y="4414680"/>
              <a:ext cx="65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89760" y="2193840"/>
              <a:ext cx="1454040" cy="727200"/>
            </a:xfrm>
            <a:custGeom>
              <a:avLst/>
              <a:gdLst/>
              <a:ahLst/>
              <a:rect l="l" t="t" r="r" b="b"/>
              <a:pathLst>
                <a:path w="916" h="458">
                  <a:moveTo>
                    <a:pt x="0" y="229"/>
                  </a:moveTo>
                  <a:lnTo>
                    <a:pt x="2" y="209"/>
                  </a:lnTo>
                  <a:lnTo>
                    <a:pt x="8" y="187"/>
                  </a:lnTo>
                  <a:lnTo>
                    <a:pt x="19" y="167"/>
                  </a:lnTo>
                  <a:lnTo>
                    <a:pt x="32" y="147"/>
                  </a:lnTo>
                  <a:lnTo>
                    <a:pt x="49" y="127"/>
                  </a:lnTo>
                  <a:lnTo>
                    <a:pt x="69" y="109"/>
                  </a:lnTo>
                  <a:lnTo>
                    <a:pt x="93" y="92"/>
                  </a:lnTo>
                  <a:lnTo>
                    <a:pt x="120" y="76"/>
                  </a:lnTo>
                  <a:lnTo>
                    <a:pt x="150" y="60"/>
                  </a:lnTo>
                  <a:lnTo>
                    <a:pt x="182" y="47"/>
                  </a:lnTo>
                  <a:lnTo>
                    <a:pt x="217" y="35"/>
                  </a:lnTo>
                  <a:lnTo>
                    <a:pt x="255" y="25"/>
                  </a:lnTo>
                  <a:lnTo>
                    <a:pt x="293" y="17"/>
                  </a:lnTo>
                  <a:lnTo>
                    <a:pt x="333" y="9"/>
                  </a:lnTo>
                  <a:lnTo>
                    <a:pt x="375" y="4"/>
                  </a:lnTo>
                  <a:lnTo>
                    <a:pt x="416" y="1"/>
                  </a:lnTo>
                  <a:lnTo>
                    <a:pt x="458" y="0"/>
                  </a:lnTo>
                  <a:lnTo>
                    <a:pt x="501" y="1"/>
                  </a:lnTo>
                  <a:lnTo>
                    <a:pt x="542" y="4"/>
                  </a:lnTo>
                  <a:lnTo>
                    <a:pt x="584" y="9"/>
                  </a:lnTo>
                  <a:lnTo>
                    <a:pt x="624" y="17"/>
                  </a:lnTo>
                  <a:lnTo>
                    <a:pt x="662" y="25"/>
                  </a:lnTo>
                  <a:lnTo>
                    <a:pt x="699" y="35"/>
                  </a:lnTo>
                  <a:lnTo>
                    <a:pt x="735" y="47"/>
                  </a:lnTo>
                  <a:lnTo>
                    <a:pt x="767" y="60"/>
                  </a:lnTo>
                  <a:lnTo>
                    <a:pt x="797" y="76"/>
                  </a:lnTo>
                  <a:lnTo>
                    <a:pt x="823" y="92"/>
                  </a:lnTo>
                  <a:lnTo>
                    <a:pt x="847" y="109"/>
                  </a:lnTo>
                  <a:lnTo>
                    <a:pt x="868" y="127"/>
                  </a:lnTo>
                  <a:lnTo>
                    <a:pt x="885" y="147"/>
                  </a:lnTo>
                  <a:lnTo>
                    <a:pt x="898" y="167"/>
                  </a:lnTo>
                  <a:lnTo>
                    <a:pt x="908" y="187"/>
                  </a:lnTo>
                  <a:lnTo>
                    <a:pt x="914" y="209"/>
                  </a:lnTo>
                  <a:lnTo>
                    <a:pt x="916" y="229"/>
                  </a:lnTo>
                  <a:lnTo>
                    <a:pt x="914" y="250"/>
                  </a:lnTo>
                  <a:lnTo>
                    <a:pt x="908" y="272"/>
                  </a:lnTo>
                  <a:lnTo>
                    <a:pt x="898" y="292"/>
                  </a:lnTo>
                  <a:lnTo>
                    <a:pt x="885" y="313"/>
                  </a:lnTo>
                  <a:lnTo>
                    <a:pt x="868" y="332"/>
                  </a:lnTo>
                  <a:lnTo>
                    <a:pt x="847" y="350"/>
                  </a:lnTo>
                  <a:lnTo>
                    <a:pt x="823" y="367"/>
                  </a:lnTo>
                  <a:lnTo>
                    <a:pt x="797" y="384"/>
                  </a:lnTo>
                  <a:lnTo>
                    <a:pt x="767" y="399"/>
                  </a:lnTo>
                  <a:lnTo>
                    <a:pt x="735" y="412"/>
                  </a:lnTo>
                  <a:lnTo>
                    <a:pt x="699" y="424"/>
                  </a:lnTo>
                  <a:lnTo>
                    <a:pt x="662" y="435"/>
                  </a:lnTo>
                  <a:lnTo>
                    <a:pt x="624" y="443"/>
                  </a:lnTo>
                  <a:lnTo>
                    <a:pt x="584" y="450"/>
                  </a:lnTo>
                  <a:lnTo>
                    <a:pt x="542" y="455"/>
                  </a:lnTo>
                  <a:lnTo>
                    <a:pt x="501" y="457"/>
                  </a:lnTo>
                  <a:lnTo>
                    <a:pt x="458" y="458"/>
                  </a:lnTo>
                  <a:lnTo>
                    <a:pt x="416" y="457"/>
                  </a:lnTo>
                  <a:lnTo>
                    <a:pt x="375" y="455"/>
                  </a:lnTo>
                  <a:lnTo>
                    <a:pt x="333" y="450"/>
                  </a:lnTo>
                  <a:lnTo>
                    <a:pt x="293" y="443"/>
                  </a:lnTo>
                  <a:lnTo>
                    <a:pt x="255" y="435"/>
                  </a:lnTo>
                  <a:lnTo>
                    <a:pt x="217" y="424"/>
                  </a:lnTo>
                  <a:lnTo>
                    <a:pt x="182" y="412"/>
                  </a:lnTo>
                  <a:lnTo>
                    <a:pt x="150" y="399"/>
                  </a:lnTo>
                  <a:lnTo>
                    <a:pt x="120" y="384"/>
                  </a:lnTo>
                  <a:lnTo>
                    <a:pt x="93" y="367"/>
                  </a:lnTo>
                  <a:lnTo>
                    <a:pt x="69" y="350"/>
                  </a:lnTo>
                  <a:lnTo>
                    <a:pt x="49" y="332"/>
                  </a:lnTo>
                  <a:lnTo>
                    <a:pt x="32" y="313"/>
                  </a:lnTo>
                  <a:lnTo>
                    <a:pt x="19" y="292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cece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31400" y="2340000"/>
              <a:ext cx="896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Mercado 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61120" y="2533680"/>
              <a:ext cx="12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291080" y="2644920"/>
              <a:ext cx="8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466b14"/>
                  </a:solidFill>
                  <a:latin typeface="Palatino Linotype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335360" y="253368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977520" y="2967120"/>
              <a:ext cx="90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ngresos: 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12720" y="3063960"/>
              <a:ext cx="8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62040" y="2967120"/>
              <a:ext cx="69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10280" y="3641760"/>
              <a:ext cx="1454400" cy="725400"/>
            </a:xfrm>
            <a:custGeom>
              <a:avLst/>
              <a:gdLst/>
              <a:ahLst/>
              <a:rect l="l" t="t" r="r" b="b"/>
              <a:pathLst>
                <a:path w="916" h="457">
                  <a:moveTo>
                    <a:pt x="0" y="228"/>
                  </a:moveTo>
                  <a:lnTo>
                    <a:pt x="2" y="208"/>
                  </a:lnTo>
                  <a:lnTo>
                    <a:pt x="8" y="187"/>
                  </a:lnTo>
                  <a:lnTo>
                    <a:pt x="19" y="166"/>
                  </a:lnTo>
                  <a:lnTo>
                    <a:pt x="32" y="146"/>
                  </a:lnTo>
                  <a:lnTo>
                    <a:pt x="49" y="127"/>
                  </a:lnTo>
                  <a:lnTo>
                    <a:pt x="69" y="108"/>
                  </a:lnTo>
                  <a:lnTo>
                    <a:pt x="93" y="91"/>
                  </a:lnTo>
                  <a:lnTo>
                    <a:pt x="120" y="75"/>
                  </a:lnTo>
                  <a:lnTo>
                    <a:pt x="150" y="60"/>
                  </a:lnTo>
                  <a:lnTo>
                    <a:pt x="182" y="46"/>
                  </a:lnTo>
                  <a:lnTo>
                    <a:pt x="217" y="34"/>
                  </a:lnTo>
                  <a:lnTo>
                    <a:pt x="255" y="24"/>
                  </a:lnTo>
                  <a:lnTo>
                    <a:pt x="293" y="16"/>
                  </a:lnTo>
                  <a:lnTo>
                    <a:pt x="333" y="9"/>
                  </a:lnTo>
                  <a:lnTo>
                    <a:pt x="375" y="4"/>
                  </a:lnTo>
                  <a:lnTo>
                    <a:pt x="416" y="1"/>
                  </a:lnTo>
                  <a:lnTo>
                    <a:pt x="458" y="0"/>
                  </a:lnTo>
                  <a:lnTo>
                    <a:pt x="501" y="1"/>
                  </a:lnTo>
                  <a:lnTo>
                    <a:pt x="542" y="4"/>
                  </a:lnTo>
                  <a:lnTo>
                    <a:pt x="584" y="9"/>
                  </a:lnTo>
                  <a:lnTo>
                    <a:pt x="624" y="16"/>
                  </a:lnTo>
                  <a:lnTo>
                    <a:pt x="662" y="24"/>
                  </a:lnTo>
                  <a:lnTo>
                    <a:pt x="699" y="34"/>
                  </a:lnTo>
                  <a:lnTo>
                    <a:pt x="735" y="46"/>
                  </a:lnTo>
                  <a:lnTo>
                    <a:pt x="767" y="60"/>
                  </a:lnTo>
                  <a:lnTo>
                    <a:pt x="797" y="75"/>
                  </a:lnTo>
                  <a:lnTo>
                    <a:pt x="823" y="91"/>
                  </a:lnTo>
                  <a:lnTo>
                    <a:pt x="847" y="108"/>
                  </a:lnTo>
                  <a:lnTo>
                    <a:pt x="868" y="127"/>
                  </a:lnTo>
                  <a:lnTo>
                    <a:pt x="885" y="146"/>
                  </a:lnTo>
                  <a:lnTo>
                    <a:pt x="898" y="166"/>
                  </a:lnTo>
                  <a:lnTo>
                    <a:pt x="908" y="187"/>
                  </a:lnTo>
                  <a:lnTo>
                    <a:pt x="914" y="208"/>
                  </a:lnTo>
                  <a:lnTo>
                    <a:pt x="916" y="228"/>
                  </a:lnTo>
                  <a:lnTo>
                    <a:pt x="914" y="250"/>
                  </a:lnTo>
                  <a:lnTo>
                    <a:pt x="908" y="271"/>
                  </a:lnTo>
                  <a:lnTo>
                    <a:pt x="898" y="291"/>
                  </a:lnTo>
                  <a:lnTo>
                    <a:pt x="885" y="312"/>
                  </a:lnTo>
                  <a:lnTo>
                    <a:pt x="868" y="331"/>
                  </a:lnTo>
                  <a:lnTo>
                    <a:pt x="847" y="349"/>
                  </a:lnTo>
                  <a:lnTo>
                    <a:pt x="823" y="367"/>
                  </a:lnTo>
                  <a:lnTo>
                    <a:pt x="797" y="383"/>
                  </a:lnTo>
                  <a:lnTo>
                    <a:pt x="767" y="398"/>
                  </a:lnTo>
                  <a:lnTo>
                    <a:pt x="735" y="411"/>
                  </a:lnTo>
                  <a:lnTo>
                    <a:pt x="699" y="424"/>
                  </a:lnTo>
                  <a:lnTo>
                    <a:pt x="662" y="434"/>
                  </a:lnTo>
                  <a:lnTo>
                    <a:pt x="624" y="442"/>
                  </a:lnTo>
                  <a:lnTo>
                    <a:pt x="584" y="449"/>
                  </a:lnTo>
                  <a:lnTo>
                    <a:pt x="542" y="454"/>
                  </a:lnTo>
                  <a:lnTo>
                    <a:pt x="501" y="456"/>
                  </a:lnTo>
                  <a:lnTo>
                    <a:pt x="458" y="457"/>
                  </a:lnTo>
                  <a:lnTo>
                    <a:pt x="416" y="456"/>
                  </a:lnTo>
                  <a:lnTo>
                    <a:pt x="375" y="454"/>
                  </a:lnTo>
                  <a:lnTo>
                    <a:pt x="333" y="449"/>
                  </a:lnTo>
                  <a:lnTo>
                    <a:pt x="293" y="442"/>
                  </a:lnTo>
                  <a:lnTo>
                    <a:pt x="255" y="434"/>
                  </a:lnTo>
                  <a:lnTo>
                    <a:pt x="217" y="424"/>
                  </a:lnTo>
                  <a:lnTo>
                    <a:pt x="182" y="411"/>
                  </a:lnTo>
                  <a:lnTo>
                    <a:pt x="150" y="398"/>
                  </a:lnTo>
                  <a:lnTo>
                    <a:pt x="120" y="383"/>
                  </a:lnTo>
                  <a:lnTo>
                    <a:pt x="93" y="367"/>
                  </a:lnTo>
                  <a:lnTo>
                    <a:pt x="69" y="349"/>
                  </a:lnTo>
                  <a:lnTo>
                    <a:pt x="49" y="331"/>
                  </a:lnTo>
                  <a:lnTo>
                    <a:pt x="32" y="312"/>
                  </a:lnTo>
                  <a:lnTo>
                    <a:pt x="19" y="291"/>
                  </a:lnTo>
                  <a:lnTo>
                    <a:pt x="8" y="271"/>
                  </a:lnTo>
                  <a:lnTo>
                    <a:pt x="2" y="250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cece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358040" y="3786120"/>
              <a:ext cx="884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Mercado 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88120" y="3979800"/>
              <a:ext cx="12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18080" y="4091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466b14"/>
                  </a:solidFill>
                  <a:latin typeface="Palatino Linotype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49760" y="39798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98040" y="4413240"/>
              <a:ext cx="90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ngresos: 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37920" y="45115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885080" y="4413240"/>
              <a:ext cx="65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D7DE5-F1CB-47E0-8E6A-6875CB5305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96960"/>
            <a:ext cx="60372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Matriz de Producto-Proces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2592360" y="2273400"/>
            <a:ext cx="6178680" cy="3592440"/>
          </a:xfrm>
          <a:custGeom>
            <a:avLst/>
            <a:gdLst/>
            <a:ahLst/>
            <a:rect l="l" t="t" r="r" b="b"/>
            <a:pathLst>
              <a:path w="3503" h="2112">
                <a:moveTo>
                  <a:pt x="1" y="0"/>
                </a:moveTo>
                <a:lnTo>
                  <a:pt x="957" y="0"/>
                </a:lnTo>
                <a:lnTo>
                  <a:pt x="3503" y="0"/>
                </a:lnTo>
                <a:lnTo>
                  <a:pt x="3503" y="2112"/>
                </a:lnTo>
                <a:lnTo>
                  <a:pt x="2229" y="2112"/>
                </a:lnTo>
                <a:lnTo>
                  <a:pt x="0" y="817"/>
                </a:lnTo>
                <a:lnTo>
                  <a:pt x="1" y="0"/>
                </a:lnTo>
                <a:close/>
              </a:path>
            </a:pathLst>
          </a:custGeom>
          <a:solidFill>
            <a:srgbClr val="eaeaea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09920" y="2262240"/>
            <a:ext cx="26715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Job 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impresión, carpinterí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41040" y="3760920"/>
            <a:ext cx="20480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Línea de Ensambl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au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57960" y="4610160"/>
            <a:ext cx="2557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Proceso Contin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minería, química, vid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3040" y="2262240"/>
            <a:ext cx="238788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Alta Varied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Unas pocas unidades producidas por lo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permite personalizac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1520" y="3659040"/>
            <a:ext cx="24717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Cambios Modula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ducción en lotes estandarizad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4786200"/>
            <a:ext cx="243828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ducto altamente estandarizado (solo cambios menores en graduación, composic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27200" y="4853160"/>
            <a:ext cx="2806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ff0101"/>
                </a:solidFill>
                <a:latin typeface="Arial Narrow"/>
              </a:rPr>
              <a:t>Mala E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 Narrow"/>
              </a:rPr>
              <a:t>(Costos variables muy al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33480" y="1441440"/>
            <a:ext cx="13942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Bajo-Volum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Intermitent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32400" y="1417680"/>
            <a:ext cx="20876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ceso Repetitiv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Modula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22880" y="1441440"/>
            <a:ext cx="1354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Alto-Volum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Continu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14600" y="6072120"/>
            <a:ext cx="6434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2514600" y="1881000"/>
            <a:ext cx="0" cy="4190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67440" y="61102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Times New Roman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17680" y="16653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Times New Roman"/>
              </a:rPr>
              <a:t>Var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53080" y="2365200"/>
            <a:ext cx="218448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Prod. en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Personali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Difícil de Conseguir pero altamente rent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Dell, Za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D30ED-DBD7-4328-8806-478176E761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391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ahoma"/>
              </a:rPr>
              <a:t>Cómo Alcanzar Manufactura Flexi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746280" y="1663560"/>
            <a:ext cx="80928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Invertir en Tecnologías de Producc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Diseño Mod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Postergar procesos de diferenciac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Reducir los lead-time de producción y transpor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Gestión de la Cadena de Abastecimien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Canales de Comunicación (comercio electrónico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3116F-A795-438C-AFDF-FBE31F0D9E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Qué Debemos Tomar en Cuenta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39974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3540240"/>
            <a:ext cx="2133360" cy="838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75640" y="37288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97836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67760" y="35053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57800" y="35053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73120" y="2921040"/>
            <a:ext cx="685800" cy="6094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4800" y="2133720"/>
            <a:ext cx="19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Tipos de Insu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692440"/>
            <a:ext cx="0" cy="8380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752480"/>
            <a:ext cx="352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Tecnologías de Producción,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Diseño de Productos &amp;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conomías de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238520" y="2819520"/>
            <a:ext cx="685800" cy="7617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55680" y="1523880"/>
            <a:ext cx="253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Volumen de Demand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Nivel de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stacional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44578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apac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Tiempos de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98640" y="4114800"/>
            <a:ext cx="22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Tiempos de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Var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99120" y="4114800"/>
            <a:ext cx="168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onfi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Lead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A3CEC-AC71-4791-B0FD-92E9DBE957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44160" y="685440"/>
            <a:ext cx="789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ahoma"/>
              </a:rPr>
              <a:t>Diseño de Procesos: Auditoria Operaciona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á el proceso alineado con las capacidades centrales del la organizació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á el proceso diseñado para alcanzar ventajas competitivas en términos de diferenciación, respuesta, o costo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imina el proceso etapas innecesario que no agregan valo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implificación: “menos es más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tandardiz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 prueba de erro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yuda el proceso a maximizar el valor generado según lo percibido por el client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irá el proceso ganar participación de merca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110D-573C-4F52-9717-9E71069108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96960"/>
            <a:ext cx="60372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Matriz de Producto-Proces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592360" y="2273400"/>
            <a:ext cx="6178680" cy="3592440"/>
          </a:xfrm>
          <a:custGeom>
            <a:avLst/>
            <a:gdLst/>
            <a:ahLst/>
            <a:rect l="l" t="t" r="r" b="b"/>
            <a:pathLst>
              <a:path w="3503" h="2112">
                <a:moveTo>
                  <a:pt x="1" y="0"/>
                </a:moveTo>
                <a:lnTo>
                  <a:pt x="957" y="0"/>
                </a:lnTo>
                <a:lnTo>
                  <a:pt x="3503" y="0"/>
                </a:lnTo>
                <a:lnTo>
                  <a:pt x="3503" y="2112"/>
                </a:lnTo>
                <a:lnTo>
                  <a:pt x="2229" y="2112"/>
                </a:lnTo>
                <a:lnTo>
                  <a:pt x="0" y="817"/>
                </a:lnTo>
                <a:lnTo>
                  <a:pt x="1" y="0"/>
                </a:lnTo>
                <a:close/>
              </a:path>
            </a:pathLst>
          </a:custGeom>
          <a:solidFill>
            <a:srgbClr val="eaeaea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09920" y="2262240"/>
            <a:ext cx="26715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Job 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impresión, carpinterí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41040" y="3760920"/>
            <a:ext cx="20480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Línea de Ensambl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au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57960" y="4610160"/>
            <a:ext cx="2557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Proceso Contin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minería, química, vid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3040" y="2262240"/>
            <a:ext cx="238788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Alta Varied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Unas pocas unidades producidas por lo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permite personalizac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1520" y="3659040"/>
            <a:ext cx="24717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Cambios Modula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ducción en lotes estandarizad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786200"/>
            <a:ext cx="243828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ducto altamente estandarizado (solo cambios menores en graduación, composic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27200" y="4853160"/>
            <a:ext cx="2806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ff0101"/>
                </a:solidFill>
                <a:latin typeface="Arial Narrow"/>
              </a:rPr>
              <a:t>Mala E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 Narrow"/>
              </a:rPr>
              <a:t>(Costos variables muy al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33480" y="1441440"/>
            <a:ext cx="13942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Bajo-Volum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Intermitent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32400" y="1417680"/>
            <a:ext cx="20876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ceso Repetitiv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Modula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22880" y="1441440"/>
            <a:ext cx="1354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Alto-Volum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Continu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6072120"/>
            <a:ext cx="6434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514600" y="1881000"/>
            <a:ext cx="0" cy="4190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67440" y="61102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Times New Roman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17680" y="16653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Times New Roman"/>
              </a:rPr>
              <a:t>Var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DFAFC-F80B-4537-9990-196AF1C7A4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Línea de Ensamblaj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a secuencia lineal de oper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905120" y="3402000"/>
            <a:ext cx="5181480" cy="839880"/>
            <a:chOff x="1905120" y="3402000"/>
            <a:chExt cx="5181480" cy="839880"/>
          </a:xfrm>
        </p:grpSpPr>
        <p:sp>
          <p:nvSpPr>
            <p:cNvPr id="148" name=""/>
            <p:cNvSpPr/>
            <p:nvPr/>
          </p:nvSpPr>
          <p:spPr>
            <a:xfrm>
              <a:off x="2514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57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00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37083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5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91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34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77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78560" y="3402000"/>
              <a:ext cx="45072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657440" y="5378400"/>
            <a:ext cx="3583080" cy="794520"/>
            <a:chOff x="1657440" y="5378400"/>
            <a:chExt cx="3583080" cy="794520"/>
          </a:xfrm>
        </p:grpSpPr>
        <p:grpSp>
          <p:nvGrpSpPr>
            <p:cNvPr id="159" name=""/>
            <p:cNvGrpSpPr/>
            <p:nvPr/>
          </p:nvGrpSpPr>
          <p:grpSpPr>
            <a:xfrm>
              <a:off x="1657440" y="5378400"/>
              <a:ext cx="3583080" cy="533160"/>
              <a:chOff x="1657440" y="5378400"/>
              <a:chExt cx="3583080" cy="533160"/>
            </a:xfrm>
          </p:grpSpPr>
          <p:sp>
            <p:nvSpPr>
              <p:cNvPr id="160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10920" y="545436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670040" y="5835600"/>
              <a:ext cx="2714040" cy="337320"/>
              <a:chOff x="1670040" y="5835600"/>
              <a:chExt cx="2714040" cy="337320"/>
            </a:xfrm>
          </p:grpSpPr>
          <p:sp>
            <p:nvSpPr>
              <p:cNvPr id="163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21720" y="5835600"/>
                <a:ext cx="196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Flujo del product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" name=""/>
          <p:cNvSpPr/>
          <p:nvPr/>
        </p:nvSpPr>
        <p:spPr>
          <a:xfrm>
            <a:off x="3444840" y="460548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567A2-19E1-4E63-BCDE-5AE36DDDF0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duc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siv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ra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andar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ces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tinu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 poca flexibil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mat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iere equipo especial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fácil contr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3B3E0-CEA9-41AD-9CC2-8C6E09E9E7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rsión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jo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ficiencia del 80% aproximadam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 poco especializ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íneas de ensam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fet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Quím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Electrón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pel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del Ac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A749A-A561-4464-81B8-42FB7FD507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Flujo Intermitente (taller de trabaj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la producción por lotes, en forma intermit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407040" y="48006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Intermi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743200" y="3048120"/>
            <a:ext cx="4038480" cy="1345680"/>
            <a:chOff x="2743200" y="3048120"/>
            <a:chExt cx="4038480" cy="1345680"/>
          </a:xfrm>
        </p:grpSpPr>
        <p:sp>
          <p:nvSpPr>
            <p:cNvPr id="174" name=""/>
            <p:cNvSpPr/>
            <p:nvPr/>
          </p:nvSpPr>
          <p:spPr>
            <a:xfrm>
              <a:off x="2743200" y="420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43200" y="4051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251160" y="3048120"/>
              <a:ext cx="3530520" cy="1345680"/>
              <a:chOff x="3251160" y="3048120"/>
              <a:chExt cx="3530520" cy="1345680"/>
            </a:xfrm>
          </p:grpSpPr>
          <p:sp>
            <p:nvSpPr>
              <p:cNvPr id="177" name=""/>
              <p:cNvSpPr/>
              <p:nvPr/>
            </p:nvSpPr>
            <p:spPr>
              <a:xfrm>
                <a:off x="3352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495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38680" y="38606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86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029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72200" y="4038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41320" y="3462840"/>
                <a:ext cx="393120" cy="46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860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03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51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94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537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289400" y="3533760"/>
                <a:ext cx="300600" cy="39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3689640" y="3498480"/>
                <a:ext cx="27864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4820040" y="3503160"/>
                <a:ext cx="27828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72200" y="41907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1657440" y="5378400"/>
            <a:ext cx="3583080" cy="946800"/>
            <a:chOff x="1657440" y="5378400"/>
            <a:chExt cx="3583080" cy="946800"/>
          </a:xfrm>
        </p:grpSpPr>
        <p:grpSp>
          <p:nvGrpSpPr>
            <p:cNvPr id="194" name=""/>
            <p:cNvGrpSpPr/>
            <p:nvPr/>
          </p:nvGrpSpPr>
          <p:grpSpPr>
            <a:xfrm>
              <a:off x="1657440" y="5378400"/>
              <a:ext cx="3583080" cy="533520"/>
              <a:chOff x="1657440" y="5378400"/>
              <a:chExt cx="3583080" cy="533520"/>
            </a:xfrm>
          </p:grpSpPr>
          <p:sp>
            <p:nvSpPr>
              <p:cNvPr id="195" name=""/>
              <p:cNvSpPr/>
              <p:nvPr/>
            </p:nvSpPr>
            <p:spPr>
              <a:xfrm>
                <a:off x="1657440" y="5378400"/>
                <a:ext cx="533160" cy="5335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410920" y="545472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670040" y="6019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22440" y="5987880"/>
              <a:ext cx="196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Flujo del produc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63560" y="6172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63560" y="6324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81CB6-B462-4EB1-B0E2-DC9623460B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Rene Caldentey</cp:lastModifiedBy>
  <cp:lastPrinted>2001-04-12T20:51:56Z</cp:lastPrinted>
  <dcterms:modified xsi:type="dcterms:W3CDTF">2008-08-05T12:44:20Z</dcterms:modified>
  <cp:revision>174</cp:revision>
  <dc:subject/>
  <dc:title>Comercio Electrónico</dc:title>
</cp:coreProperties>
</file>