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50C3-0DB7-49E1-8CF8-88BE82B1EE9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6179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629080" y="5384880"/>
            <a:ext cx="37540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5" name=""/>
          <p:cNvGrpSpPr/>
          <p:nvPr/>
        </p:nvGrpSpPr>
        <p:grpSpPr>
          <a:xfrm>
            <a:off x="-88560" y="1074600"/>
            <a:ext cx="2537640" cy="7153200"/>
            <a:chOff x="-88560" y="1074600"/>
            <a:chExt cx="2537640" cy="7153200"/>
          </a:xfrm>
        </p:grpSpPr>
        <p:sp>
          <p:nvSpPr>
            <p:cNvPr id="496" name=""/>
            <p:cNvSpPr/>
            <p:nvPr/>
          </p:nvSpPr>
          <p:spPr>
            <a:xfrm>
              <a:off x="-85320" y="107460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88560" y="52408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40" y="147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440" y="17154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440" y="21877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40" y="19515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440" y="24238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40" y="2660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440" y="313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440" y="289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40" y="33681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440" y="36043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" y="40766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" y="38404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40" y="56307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40" y="58669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40" y="633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440" y="61030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40" y="6575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40" y="68112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440" y="72835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440" y="70473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440" y="75196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40" y="775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40" y="82278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40" y="799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9586-B861-4522-B114-CF0A21806418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542-8C64-4259-B900-67A7251D985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506520" y="1293840"/>
            <a:ext cx="3778200" cy="2833560"/>
          </a:xfrm>
          <a:prstGeom prst="rect">
            <a:avLst/>
          </a:prstGeom>
          <a:ln w="0">
            <a:noFill/>
          </a:ln>
        </p:spPr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2" name=""/>
          <p:cNvGrpSpPr/>
          <p:nvPr/>
        </p:nvGrpSpPr>
        <p:grpSpPr>
          <a:xfrm>
            <a:off x="4330440" y="1127160"/>
            <a:ext cx="2536560" cy="7152840"/>
            <a:chOff x="4330440" y="1127160"/>
            <a:chExt cx="2536560" cy="7152840"/>
          </a:xfrm>
        </p:grpSpPr>
        <p:sp>
          <p:nvSpPr>
            <p:cNvPr id="533" name=""/>
            <p:cNvSpPr/>
            <p:nvPr/>
          </p:nvSpPr>
          <p:spPr>
            <a:xfrm>
              <a:off x="4333680" y="11271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0440" y="52930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3440" y="15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3440" y="17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83440" y="2240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83440" y="2004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83440" y="2476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83440" y="2712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83440" y="3184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83440" y="2948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83440" y="3420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3440" y="3656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83440" y="4128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83440" y="3892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83440" y="5682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3440" y="5919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3440" y="6391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83440" y="6155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83440" y="6627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3440" y="686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3440" y="7335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83440" y="7099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83440" y="7571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83440" y="78080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440" y="8280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3440" y="80442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3496-8367-4500-8F7B-20318E63142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5065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66" name=""/>
          <p:cNvGrpSpPr/>
          <p:nvPr/>
        </p:nvGrpSpPr>
        <p:grpSpPr>
          <a:xfrm>
            <a:off x="4330440" y="1152360"/>
            <a:ext cx="2536560" cy="7151400"/>
            <a:chOff x="4330440" y="1152360"/>
            <a:chExt cx="2536560" cy="7151400"/>
          </a:xfrm>
        </p:grpSpPr>
        <p:sp>
          <p:nvSpPr>
            <p:cNvPr id="467" name=""/>
            <p:cNvSpPr/>
            <p:nvPr/>
          </p:nvSpPr>
          <p:spPr>
            <a:xfrm>
              <a:off x="4333680" y="11523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0440" y="53175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83440" y="1557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83440" y="17931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83440" y="2265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83440" y="2028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83440" y="2501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83440" y="27370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83440" y="320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3440" y="2973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3440" y="344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83440" y="36813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3440" y="415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3440" y="391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440" y="5707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440" y="5943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3440" y="641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83440" y="617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83440" y="6651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3440" y="688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3440" y="7359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83440" y="712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3440" y="75956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83440" y="78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3440" y="830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83440" y="80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3141-AD05-4426-9FA9-637525227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7CFB-F029-452A-BA8C-E62477F30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F64F-C5BB-40CE-AE6E-8A57321D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8CBD-AE9C-4252-8836-DF57738AB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EFC2E-B20D-469F-ADF3-E9F22610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2F0F-E448-46B9-B532-A1FDE9F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C2AFD-E07C-450F-97A2-27DFBB5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41EED-5D22-4D2F-82A1-561E48DC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A3A17-6A7E-4331-A33E-7516F797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BC52-D274-4789-9E5C-19B165A5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ADF7-232B-4EDA-9F38-B87838D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5C1B-3640-454A-92B2-4A78A6BD2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5B964-1A65-48B3-A625-2EE695E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A9AA-BBF1-4953-9A7F-5E00281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8DAA-0949-44F4-AF7D-5790715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D03A6-B9BE-479A-B7D7-AB1479FF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4BC70-16D8-48EB-ADA6-0F58474D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C963-1393-41C5-A621-14C9C205D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1528-19D7-4603-B7E8-8303FCDA8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25D5-9455-4002-94E4-5D45878CD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A60F-AF0F-4F8D-AE3B-A44262533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65A9-3C3E-4413-8521-78289D5FD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A4B7-4C19-4149-8DC6-B5771F63E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1497-8B52-43BA-853D-2C1706EE2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DD6-D45D-4F6F-BD00-BFD45796C6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B5C6-9691-474E-BDF2-4877A791B77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oyota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257720" cy="28386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886200" cy="2874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8AAB-AE64-41FA-9827-777A14EDD2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A9D2-67A5-441F-8C2D-9CC0A635D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ceso Continu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luye entre etapas sin interrupción. Las distintas etapa del proceso están perfectamente amalgam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733920"/>
            <a:ext cx="9907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7339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886200"/>
            <a:ext cx="3124080" cy="228600"/>
          </a:xfrm>
          <a:prstGeom prst="rightArrow">
            <a:avLst>
              <a:gd name="adj1" fmla="val 33333"/>
              <a:gd name="adj2" fmla="val 16943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in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 y Farmacéu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D249-37CE-4EED-BF39-6541753F8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0" y="1557360"/>
            <a:ext cx="5638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ísima Eficiencia (~ 90%+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poca flexi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utilización de equ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uy especi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fác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uy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5A58-C593-422E-B127-52391C13D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225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226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4D32-5DF3-48D7-9751-D8CC67E097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9E81-8CF9-46E1-91A9-FE9DD723E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85360" y="1712880"/>
            <a:ext cx="90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79040" y="17128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8480" y="171288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termit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9360" y="1712880"/>
            <a:ext cx="5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6080" y="18954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5720" y="208296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pe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7400" y="2082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s gra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6960" y="2082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52800" y="208296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ducción Contin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85720" y="242892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5812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n s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60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sord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53160" y="242892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5360" y="2603520"/>
            <a:ext cx="123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edad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9200" y="2603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040" y="2603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260352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85720" y="277668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9200" y="27766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s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8040" y="27766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or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53160" y="277668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speci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86440" y="294624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9200" y="2946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8040" y="2946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53520" y="29462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6080" y="313056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86440" y="3316320"/>
            <a:ext cx="65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9200" y="3316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5360" y="348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t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200" y="34894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8804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316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86440" y="36608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9200" y="36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804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5316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5720" y="38433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5360" y="40291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5920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8040" y="40291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85360" y="4203720"/>
            <a:ext cx="55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42037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804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316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43736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848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6960" y="437364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244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5000" y="4556160"/>
            <a:ext cx="5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7520" y="4743360"/>
            <a:ext cx="63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920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8040" y="47433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5316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85360" y="49165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9200" y="4916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040" y="49165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53160" y="4916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86440" y="5089680"/>
            <a:ext cx="42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8120" y="508968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st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88040" y="50896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508968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86080" y="52592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9200" y="5259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8040" y="5259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3160" y="52592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85720" y="5443560"/>
            <a:ext cx="125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rol y 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5360" y="5629320"/>
            <a:ext cx="123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956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9120" y="56293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5352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86080" y="580248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956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89120" y="580248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53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86080" y="5973840"/>
            <a:ext cx="116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5956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89120" y="59738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5352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670040"/>
            <a:ext cx="25200" cy="4468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676520"/>
            <a:ext cx="2556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3120" y="160020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3120" y="611352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89800" y="17035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240" y="207324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13600" y="24192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0" y="2593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3600" y="27669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Ú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3240" y="293688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13600" y="3306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0" y="347976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13600" y="3651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3600" y="40194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13960" y="419400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2520" y="436392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3600" y="47340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3600" y="49068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3960" y="507996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3600" y="524988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4680" y="561960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4680" y="579276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14680" y="5964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42360" y="168588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9051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147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83868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54356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541980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03760" y="1681200"/>
            <a:ext cx="2556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41880" y="1676520"/>
            <a:ext cx="2520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166680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8582-EDF9-48F7-B713-3EC7DD6AC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stos, Cumplimiento de plazos, 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taurant, Sastre, Imprenta, Alfombras Tej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154400"/>
            <a:ext cx="8610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rvicio (ventas no cumplidas),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tos, TV, Mc Donald, Ropa en Tie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4E53-1B2E-4BFD-8053-56C338603E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, 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A7E7-9523-4758-A0C9-3A26823DC6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274F-9AEF-4DF8-B182-413436A9B9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BA95-9760-4B34-8642-3A5F56BCC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D723-79E0-4886-B399-69FF73E5BF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E9D9-0B0D-40BD-87BA-E28105E46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2E4B-5DDA-4B85-873A-51B9C39779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Producción Personalizada en Masa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tecnologías y la imaginación para rápidamente producir en grandes volúmenes productos que satisfagan las necesidades (únicas) de cada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jo la producción-en-masa personaliza los tres tipos de procesos (Intermitente, en Línea y Continuo) se hacen tan flexible que no es posible distinguirlos haciendo la diferencia entre variedad y volumen menos signifi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lca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riedad (job sho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s costos (proceso continu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: Dell, GM,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oyot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Nike, Z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BC1E-FB02-4F1D-B8B9-023020DF1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Sistemas de Manufactura Flexible (SM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2004, Nissan produjo 260,066 vehículos en su planta de Canton, Mississippi, incluyendo 91,296 camionetas Titan, 68,684 Altima, 43,958 minivan Quest, 40,437 SUV Armada y 15,691 SUV Infinity QXC5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Toyota en su planta de Georgetown produce 4 tipos diferentes de vehículos (Camry, Avalon, Solara, Hybrid) cada 2 minu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EEA6-7438-4A51-BEA2-5908A2F3DF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4724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Un Ejemplo de SM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5334120"/>
            <a:ext cx="876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n general,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&gt;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D 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son variables aleatorias (riesgo de merc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uáles son los niveles óptimos de capacidad Flexible y Dedicada a insta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03800" y="1463760"/>
            <a:ext cx="7855560" cy="3873240"/>
            <a:chOff x="703800" y="1463760"/>
            <a:chExt cx="7855560" cy="3873240"/>
          </a:xfrm>
        </p:grpSpPr>
        <p:sp>
          <p:nvSpPr>
            <p:cNvPr id="373" name=""/>
            <p:cNvSpPr/>
            <p:nvPr/>
          </p:nvSpPr>
          <p:spPr>
            <a:xfrm>
              <a:off x="901800" y="2916360"/>
              <a:ext cx="1270080" cy="72684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57040" y="30607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4760" y="32544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1040" y="336708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47320" y="32544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6440" y="218916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88080" y="23353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17800" y="25290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76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9204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0720" y="1569960"/>
              <a:ext cx="2236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Flexi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440" y="3643200"/>
              <a:ext cx="1454040" cy="72576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93840" y="37879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3920" y="39816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388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592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9800" y="2673360"/>
              <a:ext cx="598320" cy="600120"/>
            </a:xfrm>
            <a:custGeom>
              <a:avLst/>
              <a:gdLst/>
              <a:ahLst/>
              <a:rect l="l" t="t" r="r" b="b"/>
              <a:pathLst>
                <a:path w="377" h="378">
                  <a:moveTo>
                    <a:pt x="377" y="0"/>
                  </a:moveTo>
                  <a:lnTo>
                    <a:pt x="292" y="0"/>
                  </a:lnTo>
                  <a:lnTo>
                    <a:pt x="321" y="29"/>
                  </a:lnTo>
                  <a:lnTo>
                    <a:pt x="0" y="349"/>
                  </a:lnTo>
                  <a:lnTo>
                    <a:pt x="29" y="378"/>
                  </a:lnTo>
                  <a:lnTo>
                    <a:pt x="349" y="57"/>
                  </a:lnTo>
                  <a:lnTo>
                    <a:pt x="377" y="85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9800" y="3287880"/>
              <a:ext cx="598320" cy="596880"/>
            </a:xfrm>
            <a:custGeom>
              <a:avLst/>
              <a:gdLst/>
              <a:ahLst/>
              <a:rect l="l" t="t" r="r" b="b"/>
              <a:pathLst>
                <a:path w="377" h="376">
                  <a:moveTo>
                    <a:pt x="377" y="376"/>
                  </a:moveTo>
                  <a:lnTo>
                    <a:pt x="292" y="376"/>
                  </a:lnTo>
                  <a:lnTo>
                    <a:pt x="321" y="34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349" y="320"/>
                  </a:lnTo>
                  <a:lnTo>
                    <a:pt x="377" y="293"/>
                  </a:lnTo>
                  <a:lnTo>
                    <a:pt x="377" y="376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5880" y="2189160"/>
              <a:ext cx="1273320" cy="72720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2920" y="23353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7680" y="25290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4008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436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6840" y="1569960"/>
              <a:ext cx="239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Dedicad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99200" y="24591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436" y="79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25880" y="3643200"/>
              <a:ext cx="1273320" cy="72576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2920" y="37879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4160" y="39816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620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824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9200" y="39117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436" y="80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380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952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160" y="482436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7712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984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03920" y="48243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12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41680" y="146376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41680" y="1841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1680" y="2219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1680" y="2597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41680" y="2975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41680" y="335124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41680" y="372888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1680" y="410688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1680" y="448452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1680" y="486252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1680" y="5240160"/>
              <a:ext cx="180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3840" y="29624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9400" y="30592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18720" y="296244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3840" y="441468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3720" y="4513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0880" y="441468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89760" y="219384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1400" y="23400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61120" y="25336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91080" y="264492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35360" y="253368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7520" y="296712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12720" y="306396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2040" y="296712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3641760"/>
              <a:ext cx="1454400" cy="72540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8040" y="37861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88120" y="39798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8080" y="409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49760" y="39798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98040" y="44132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7920" y="45115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85080" y="441324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B64F-802D-4E53-9D83-DF2A33E3F7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2365200"/>
            <a:ext cx="21844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d. en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erson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Difícil de Conseguir pero altamente ren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Dell, Z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201F-7D95-47D2-B05B-2C6B11173E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Cómo Alcanzar Manufactura Flexi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Invertir en Tecnologías de Produ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iseño 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ostergar procesos de diferenci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Reducir los lead-time de producción y transpor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Gestión de la Cadena de Abastecimi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nales de Comunicación (comercio electrón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20D1-BED8-413A-9F3A-9F5C65DAE2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é Debemos Tomar en Cuent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997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540240"/>
            <a:ext cx="2133360" cy="838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5640" y="3728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978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7760" y="3505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7800" y="35053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3120" y="2921040"/>
            <a:ext cx="685800" cy="6094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800" y="2133720"/>
            <a:ext cx="19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ipos de Ins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692440"/>
            <a:ext cx="0" cy="838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ecnologías de Producción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iseño de Productos &amp;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conomías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38520" y="2819520"/>
            <a:ext cx="685800" cy="7617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5680" y="1523880"/>
            <a:ext cx="25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olumen de Deman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ivel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stacion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457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pac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98640" y="411480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9120" y="4114800"/>
            <a:ext cx="16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nfi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Lead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6454-ACA8-4F4D-9B07-3F3F33F9D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160" y="685440"/>
            <a:ext cx="789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Diseño de Procesos: Auditoria Operacio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alineado con las capacidades centrales del la organiz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diseñado para alcanzar ventajas competitivas en términos de diferenciación, respuesta, o costo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imina el proceso etapas innecesario que no agregan valo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implificación: “menos es má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tandard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prueba de err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yuda el proceso a maximizar el valor generado según lo percibido por el clien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irá el proceso ganar participación de merc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7FC0-0EA3-4571-9B01-C5A804065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6D9B-CAC5-4C8E-88F3-C712D5828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ínea de Ensamblaj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48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59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45D9-F1A8-48E3-8EC1-45138BB8D2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3938-A330-4926-B45E-2E4FB0233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8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C873-F53D-4654-9F27-86938C21E5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74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94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95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F33D-E4FF-45D4-B0C4-B44A2D8964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8-08-05T12:44:20Z</dcterms:modified>
  <cp:revision>174</cp:revision>
  <dc:subject/>
  <dc:title>Comercio Electrónico</dc:title>
</cp:coreProperties>
</file>