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AF6BC0-5D3F-4C5F-85D3-6F4BEBBC056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5C477B-8590-4D8D-8A35-6CB7351E653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6520" y="698400"/>
            <a:ext cx="4584960" cy="34387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306-ABC4-4B82-BF08-C0089E72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F02-26C7-4F0F-AD51-1C9CF185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C71-803A-413C-9397-0995E107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F3D-0A30-42DE-A709-18551375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817-D632-4FE1-9907-C36C187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1F4-840D-4313-B620-52C19C4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DEA-718D-48BC-A3EE-C70FC9E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59D-60C5-4529-AE48-10466F2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6FD-196B-48DC-A26C-D4F8A4A6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509-1AB5-4351-82D1-03F740F0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D3E-A355-454E-826D-4E668EF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B04-E566-4430-807B-7335BB61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4C8F67-EF21-4239-BD36-B20C4A03B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gund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65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3: 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)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esupuestos parciales e integración presupues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18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3080" y="2602080"/>
            <a:ext cx="76312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9240" y="533160"/>
            <a:ext cx="777384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ú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ELABORACIÓN DE PRE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café del centro vende dos productos: café expreso y café cortado. Para el primer cuatrimestre del año 2007 se espera vender las siguientes cant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127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xpreso se vende a $600 y el cortado a $700, ambos precios con IVA incluido. Las ventas son todas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360" y="3724200"/>
            <a:ext cx="6624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umos, existencias y 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insumos requeridos son café, agua, leche (sólo para el cortado) y azúcar. Un kilo de café en grano rinde 50 tasas de café, un litro de leche alcanza para 30 cafés cortados y un kilo de azúcar alcanza en promedio para unos 300 cafés. El costo del café es de $1.500 por kilo, el litro de leche cuesta $400 y el azúcar se compra a $250 el kilo (todos los precios antes del IVA). El agua se trata como un costo fijo y se estima que la cuenta mensual será de $90 mil en promedio, más 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fé trabajan seis garzones, que además preparan los cafés, quienes reciben un sueldo bruto de $150 mil mensuales, más una comisión de $30 por cada café vendido. Además, trabajan dos auxiliares que reciben un sueldo bruto mensual de $120 mil cada uno. Las remuneraciones fijas se pagan el último día de cada mes y las comisiones el día 15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umos, existencias y 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ventario inicial se compone de 120 kilos de café, 200 cajas de leche y 20 kilos de azúcar, valorados a los mismos precios indicados en el párrafo anterior. Se desea mantener siempre un inventario equivalente al 50% de los requerimientos del mes siguiente. Las compras de café se pagan un 50% al contado y el otro 50% a 30 días. Las demás compras so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afé funciona en un local comercial que se arrienda en $500 mil mensuales (exento de IVA), los que se pagan el día 1 de cada mes, en forma anticipada. Se estima un costo de energía eléctrica de $75 mil mensuales más IVA y de teléfono fijo de $25 mil mensuales más IVA. También se pagará un honorario mensual al contador de $50 mil. Todos estos gastos se pagan en los 10 primeros días del mes siguiente. Finalmente, la depreciación alcanza a $600 mil anuales por concepto de la máquina cafetera y $500 mil anuales por las insta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contempla reemplazar la máquina cafetera por una de mayor capacidad. La inversión se realizará en el mes de febrero. La nueva máquina costará $4,2 millones más IVA, se depreciará en cinco años y será necesario desembolsar $300 mil (exentos de IVA) por concepto de instalación. La compra se financiará en parte con un crédito bancario de $3 millones, el que devengará un interés mensual del 1%. Durante marzo y abril se pagarán sólo los intereses devengados. Se estima que la máquina antigua será vendida en $800 mil pesos (más IVA). Fue adquirida en $3 millones y al 31 de diciembre de 2006 había acumulado una depreciación de $1,8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aso de déficit de caja, la empresa dispone de una línea de crédito que devenga un interés del 1,2% mens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dueño desea retirar mensualmente $1,5 millones, los que se cargarán primero a las utilidades no retiradas del ejercicio anterior y luego, una vez que esas se agoten, a las utilidades del ejercicio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089080"/>
            <a:ext cx="8137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642520" cy="211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533520"/>
            <a:ext cx="8229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supuestos Pa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135080"/>
            <a:ext cx="856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787320"/>
            <a:ext cx="8424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ulación de Presupuest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698400"/>
            <a:ext cx="8640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170000"/>
            <a:ext cx="86421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16120"/>
            <a:ext cx="87854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766880"/>
            <a:ext cx="8496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576360"/>
            <a:ext cx="87138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360" y="1657440"/>
            <a:ext cx="8820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3.3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mbinar con los métodos de costeo variable y absor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ntajas de los costos estánd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pos de estánd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ajas del Proceso Presupues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Desviaciones en Materias Prim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Desviaciones en Mano de Ob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pos de Presu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upuesto Maest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aracterísticas de los presupuestos oper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Michel</cp:lastModifiedBy>
  <cp:lastPrinted>1999-04-29T23:00:42Z</cp:lastPrinted>
  <dcterms:modified xsi:type="dcterms:W3CDTF">2008-03-14T02:47:43Z</dcterms:modified>
  <cp:revision>11</cp:revision>
  <dc:subject/>
  <dc:title>Sin título de diapositiva</dc:title>
</cp:coreProperties>
</file>