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A437D6-73BB-4C47-AECC-1F9356979AB5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284120" y="802800"/>
            <a:ext cx="4291200" cy="321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584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F269CA5-FA5F-40A0-A1E7-27A888E0CAF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584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6520" y="698400"/>
            <a:ext cx="4584960" cy="34387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B7E-6914-4D17-81D7-159B22CA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8DA-9379-4562-8CF6-A703A2C6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56D-F679-4A86-9242-8FF32263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3F49-7BA3-4EC4-8904-B67ABEFF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B72-E9A2-446A-9F08-E03D35C8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5B1-2C93-4D2E-AF69-E4E5DB8C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59D-4862-41B3-9A55-A2CE71C0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2EB-44FA-473D-B7EF-4D95132D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190-B024-496C-BD47-4AA05EA2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A57F-1C55-41C9-A469-25D90318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9DC-D2EE-4714-9CB5-DAD40BCC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0BD-FBE7-4949-A3E2-6D5F9A37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176E28-8080-4C2F-B175-F2BBFFD18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6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gund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3645000"/>
            <a:ext cx="665640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3: Control Presupuestario y Costos Está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presentar información en términos cuantita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La empresa Anfersa SA planea vender 9.500 computadores el próximo año. Su presupuesto de ventas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0" y="2363760"/>
            <a:ext cx="43434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especificar tanto los objetivos concretos que se quieren alcanzar como los medios necesarios para consegui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Para poder alcanzar las ventas deseadas, Anfersa deberá incurrir en los siguientes gasto de v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62320" y="35244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e)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Presupuestos parciales e integración presupues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stintas actividades llevadas a cabo dentro de la organización dará lugar a la necesidad de elaborar presupuesto en cada centro de responsabilidad, que se conocen como presupuestos parciales. Por ejemplo: presupuesto de ventas, presupuestos de fabricación, presupuestos de compras, presupuestos financier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n embargo, la empresa debe ser vista como un todo unitario, coordinado y coherente, en busca de un objetivo comú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integración de los presupuestos parciales dará lugar al presupuesto mae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181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rmalmente se usa el método de integración sucesiva, en donde el punto de partida es el presupuesto de ventas. La secuencia de la integración sucesiva es la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3080" y="2602080"/>
            <a:ext cx="7631280" cy="38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ventas y gastos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productos en proceso y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La empresa Anfersa tiene un stock de 1.200 computadores valorados en $60 millones. Desea mantener un stock de seguridad de 900 unidades. Luego, necesitará producir 9.200 computadores el próximo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19240" y="533160"/>
            <a:ext cx="777384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Anfersa a determinado que para producir 9.200 computadores requerirá los siguientes recurs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52480" y="3643200"/>
            <a:ext cx="64771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l responsable del almacén de Anfersa SA, ha estimado mantener siempre un stock de seguridad que le permitan atender la producción de 850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00200" y="3389400"/>
            <a:ext cx="64008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gastos de administración. El responsable de administración calculará las necesidades de la empresa en estas fun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353052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3525840"/>
            <a:ext cx="70866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ontrol Presupuestario y Costos Estánd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) Otros tipos de presupu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l período temporal que compren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estancado: se efectúa una vez al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progresivo: una vez transcurrido un subperiodo (mes, trimestre o cuatrimestre) se agrega el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posibilidad de introducir mod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único: se mantiene pase lo que p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revisado: se actualiza, para reflejar los cambios en las condiciones que sirvieron de base para su elabo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adaptación de los valores presupuestados a los volúmenes realmente alcanz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i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lexible: se ajusta o se rehace con los valores reales de cantidades vendidas y produc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JEMPLO DE ELABORACIÓN DE PRESUPU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café del centro vende dos productos: café expreso y café cortado. Para el primer cuatrimestre del año 2007 se espera vender las siguientes cant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nóstico d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royecta vender las siguient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ntidades de mercade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5127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expreso se vende a $600 y el cortado a $700, ambos precios con IVA incluido. Las ventas son todas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60360" y="3724200"/>
            <a:ext cx="6624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sumos, existencias y gastos de administración y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insumos requeridos son café, agua, leche (sólo para el cortado) y azúcar. Un kilo de café en grano rinde 50 tasas de café, un litro de leche alcanza para 30 cafés cortados y un kilo de azúcar alcanza en promedio para unos 300 cafés. El costo del café es de $1.500 por kilo, el litro de leche cuesta $400 y el azúcar se compra a $250 el kilo (todos los precios antes del IVA). El agua se trata como un costo fijo y se estima que la cuenta mensual será de $90 mil en promedio, más 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café trabajan seis garzones, que además preparan los cafés, quienes reciben un sueldo bruto de $150 mil mensuales, más una comisión de $30 por cada café vendido. Además, trabajan dos auxiliares que reciben un sueldo bruto mensual de $120 mil cada uno. Las remuneraciones fijas se pagan el último día de cada mes y las comisiones el día 15 de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sumos, existencias y gastos de administración y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inventario inicial se compone de 120 kilos de café, 200 cajas de leche y 20 kilos de azúcar, valorados a los mismos precios indicados en el párrafo anterior. Se desea mantener siempre un inventario equivalente al 50% de los requerimientos del mes siguiente. Las compras de café se pagan un 50% al contado y el otro 50% a 30 días. Las demás compras son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café funciona en un local comercial que se arrienda en $500 mil mensuales (exento de IVA), los que se pagan el día 1 de cada mes, en forma anticipada. Se estima un costo de energía eléctrica de $75 mil mensuales más IVA y de teléfono fijo de $25 mil mensuales más IVA. También se pagará un honorario mensual al contador de $50 mil. Todos estos gastos se pagan en los 10 primeros días del mes siguiente. Finalmente, la depreciación alcanza a $600 mil anuales por concepto de la máquina cafetera y $500 mil anuales por las insta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contempla reemplazar la máquina cafetera por una de mayor capacidad. La inversión se realizará en el mes de febrero. La nueva máquina costará $4,2 millones más IVA, se depreciará en cinco años y será necesario desembolsar $300 mil (exentos de IVA) por concepto de instalación. La compra se financiará en parte con un crédito bancario de $3 millones, el que devengará un interés mensual del 1%. Durante marzo y abril se pagarán sólo los intereses devengados. Se estima que la máquina antigua será vendida en $800 mil pesos (más IVA). Fue adquirida en $3 millones y al 31 de diciembre de 2006 había acumulado una depreciación de $1,8 mill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ja y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caso de déficit de caja, la empresa dispone de una línea de crédito que devenga un interés del 1,2% mensu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dueño desea retirar mensualmente $1,5 millones, los que se cargarán primero a las utilidades no retiradas del ejercicio anterior y luego, una vez que esas se agoten, a las utilidades del ejercicio 20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general al 31 de diciembre de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2089080"/>
            <a:ext cx="81374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642520" cy="2116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7200" y="533520"/>
            <a:ext cx="8229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esupuestos Pa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135080"/>
            <a:ext cx="8569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787320"/>
            <a:ext cx="842472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rmulación de Presupuest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y Cicl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supu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expresión en términos monetarios de los planes de acción que una empresa tiene previsto llevar a cabo a lo largo de un período determi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698400"/>
            <a:ext cx="864072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1170000"/>
            <a:ext cx="86421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716120"/>
            <a:ext cx="87854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1766880"/>
            <a:ext cx="849600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576360"/>
            <a:ext cx="87138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360" y="1657440"/>
            <a:ext cx="88203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713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ol presupuest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ceso permanente de comparación entre lo planificado (plasmado en los presupuestos) y lo acontecido en la re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viació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a entre el resultado real y el proyectado (puede ser favorable o desfavor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análisis de las desviaciones es importante por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indicadores de gran utilidad para saber si los responsables están cumpliendo o no con los objetivos espec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el feed-back o proceso de retroalimentación, mediante el cual la empresa tomará las medidas correctivas para ajustarse a lo pla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457200"/>
            <a:ext cx="8076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clo Presupuestar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el proceso por el cual una empresa elabora el presupuesto para un determinado período. En él se definen tres concep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nes de acción y sus respectivos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ultados previstos de los planes de 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530360"/>
            <a:ext cx="85341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920" y="1450800"/>
            <a:ext cx="8458200" cy="39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610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2484360"/>
            <a:ext cx="83818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3.3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écnica de la contabilidad de costos que compara el costo considerado normal de cada producto, servicio o elemento con su costo real. Son una herramienta del control presupuestario.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ermite evaluar la eficiencia de la gestión y tomar inmediatamente las acciones correctivas que se estimen perti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n costos preestablecidos, se calculan antes de comenzar las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igual que con los costos históricos, se pueden combinar con los métodos de costeo variable y absorbente, y con los sistemas de costos por procesos y por órdenes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medida que se conocen los costos e ingresos reales, se van registrando en la 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os datos reales se comparan con los estándar, y las desviaciones entre unos y otros se ponen de manifiesto por el propio sistema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entajas de los costos estánd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“dirección por excepción”, que consiste en centrar la atención de la dirección en aquellas situaciones que se apartan de la norm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valoración de los stocks y la fijación de precios, entre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xigen una definición de responsabilidades por centros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pos de estánd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, pero correg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estudios técnicos. En este caso el estándar puede represent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mejor actuación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actuación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ntajas del Proceso Presupuest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liga a los ejecutivos o administradores a pensar en forma estructurada sobre el futu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establecer metas que posibiliten la evaluación del desempeñ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 obtiene una mayor coordinación y coherencia en el trabajo de las distintas unidades o centros de responsabilid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rve como motiv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845b"/>
              </a:buClr>
              <a:buSzPct val="120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comunicar los objetivos de la alta dirección a las divisiones operativ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05120" y="934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9320" y="581040"/>
            <a:ext cx="6858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Desviaciones en Materias Prim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00 x 800 x 6 – 550 x 800 x 5 = 2.400.000 – 2.200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500x800 – 550x800) x 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2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6 - 5) x 550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 4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Desviaciones en Mano de Ob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5 x 800 x 40 – 26,25 x 800 x 45 = 800.000 – 945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4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25x800 – 26,25x800) x 4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40 - 45) x 26,25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0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pos de Presupues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1536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iendo del horizonte de planifi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esupuestos Maestros (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4960" y="4554360"/>
            <a:ext cx="734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resupuesto de Capital (más de 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supuesto Maest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Operac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P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Gastos de Fabr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495680"/>
            <a:ext cx="5181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s Financie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Ca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G.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RR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72800" y="537048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18280" y="5546880"/>
            <a:ext cx="2454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tado Financiero Pro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4479840"/>
            <a:ext cx="18288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ovación-A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504960" y="64771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432080"/>
            <a:ext cx="1981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1295280"/>
            <a:ext cx="1828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upuest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Características de los presupuestos oper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comprender todas y cada una de las funciones que se desarrollan en la empresa, en situación de normalidad. Entonces habrán presupuestos de ventas, de compras, de remuneraciones, de producció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presentan la actuación futura de la organización, por lo que la información que contienen se refiere a proyecciones y no a hechos histó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elen comprender el horizonte temporal correspondiente al ejercicio contable, generalmente un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Michel</cp:lastModifiedBy>
  <cp:lastPrinted>1999-04-29T23:00:42Z</cp:lastPrinted>
  <dcterms:modified xsi:type="dcterms:W3CDTF">2008-03-14T02:47:43Z</dcterms:modified>
  <cp:revision>11</cp:revision>
  <dc:subject/>
  <dc:title>Sin título de diapositiva</dc:title>
</cp:coreProperties>
</file>