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9000"/>
            <a:ext cx="2971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9000"/>
            <a:ext cx="2971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4DC0EAF-8157-4FF1-A062-BCC5EA68E1FC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284120" y="802800"/>
            <a:ext cx="4291200" cy="321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584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108A81-9FF4-4F94-A3AF-85F98029086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9000"/>
            <a:ext cx="2971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5840" y="9000"/>
            <a:ext cx="2971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6520" y="698400"/>
            <a:ext cx="4584960" cy="34387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3F14-955D-4C96-A34B-DC44BC74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904-E092-44C1-A3EE-4C3CDFCB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7324-5A6A-4787-9D3B-666CE146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3547-38A6-4DE1-9A79-57F5B347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C95F-EC3C-452A-91E0-27BF9261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02A-C6C4-46BB-B82C-BC913CC6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5FB-01BD-4382-AB4D-021EA6B8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68BA-D1AB-4722-A904-7C43926A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C38-5DE4-4816-90E7-E9D4F997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27F-6F71-4AFB-885C-3206FF98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ED73-49B0-42A3-BF81-DE3E88E7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7E87-E24B-4C7A-8F3B-91047C1C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93CEA5-A565-4478-B80F-AB63171FA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6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gunda Par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3645000"/>
            <a:ext cx="665640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3: Control Presupuestario y Costos Estánd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presentar información en términos cuantita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La empresa Anfersa SA planea vender 9.500 computadores el próximo año. Su presupuesto de ventas es el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0" y="2363760"/>
            <a:ext cx="43434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especificar tanto los objetivos concretos que se quieren alcanzar como los medios necesarios para conseguir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Para poder alcanzar las ventas deseadas, Anfersa deberá incurrir en los siguientes gasto de v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62320" y="35244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e)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Presupuestos parciales e integración presupuest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stintas actividades llevadas a cabo dentro de la organización dará lugar a la necesidad de elaborar presupuesto en cada centro de responsabilidad, que se conocen como presupuestos parciales. Por ejemplo: presupuesto de ventas, presupuestos de fabricación, presupuestos de compras, presupuestos financier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n embargo, la empresa debe ser vista como un todo unitario, coordinado y coherente, en busca de un objetivo comú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integración de los presupuestos parciales dará lugar al presupuesto mae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181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rmalmente se usa el método de integración sucesiva, en donde el punto de partida es el presupuesto de ventas. La secuencia de la integración sucesiva es la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3080" y="2602080"/>
            <a:ext cx="7631280" cy="38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ventas y gastos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productos en proceso y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La empresa Anfersa tiene un stock de 1.200 computadores valorados en $60 millones. Desea mantener un stock de seguridad de 900 unidades. Luego, necesitará producir 9.200 computadores el próximo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19240" y="533160"/>
            <a:ext cx="777384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Anfersa a determinado que para producir 9.200 computadores requerirá los siguientes recurs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52480" y="3643200"/>
            <a:ext cx="647712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l responsable del almacén de Anfersa SA, ha estimado mantener siempre un stock de seguridad que le permitan atender la producción de 850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00200" y="3389400"/>
            <a:ext cx="64008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gastos de administración. El responsable de administración calculará las necesidades de la empresa en estas fun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353052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1532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95280" y="3525840"/>
            <a:ext cx="70866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ontrol Presupuestario y Costos Estánd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ormulación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) Otros tipos de presupue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l período temporal que compren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estancado: se efectúa una vez al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progresivo: una vez transcurrido un subperiodo (mes, trimestre o cuatrimestre) se agrega el sigu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posibilidad de introducir mod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único: se mantiene pase lo que p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revisado: se actualiza, para reflejar los cambios en las condiciones que sirvieron de base para su elabo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adaptación de los valores presupuestados a los volúmenes realmente alcanz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i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lexible: se ajusta o se rehace con los valores reales de cantidades vendidas y produc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EMPLO DE ELABORACIÓN DE PRESUPUE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 café del centro vende dos productos: café expreso y café cortado. Para el primer cuatrimestre del año 2007 se espera vender las siguientes cant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nóstico de venta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royecta vender las siguient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ntidades de mercaderí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51274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expreso se vende a $600 y el cortado a $700, ambos precios con IVA incluido. Las ventas son todas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60360" y="3724200"/>
            <a:ext cx="66247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sumos, existencias y gastos de administración y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insumos requeridos son café, agua, leche (sólo para el cortado) y azúcar. Un kilo de café en grano rinde 50 tasas de café, un litro de leche alcanza para 30 cafés cortados y un kilo de azúcar alcanza en promedio para unos 300 cafés. El costo del café es de $1.500 por kilo, el litro de leche cuesta $400 y el azúcar se compra a $250 el kilo (todos los precios antes del IVA). El agua se trata como un costo fijo y se estima que la cuenta mensual será de $90 mil en promedio, más 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café trabajan seis garzones, que además preparan los cafés, quienes reciben un sueldo bruto de $150 mil mensuales, más una comisión de $30 por cada café vendido. Además, trabajan dos auxiliares que reciben un sueldo bruto mensual de $120 mil cada uno. Las remuneraciones fijas se pagan el último día de cada mes y las comisiones el día 15 del mes sigu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sumos, existencias y gastos de administración y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inventario inicial se compone de 120 kilos de café, 200 cajas de leche y 20 kilos de azúcar, valorados a los mismos precios indicados en el párrafo anterior. Se desea mantener siempre un inventario equivalente al 50% de los requerimientos del mes siguiente. Las compras de café se pagan un 50% al contado y el otro 50% a 30 días. Las demás compras son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café funciona en un local comercial que se arrienda en $500 mil mensuales (exento de IVA), los que se pagan el día 1 de cada mes, en forma anticipada. Se estima un costo de energía eléctrica de $75 mil mensuales más IVA y de teléfono fijo de $25 mil mensuales más IVA. También se pagará un honorario mensual al contador de $50 mil. Todos estos gastos se pagan en los 10 primeros días del mes siguiente. Finalmente, la depreciación alcanza a $600 mil anuales por concepto de la máquina cafetera y $500 mil anuales por las instal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856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contempla reemplazar la máquina cafetera por una de mayor capacidad. La inversión se realizará en el mes de febrero. La nueva máquina costará $4,2 millones más IVA, se depreciará en cinco años y será necesario desembolsar $300 mil (exentos de IVA) por concepto de instalación. La compra se financiará en parte con un crédito bancario de $3 millones, el que devengará un interés mensual del 1%. Durante marzo y abril se pagarán sólo los intereses devengados. Se estima que la máquina antigua será vendida en $800 mil pesos (más IVA). Fue adquirida en $3 millones y al 31 de diciembre de 2006 había acumulado una depreciación de $1,8 mill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ja y financia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caso de déficit de caja, la empresa dispone de una línea de crédito que devenga un interés del 1,2% mensu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dueño desea retirar mensualmente $1,5 millones, los que se cargarán primero a las utilidades no retiradas del ejercicio anterior y luego, una vez que esas se agoten, a las utilidades del ejercicio 20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V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general al 31 de diciembre de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2089080"/>
            <a:ext cx="81374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642520" cy="2116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57200" y="533520"/>
            <a:ext cx="8229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esupuestos Pa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135080"/>
            <a:ext cx="8569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787320"/>
            <a:ext cx="842472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rmulación de Presupuest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o y Ciclo Presupues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esupue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la expresión en términos monetarios de los planes de acción que una empresa tiene previsto llevar a cabo a lo largo de un período determin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698400"/>
            <a:ext cx="864072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1170000"/>
            <a:ext cx="864216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1716120"/>
            <a:ext cx="87854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4000" y="1766880"/>
            <a:ext cx="849600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0920" y="576360"/>
            <a:ext cx="871380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360" y="1657440"/>
            <a:ext cx="882036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71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Presupuestario y Análisis de Desvi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ol presupuest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ceso permanente de comparación entre lo planificado (plasmado en los presupuestos) y lo acontecido en la re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sviació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erencia entre el resultado real y el proyectado (puede ser favorable o desfavor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análisis de las desviaciones es importante por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indicadores de gran utilidad para saber si los responsables están cumpliendo o no con los objetivos espec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mite el feed-back o proceso de retroalimentación, mediante el cual la empresa tomará las medidas correctivas para ajustarse a lo pla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457200"/>
            <a:ext cx="8076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clo Presupuestar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el proceso por el cual una empresa elabora el presupuesto para un determinado período. En él se definen tres concep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lanes de acción y sus respectivos prog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ultados previstos de los planes de 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530360"/>
            <a:ext cx="85341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4920" y="1450800"/>
            <a:ext cx="8458200" cy="39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610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2484360"/>
            <a:ext cx="83818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3.3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ostos Estánd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écnica de la contabilidad de costos que compara el costo considerado normal de cada producto, servicio o elemento con su costo real. Son una herramienta del control presupuestario.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ermite evaluar la eficiencia de la gestión y tomar inmediatamente las acciones correctivas que se estimen pertin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on costos preestablecidos, se calculan antes de comenzar las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igual que con los costos históricos, se pueden combinar con los métodos de costeo variable y absorbente, y con los sistemas de costos por procesos y por órdenes de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medida que se conocen los costos e ingresos reales, se van registrando en la 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os datos reales se comparan con los estándar, y las desviaciones entre unos y otros se ponen de manifiesto por el propio sistema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Ventajas de los costos estánd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“dirección por excepción”, que consiste en centrar la atención de la dirección en aquellas situaciones que se apartan de la norm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valoración de los stocks y la fijación de precios, entre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xigen una definición de responsabilidades por centros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pos de estánd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, pero correg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estudios técnicos. En este caso el estándar puede represent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mejor actuación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a actuación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entajas del Proceso Presupuesta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liga a los ejecutivos o administradores a pensar en forma estructurada sobre el futur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establecer metas que posibiliten la evaluación del desempeñ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 obtiene una mayor coordinación y coherencia en el trabajo de las distintas unidades o centros de responsabilida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rve como motivació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comunicar los objetivos de la alta dirección a las divisiones operativ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05120" y="934920"/>
            <a:ext cx="6400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9320" y="581040"/>
            <a:ext cx="6858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ahoma"/>
              </a:rPr>
              <a:t>Desviaciones en Materias Prim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500 x 800 x 6 – 550 x 800 x 5 = 2.400.000 – 2.200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500x800 – 550x800) x 6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2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6 - 5) x 550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+ 4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ahoma"/>
              </a:rPr>
              <a:t>Desviaciones en Mano de Ob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5 x 800 x 40 – 26,25 x 800 x 45 = 800.000 – 945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4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25x800 – 26,25x800) x 4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40 - 45) x 26,25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0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pos de Presupues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1536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endiendo del horizonte de planific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resupuestos Maestros (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4960" y="4554360"/>
            <a:ext cx="7347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Presupuesto de Capital (más de 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supuesto Maest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 Operacio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P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Gastos de Fabr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495680"/>
            <a:ext cx="5181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s Financie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Ca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G.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RR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72800" y="537048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18280" y="5546880"/>
            <a:ext cx="2454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stado Financiero Pro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3733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4479840"/>
            <a:ext cx="182880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 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ovación-A.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s 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504960" y="64771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1432080"/>
            <a:ext cx="19810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interno y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304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1295280"/>
            <a:ext cx="1828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R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upuesto de C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1127160"/>
            <a:ext cx="19814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tos Administ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42670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d)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Características de los presupuestos oper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comprender todas y cada una de las funciones que se desarrollan en la empresa, en situación de normalidad. Entonces habrán presupuestos de ventas, de compras, de remuneraciones, de producció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presentan la actuación futura de la organización, por lo que la información que contienen se refiere a proyecciones y no a hechos histór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elen comprender el horizonte temporal correspondiente al ejercicio contable, generalmente un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Michel</cp:lastModifiedBy>
  <cp:lastPrinted>1999-04-29T23:00:42Z</cp:lastPrinted>
  <dcterms:modified xsi:type="dcterms:W3CDTF">2008-03-14T02:47:43Z</dcterms:modified>
  <cp:revision>11</cp:revision>
  <dc:subject/>
  <dc:title>Sin título de diapositiva</dc:title>
</cp:coreProperties>
</file>