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2FC-380A-44C2-A9DA-B795EE9E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078-63EE-4882-8909-00767172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3B5-04F9-4C4C-9158-8CB4381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FD5-1338-4AB7-AA18-81EB3ECD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9C19-522A-4223-83FE-FB8B215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A94F-BE4D-4186-9185-EBA3AED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AFE0-B303-43DE-82FC-25F8C4B4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286-4229-4BDA-9F4A-E6E51CF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60E-3AC1-4766-B6BF-6480632D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5F89-789E-426C-836D-134058C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7BE9-0B21-49FB-8878-3C66001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239-A242-4C99-A4B4-99E188E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9964-3216-4292-9FFA-BA286CC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A42B-E829-46F1-B50E-121F83E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4019-8777-4616-9A61-9A6D04A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DC6-2E4F-49B7-B31D-3AF313F0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E1E-64CB-4C48-9187-938E152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146-5927-4B03-ABEF-9CEAD660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975-7527-402A-932D-F6B48CC4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7B8-AC74-4B0F-B746-F537C7B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9BC-D433-4D31-BE11-E8F55E1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649-21E6-4BDE-8EC6-2B35576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510-6DB6-46C4-9ED2-31C0A59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44E-9005-4E98-8EE2-2B0DC1A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FDB-FE57-49A5-942D-F8AF0C13FFE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328-FB69-4446-AFD3-09806924E3A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8436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440" y="838080"/>
            <a:ext cx="914544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 + Resultado n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Ariel Gringaus</cp:lastModifiedBy>
  <cp:lastPrinted>2007-04-12T00:45:56Z</cp:lastPrinted>
  <dcterms:modified xsi:type="dcterms:W3CDTF">2007-07-26T04:14:33Z</dcterms:modified>
  <cp:revision>12</cp:revision>
  <dc:subject/>
  <dc:title>Análisis Financiero</dc:title>
</cp:coreProperties>
</file>