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pct" ContentType="image/x-pict"/>
  <Override PartName="/ppt/media/image8.pct" ContentType="image/x-pict"/>
  <Override PartName="/ppt/media/image9.pct" ContentType="image/x-pi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25E5-76DC-4F18-B125-463C115BA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C715-2608-49D9-83C6-60DF7527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B0D6-C864-45DD-BE54-CA18797BA3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FEEB1-ED98-4602-BAC1-85BBD0FED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A1205-CA4D-414D-9BC4-6E268A4FF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F24CF-450C-4A4D-8497-F2DE2A221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EE1D1-D5C1-4242-A46D-2A3A4D416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E77E2-B6EF-4ACD-AFF8-9E3D99F77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978E8-D7D8-44B1-A27F-CAC38D8FB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4D47-7527-4FBA-B7AA-CB92A22F0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FA8EA-A568-4409-B400-DE38BED37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5280-B3B5-486E-866B-ECF3179B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A6DC2-DA21-47DE-9F97-BCAE70F0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3974-8B29-4E47-8DE6-36179195A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F0C02-BE07-4878-9043-EF1FDD168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C0F0-6F6D-4B07-BCD6-1129770DD0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1469DE-A265-42C6-9F03-6577D81DEE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099EA-133D-4028-86AE-DC31CFF7A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8834-BBCC-46AA-88EA-3392BBFD6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73DDA-DEC7-401C-B018-578A2625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391A-F50A-4EFE-9A37-06891C97F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CB7C-0DC6-4029-ABD0-0A16E535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3338F-9714-4E18-8DB1-AF8818FA5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C0EE-6E57-4B9C-8D43-3D80B47E9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55CBA-417D-4A2F-9206-B5E7C7F523B0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3A57D-8215-4019-A02B-547535AFD98F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Análisis Financier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de los valores que muestran los estados financieros es de interés para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ción: en qué medida se están cumpliendo los objetivos traz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gentes Extern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nc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aluar la 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ionista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versus ries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pa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 o solvencia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importancia de la deuda como proporción de los recursos totales empleados por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proporción de financiamiento se conoce también como “apalancamiento financiero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Endeudamient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 Endeudamient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azón Deuda/Patrimonio =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 To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bertura de Interes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ntabilidad sobre el patrimonio (ROI) y la rentabilidad sobre activos definida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Rentabilidad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8534160" cy="304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bilidad Operacional sobre Activos (RO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A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x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Ventas 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584360" y="5638680"/>
            <a:ext cx="284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Margen de Op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410080" y="5638680"/>
            <a:ext cx="31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Rotación de los 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2286000" y="4647960"/>
            <a:ext cx="685800" cy="99036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6781320" y="4571640"/>
            <a:ext cx="381240" cy="1143000"/>
          </a:xfrm>
          <a:prstGeom prst="line">
            <a:avLst/>
          </a:prstGeom>
          <a:ln w="12600">
            <a:solidFill>
              <a:srgbClr val="ffff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Actividad: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tación de existencias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Costo de venta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vec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úmero de veces que se renueva el inventario en un ejerci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 en días =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Existencias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(dí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ventas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° de días que habrá existencias sin necesidad de producir o comp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609480" y="6091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ctas por cobrar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Ingresos por ven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íodo de cobro = 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Ctas por cobrar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gresos por venta/365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úmero de días que las ventas permanecen como cuenta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otación de los Activos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     Ventas      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Limitaciones del uso de razones financiera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ólo usa información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iempre los valores contables reflejan valores de mercado. Es bueno complementar el análisis con información com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% de cuentas por cobrar que es recuper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estado de las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2822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ál es el valor de mercado de l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385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195120" indent="-19512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195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za datos históricos. Es bueno complementarlo con información que permita proyect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288000" y="22860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Times New Roman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-1440" y="838080"/>
            <a:ext cx="9145440" cy="685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324000" y="1268280"/>
            <a:ext cx="820872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1"/>
          <a:stretch/>
        </p:blipFill>
        <p:spPr>
          <a:xfrm>
            <a:off x="304920" y="1192320"/>
            <a:ext cx="845820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izar los estados financieros de una empresa consiste en examinarlos desde el punto de vista de su situación económica y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Económic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o grado de eficiencia para producir utilidade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ituación Financier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: Capacidad de la empresa para pagar sus deu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228600" y="650880"/>
            <a:ext cx="8691480" cy="58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onceptos Prelimina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04920" y="1474560"/>
            <a:ext cx="8610480" cy="50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entiende por rentabilidad la ganancias que produce un activo en relación al monto inverti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ntabilidad sobre el patrimonio mide las ganancias que reciben los dueños del patrimonio de la empresa en relación a su propia inversión, es 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Utilidad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304920" y="836640"/>
            <a:ext cx="8610480" cy="568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609480" indent="-6094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finiciones de Rent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Rentabilidad sobre Activos, en cambio, mide las gana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que reciben todos los que tienen intereses en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(pasivo y patrimonio) en relación a los montos invertido,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ci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a = 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Resultado Operacional + Resultado no Operac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tivos Tota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685800" y="1413000"/>
            <a:ext cx="7772400" cy="468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clusion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l patrimonio está influenciada por la política de financiamiento de la empres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a rentabilidad de los activos es una medida de eficiencia, y es independiente de cómo se financian los activo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uando una empresa se endeuda aumenta la rentabilidad esperada de los accionistas, pero también aumenta el riesg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66840" y="549360"/>
            <a:ext cx="8381880" cy="65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Relación entre la Deuda, Riesgo y Rentabil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zones o Indices Financiero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23880"/>
            <a:ext cx="86104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análisis financiero consiste en la comparación de índice o razones calculadas a partir de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ongamos que una empresa tiene una rentabilidad de 10%. ¿Es esto bueno o mal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ones de Comparació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s o estándares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volución históric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s de otras empresas del sec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800" y="91404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Normalmente se consideran las siguientes familias 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atios o razones financier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Liquidez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Endeudamien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Renta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ffffff"/>
                </a:solidFill>
                <a:latin typeface="Arial"/>
              </a:rPr>
              <a:t>Activ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miten evaluar la capacidad de la empresa para pagar oportunamente sus obligacione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specialmente relevantes para bancos y proveedores que otorgan créditos 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ces de Liquidez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lación de Liquidez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circulan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ide la capacidad de la empresa para pagar sus deu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 corto plaz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est Acido =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. circulante -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más exigente que el anter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Soporte Técnico</dc:creator>
  <dc:description/>
  <dc:language>en-US</dc:language>
  <cp:lastModifiedBy>Ariel Gringaus</cp:lastModifiedBy>
  <cp:lastPrinted>2007-04-12T00:45:56Z</cp:lastPrinted>
  <dcterms:modified xsi:type="dcterms:W3CDTF">2007-07-26T04:14:33Z</dcterms:modified>
  <cp:revision>12</cp:revision>
  <dc:subject/>
  <dc:title>Análisis Financiero</dc:title>
</cp:coreProperties>
</file>