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ct" ContentType="image/x-pict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E6B4-55A2-4077-97EF-6F6331B30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579F-0B40-4542-B364-EACDEEC89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3268-E709-4B24-98BD-9BBB3E656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465B-DB2F-459B-9483-246871208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E5E6F-9232-4C98-81D6-924A26D94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22EA7-2B45-4167-A5CB-160E83B19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C674B-25C7-4EEF-9AA9-C89AEEF91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A0A5F-E840-4B1E-8BF5-68A3281C7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A041C-F226-4ED5-A09C-E4CCFBF0A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B5C74-305A-4C2C-8959-49A50D2B8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025D5-8D5F-478C-9EDD-5E3EBA34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CAAF-0E4D-457A-AA6E-C0D45DD08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320F8-9B72-4576-8CBB-301C0A54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A8ABC-F142-4031-B089-DEA9C247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F9F0B-98C2-456A-BE17-0788A6479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04254-2254-47A4-9F39-E954D855F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51470-8142-48A8-9E90-AEBAC6F9A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681C-A07E-4655-ADFB-9007AC003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76C8-C90F-4FF4-BCDE-7AB09F2DF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6532-D4C0-4637-867D-D8BE911B2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AC9E-8E08-4671-A9A6-9CD8FA271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8B58-C488-407D-A76B-38B04DCA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E950-72DC-4446-9954-0B23831D1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72AB-631D-4CAB-B839-0723009D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DAF89-33EE-4824-89D9-D0C1C3BD02D7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94DD8-0F2C-47C4-A352-06886606729A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5440" y="620280"/>
            <a:ext cx="806292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pe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+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Flujo Neto Originado por Actividades de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Variación Neta del Efe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477720" indent="0">
              <a:buNone/>
              <a:tabLst>
                <a:tab algn="l" pos="0"/>
                <a:tab algn="l" pos="955800"/>
                <a:tab algn="l" pos="1433520"/>
                <a:tab algn="l" pos="1911240"/>
                <a:tab algn="l" pos="2389320"/>
                <a:tab algn="l" pos="2867040"/>
                <a:tab algn="l" pos="3344760"/>
                <a:tab algn="l" pos="3822840"/>
                <a:tab algn="l" pos="4300560"/>
                <a:tab algn="l" pos="4778280"/>
                <a:tab algn="l" pos="5256360"/>
                <a:tab algn="l" pos="5734080"/>
                <a:tab algn="l" pos="6211800"/>
                <a:tab algn="l" pos="6689880"/>
                <a:tab algn="l" pos="7167600"/>
                <a:tab algn="l" pos="7645320"/>
                <a:tab algn="l" pos="8123400"/>
                <a:tab algn="l" pos="8601120"/>
                <a:tab algn="l" pos="9078840"/>
                <a:tab algn="l" pos="9556920"/>
                <a:tab algn="l" pos="10034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iliación entre flujo neto originado y el resultado del ejercici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del Ejerc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que no son flujo de efectivo (depreciación, provisiones,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ciones en los activos circulantes (clientes, existencias,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ciones en los pasivos circulantes (proveedores, retenciones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Flujo Oper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0920" y="228240"/>
            <a:ext cx="8207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jemplo de E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9080" y="1092240"/>
            <a:ext cx="85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alance Inicial (en M$)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50920" y="1773360"/>
          <a:ext cx="8686800" cy="443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773360"/>
                    <a:ext cx="868680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23640" y="475920"/>
            <a:ext cx="856908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urante los tres meses siguientes realiza las siguientes transaccion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vende mercadería por un monto de M$ 1.200, pagándose 50% a plazo y el resto al contado. El costo de la mercadería fue de M$ 9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os clientes pagan M$ 500 que adeudaban a la empres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paga M$ 400 que se adeudaba a los proveedo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entrega el 50% de los bienes pagados por anticipado, obteniendo un margen de ganancia, sobre ingresos, del 40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paga M$ 200 por concepto de remuneraci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emite acciones de pago por M$ 7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pide un préstamo bancario por M$ 800, al 2% mensu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compra activo fijo por M$ 2000, pagando al con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amortiza el 10% de las obligaciones con bancos vigentes a fines del ejercicio anterior y se cancelan los intereses devengados en el trimestre de dicha deu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94920" y="476280"/>
            <a:ext cx="84978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NOTA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 deuda inicial se contrajo a un tasa del 2% compuesto mensu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l activo fijo le resta una vida útil de 20 años y su valor residual es ce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l seguro tiene una duración de 1 año y fue contratado hace 2 me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476360" y="692280"/>
            <a:ext cx="5543640" cy="59767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24000" y="189000"/>
            <a:ext cx="256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ibro Dia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Balance Fi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stado de Result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78000" y="677880"/>
            <a:ext cx="8388000" cy="56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LUJO NETO TOTAL DEL PERIO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ctividades de Operació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audación de vent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1.1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go a proveedor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4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muneracion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(2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eses pagad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(183,6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Positivo por Actividades de Operació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316,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ctividades de Financiamient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mentos de capit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7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éstamos obtenid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8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go de préstam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3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Positivo por Actividades de Financiamiento      1.2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ctividades de Inversió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ra de activo fij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(2.0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Negativo por Actividades de Inversión              (2.0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ujo Neto Total Negativ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(483,6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585720" y="1057320"/>
            <a:ext cx="8307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 startAt="2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nciliación entre el flujo neto originado por actividades 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operación y el resultado ne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érdida del Ejercicio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(71,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epreciación del ejercicio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37,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umento deudores por venta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(1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isminución existencia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2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isminución seguro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isminución cuentas por pagar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(4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isminución ingresos anticipados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(5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Flujo Neto Operacional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316,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generación de flujos de efectivo es un objetivo relevante dentro del contexto de la administración financiera de las empres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capacidad para producirlos es materia de constante atención por parte de quienes se interesan por la marcha financiera de la entidad, tales como inversionistas, acreedores y otros entes involucr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al situación hace necesario incorporar un estado financiero que de cuenta de ell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21844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Estado de Flujo de Efectivo (EFE) es un estado financier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yo  objetivo es proveer información relevante sobre l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Egresos de Efectivo de una entidad producid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ante un determinado perío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6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5084640"/>
            <a:ext cx="8699400" cy="1309320"/>
          </a:xfrm>
          <a:prstGeom prst="rect">
            <a:avLst/>
          </a:prstGeom>
          <a:noFill/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Bibliografía: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(1)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Meigs &amp; Meigs: “Contabilidad, la base para las decisiones gerenciales”, capítulo 19 (“Medición del Flujo de Efectiv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(2)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Boletín Técnico N° 50 del Colegio de Contado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tabLst>
                <a:tab algn="l" pos="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(3)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ircular N° 1312 de la Superintendencia de Valores y Segu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 EFE ayuda a los inversionistas, acreedores y otros a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uar la capacidad de la empresa para generar flujos de efectivo netos positiv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uar la capacidad de la empresa para cumplir con sus obligaciones y repartir utilidades en efectiv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ar sus necesidades de financiamiento exter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dentificar las causas que explican la diferencia entre el Resultado del Ejercicio y el flujo de efectivo neto operacion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ocer los efectos que producen, en la posición financiera de la empresa, las actividades de financiamiento e inversiones que involucran efectivo y aquellas que no lo involucr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5800" y="549000"/>
            <a:ext cx="7772400" cy="554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concepto de Efectivo incluye dos elementos: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Efectivo: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Saldos disponibles en caja y bancos</a:t>
            </a:r>
            <a:br>
              <a:rPr sz="2400"/>
            </a:br>
            <a:br>
              <a:rPr sz="2400"/>
            </a:b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Efectivo equivalente: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Inversiones de corto plazo que cumplen los siguientes requisitos: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pueden convertir rápidamente en efectivo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 intención de convertirlos en efectivo antes de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 días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 riesgo mínimo de pérdida significativa de val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oducto de la conversión, (Ej: depósitos a plazo 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90600"/>
                <a:tab algn="l" pos="781200"/>
                <a:tab algn="l" pos="1171440"/>
                <a:tab algn="l" pos="1562040"/>
                <a:tab algn="l" pos="1952640"/>
                <a:tab algn="l" pos="2343240"/>
                <a:tab algn="l" pos="2733840"/>
                <a:tab algn="l" pos="3124080"/>
                <a:tab algn="l" pos="3514680"/>
                <a:tab algn="l" pos="3905280"/>
                <a:tab algn="l" pos="4295880"/>
                <a:tab algn="l" pos="4686480"/>
                <a:tab algn="l" pos="5076720"/>
                <a:tab algn="l" pos="5467320"/>
                <a:tab algn="l" pos="5857920"/>
                <a:tab algn="l" pos="6248520"/>
                <a:tab algn="l" pos="6638760"/>
                <a:tab algn="l" pos="7029360"/>
                <a:tab algn="l" pos="7419960"/>
                <a:tab algn="l" pos="78105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periores a 90 día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52280" y="691920"/>
            <a:ext cx="8839440" cy="517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EFE tiene dos part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86d1ec"/>
              </a:buClr>
              <a:buFont typeface="Arial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ujo neto total del periodo, o flujo clasificado por activ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86d1ec"/>
              </a:buClr>
              <a:buFont typeface="Arial"/>
              <a:buChar char="B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iliación entre flujo neto originado y el resultado del ejerc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6348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UJO NETO TOTAL DEL PERIO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14200" y="1052280"/>
            <a:ext cx="7489800" cy="56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91120" indent="-591120">
              <a:lnSpc>
                <a:spcPct val="85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arenR"/>
              <a:tabLst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idades de la Ope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efectiv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audación de ven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financieros percib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y otros repartos percib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ros ingresos percib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a proveedores y pers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es pag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 a la renta pagado, IVA y ot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tros gastos pagados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e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260360" y="260280"/>
            <a:ext cx="7632720" cy="64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arenR" startAt="2"/>
              <a:tabLst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idades de 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mentos de capi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tención de préstam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ras fuentes de 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dividen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artos de 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préstam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o de obligaciones con el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tros desembolsos por 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644400"/>
                <a:tab algn="l" pos="966960"/>
                <a:tab algn="l" pos="1289160"/>
                <a:tab algn="l" pos="1611360"/>
                <a:tab algn="l" pos="1933560"/>
                <a:tab algn="l" pos="2255760"/>
                <a:tab algn="l" pos="2577960"/>
                <a:tab algn="l" pos="2900520"/>
                <a:tab algn="l" pos="3222720"/>
                <a:tab algn="l" pos="3544920"/>
                <a:tab algn="l" pos="3867120"/>
                <a:tab algn="l" pos="4189320"/>
                <a:tab algn="l" pos="4511520"/>
                <a:tab algn="l" pos="4834080"/>
                <a:tab algn="l" pos="5156280"/>
                <a:tab algn="l" pos="5478480"/>
                <a:tab algn="l" pos="5800680"/>
                <a:tab algn="l" pos="6122880"/>
                <a:tab algn="l" pos="6445080"/>
                <a:tab algn="l" pos="6767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nanci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588680" y="333000"/>
            <a:ext cx="7015320" cy="626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AutoNum type="arabicParenR" startAt="3"/>
              <a:tabLst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idades de 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efectiv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 de activo fij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 de inversiones permane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Venta de otras invers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ros ingresos de 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de efectiv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orporación de 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permane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en instrument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-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Otros desembolsos de 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ujo Neto Originado por Actividades d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ver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56664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  <a:tab algn="l" pos="90010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05T18:02:10Z</dcterms:created>
  <dc:creator>I. D. I. E. M.</dc:creator>
  <dc:description/>
  <cp:keywords/>
  <dc:language>en-US</dc:language>
  <cp:lastModifiedBy>Ariel Gringaus</cp:lastModifiedBy>
  <cp:lastPrinted>2007-04-10T03:10:01Z</cp:lastPrinted>
  <dcterms:modified xsi:type="dcterms:W3CDTF">2007-04-10T03:42:21Z</dcterms:modified>
  <cp:revision>27</cp:revision>
  <dc:subject/>
  <dc:title>ESTADISTICAS DE POLIMEROS</dc:title>
</cp:coreProperties>
</file>