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2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8"/>
          </p:nvPr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9"/>
          </p:nvPr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A7FA16E-FDD0-462A-A479-AEAF1E855F81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6AEA-6E46-4605-895A-DF11FFE66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B754-8150-4EE0-8E9B-A3511BD8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83C1-F226-4DE5-AFD4-B120F8E39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D2BC-CFA9-47C5-9CA4-2E837E1A0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E9DE-7E54-4EF2-994D-76F8F28F3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4DAF-578A-4359-B39B-5C8CDDEB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7142-9CE2-4B15-B75B-9977B58C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62C5-EFF8-49B5-ABDA-D0BAE941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5E74-48E1-405F-9A2D-9F76C9A6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12C2-2C9B-4B64-BAD4-6C614773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5B61-BC57-4A81-80F6-52768518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6B2D-4D93-4CDF-B1EB-0C7862AE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7BEC-D083-41B7-B282-D84C0302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E826-AD89-4811-8E61-E2856E45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F036-C0C6-450E-A421-E3D9793F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4928-34E4-4022-8211-DC5141E1C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4E89-8A1B-4C40-A8C8-C16FDFB75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451D-02D8-4913-B347-90BAE444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DD72-A953-4FC2-AC03-EBCEC6DD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8ADE-ECC4-4F7C-94F5-D3A0953F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78A4-5FF7-4659-9FEC-87FD11DA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ACBD-4229-4EFE-B32A-397F4DFF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DEA1-103B-445C-B54D-8A533CD7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E6A6-91B7-4198-AC2D-924401B7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A072-135D-4F81-9562-5C8474F73F2C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160C-C0E1-452E-8A46-E3963CD982E3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3640" y="2865600"/>
            <a:ext cx="77882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9: Consolidación de Estados Financie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Resultados Consolid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1520" y="1473120"/>
            <a:ext cx="9015480" cy="421632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RIZ X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FILIAL Y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X+Y    CONSO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GRESO  POR VTA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18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STO VTA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6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5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11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1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GEN DE VENT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4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7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7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STOS ADM Y VTA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4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.OPERACIONAL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.EMP.RELAC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7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7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ES MINO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2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ULTADO EJE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27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37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7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olidación de Estad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844640"/>
            <a:ext cx="8610480" cy="37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RIZ : Empresa que posee más del 50% del capital de otra sociedad (Filial). Se considera la posesión directa e indirec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IGANTE : Empresa que posee más del 10% y menos del 50% del capital de otra sociedad (la coligad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Gráf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44560" y="1835280"/>
            <a:ext cx="977760" cy="825480"/>
          </a:xfrm>
          <a:prstGeom prst="rect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30560" y="1758960"/>
            <a:ext cx="1054080" cy="901800"/>
          </a:xfrm>
          <a:prstGeom prst="rect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20880" y="3740040"/>
            <a:ext cx="901440" cy="825480"/>
          </a:xfrm>
          <a:prstGeom prst="rect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30560" y="3664080"/>
            <a:ext cx="977760" cy="901440"/>
          </a:xfrm>
          <a:prstGeom prst="rect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50080" y="3664080"/>
            <a:ext cx="977760" cy="901440"/>
          </a:xfrm>
          <a:prstGeom prst="rect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2286000"/>
            <a:ext cx="1295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2666880"/>
            <a:ext cx="0" cy="1067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81280" y="26668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4191120"/>
            <a:ext cx="1828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40840" y="1812960"/>
            <a:ext cx="74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4320" y="2803680"/>
            <a:ext cx="74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2666880"/>
            <a:ext cx="1295280" cy="14479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17160" y="2651040"/>
            <a:ext cx="74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64720" y="3032280"/>
            <a:ext cx="74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371600" y="13716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1219320"/>
            <a:ext cx="50292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00800" y="1295280"/>
            <a:ext cx="0" cy="23623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60360" y="1355760"/>
            <a:ext cx="97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.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67080" y="2209680"/>
            <a:ext cx="1752840" cy="14479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31760" y="2117880"/>
            <a:ext cx="74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79120" y="4327560"/>
            <a:ext cx="74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0" y="22860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0" y="25909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56200" y="1965240"/>
            <a:ext cx="1288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r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r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22240" y="5165640"/>
            <a:ext cx="49420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riz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i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ig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2280" y="5035680"/>
            <a:ext cx="5092560" cy="1663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olidación de Estad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4480" y="118116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Chile las empresas matrices deben consolidar sus es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eros con sus filiales, es decir, deben presentar sus es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eros como si fuesen una sola entida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5927760"/>
            <a:ext cx="838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toman las inversiones en empresas relacionadas y se descomponen en activos y pasiv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9640" y="3359160"/>
            <a:ext cx="3340080" cy="2349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40240" y="3359160"/>
            <a:ext cx="3340080" cy="2425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9640" y="4425840"/>
            <a:ext cx="173988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6200" y="2651040"/>
            <a:ext cx="2653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Individ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41040" y="2708280"/>
            <a:ext cx="305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Consolid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7680" y="4419720"/>
            <a:ext cx="176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fil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352680"/>
            <a:ext cx="0" cy="2362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162920" y="3352680"/>
            <a:ext cx="0" cy="2438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98800" y="3489480"/>
            <a:ext cx="1251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riz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l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376760" y="3489480"/>
            <a:ext cx="12502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ri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l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4648320"/>
            <a:ext cx="1447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o de Consolid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280" y="1773360"/>
            <a:ext cx="8763120" cy="455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sionar cuentas de igual naturalez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iminar cuentas recipro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nocer parte del patrimonio y del resultado que pertenece a terceros (Interés minoritar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cue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mbia la composición de  activos y pasivos de la matri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mbian los ingresos y ga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de la matriz no camb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de la matriz no camb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072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5040" y="974880"/>
            <a:ext cx="8383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tienen dos empresas, donde la empresa X posee el 75% de la empresa Y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89000" y="1790640"/>
            <a:ext cx="876276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5560" y="1982880"/>
            <a:ext cx="847440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BALANCE DE 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SIVOS Y PATRIMON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ENTAS POR COBRAR A 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5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SIV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ROS AC. CIRCULANT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5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RIMON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ERSION EN 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50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5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BALANCE DE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SIVOS Y PATRIMON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IVO CIRCULAN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5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TAS.POR PAGAR A 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5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ROS PASIV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RIMON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00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4920" y="348840"/>
            <a:ext cx="724212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2760" y="1355760"/>
            <a:ext cx="82454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ERSION EN 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Activo Circulan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50* 0,7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 Activo Fij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250* 0,7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sivo Circulant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    100* 0,75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1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Activo Circulan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5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 Activo Fij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25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 Pasivo Circulan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 Interés Minoritario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      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1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0920" y="5372280"/>
            <a:ext cx="8474040" cy="82404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minoritario : aquella parte de la empresa Y que no pertenece a la empresa X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lance Consolid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66760" y="2171880"/>
            <a:ext cx="8686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4000" y="1989000"/>
            <a:ext cx="82454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.Y 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. CIRCULANTE 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. CIRCULANTE  2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.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 MINOR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4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7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7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5T18:02:10Z</dcterms:created>
  <dc:creator>I. D. I. E. M.</dc:creator>
  <dc:description/>
  <cp:keywords/>
  <dc:language>en-US</dc:language>
  <cp:lastModifiedBy>Ariel Gringaus</cp:lastModifiedBy>
  <cp:lastPrinted>1999-03-18T21:03:28Z</cp:lastPrinted>
  <dcterms:modified xsi:type="dcterms:W3CDTF">2007-04-10T02:56:18Z</dcterms:modified>
  <cp:revision>11</cp:revision>
  <dc:subject/>
  <dc:title>ESTADISTICAS DE POLIMEROS</dc:title>
</cp:coreProperties>
</file>