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8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9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1E1D6C-767E-4F06-BEA8-B3AC1F49B91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BF5-A650-4CA1-A616-4AA562EB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6AA-337D-4DB4-987D-9DF4838A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CCA-85D9-421F-85EC-60033079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05C-285C-4813-B065-A9E70A9D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927A-41F3-42A9-BF92-DE265522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38AE-EC3F-4CC7-B1ED-11175ADD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78A1-18E7-420B-B0FA-808A7531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7142-DC03-4644-8AA2-8CA69CF6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A806-3F17-4811-8900-A378EF9A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5B5C-A24A-4CB7-9AF4-9C2F0F2A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94F8-4034-41EA-ACED-AB456F72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C5B-A39C-4A29-AF06-4C640D6C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E543-D7B4-451F-B41B-0ABECC41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47A2-DFDF-41F0-B548-9897F703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0EFB-1EC2-4F93-86EF-C5FE74D6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7EE8-19AF-4801-B471-14D42407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6BA6-6CB2-44F6-9CF4-AA49CA4C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2AF-2351-4F5F-9270-E2DDCE1B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9CF-0E14-4ED6-9FF8-FAC6D54D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0A4-051D-455C-86E3-40E5C688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687-A310-4096-A3CD-64940A1E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9C3-DE1B-4305-BE4F-F44DE0A2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238-48D5-4A1B-B871-64E230FE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5D4-5E4D-46DF-ACBD-51F37CCA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DB4C-B66D-4AE2-B9ED-F2342708DA1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FE22-B038-4B70-94B8-353E3B64276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3640" y="2865600"/>
            <a:ext cx="7788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9: Consolidación de Estados Financie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Resultados Consolid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1520" y="1473120"/>
            <a:ext cx="9015480" cy="421632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 X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ILIAL Y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X+Y    CONS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GRESO  POR VT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8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O VT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6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11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GEN DE VEN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7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TOS ADM Y VTA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4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.OPERACIONA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.EMP.RELAC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2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ADO EJ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3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7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olidación de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844640"/>
            <a:ext cx="8610480" cy="37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RIZ : Empresa que posee más del 50% del capital de otra sociedad (Filial). Se considera la posesión directa e indi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IGANTE : Empresa que posee más del 10% y menos del 50% del capital de otra sociedad (la coliga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Grá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44560" y="1835280"/>
            <a:ext cx="977760" cy="82548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0560" y="1758960"/>
            <a:ext cx="1054080" cy="90180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20880" y="3740040"/>
            <a:ext cx="901440" cy="82548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30560" y="3664080"/>
            <a:ext cx="977760" cy="901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50080" y="3664080"/>
            <a:ext cx="977760" cy="901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22860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6668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6668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4191120"/>
            <a:ext cx="1828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40840" y="181296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4320" y="280368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666880"/>
            <a:ext cx="1295280" cy="1447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17160" y="265104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64720" y="303228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371600" y="1371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1219320"/>
            <a:ext cx="5029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12952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60360" y="135576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2209680"/>
            <a:ext cx="1752840" cy="14479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31760" y="211788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79120" y="432756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22860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2590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56200" y="1965240"/>
            <a:ext cx="1288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r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2240" y="5165640"/>
            <a:ext cx="4942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ig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2280" y="5035680"/>
            <a:ext cx="5092560" cy="1663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olidación de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480" y="118116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Chile las empresas matrices deben consolidar sus es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 con sus filiales, es decir, deben presentar sus es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 como si fuesen una sola entida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592776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oman las inversiones en empresas relacionadas y se descomponen en activos y pas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3359160"/>
            <a:ext cx="3340080" cy="2349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40240" y="3359160"/>
            <a:ext cx="3340080" cy="2425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4425840"/>
            <a:ext cx="173988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6200" y="2651040"/>
            <a:ext cx="265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Individ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41040" y="2708280"/>
            <a:ext cx="305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Consoli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7680" y="4419720"/>
            <a:ext cx="176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3526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62920" y="3352680"/>
            <a:ext cx="0" cy="243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98800" y="3489480"/>
            <a:ext cx="1251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ri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76760" y="3489480"/>
            <a:ext cx="1250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r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464832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de Consolid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1773360"/>
            <a:ext cx="8763120" cy="45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sionar cuentas de igual naturalez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iminar cuentas recipro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nocer parte del patrimonio y del resultado que pertenece a terceros (Interés minori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cu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a la composición de  activos y pasivos de la matr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an los ingresos y ga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de la matriz no cam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 la matriz no cam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07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040" y="974880"/>
            <a:ext cx="838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n dos empresas, donde la empresa X posee el 75% de la empresa Y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9000" y="1790640"/>
            <a:ext cx="876276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5560" y="1982880"/>
            <a:ext cx="84744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ALANCE DE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SIVOS Y PATRIMON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ENTAS POR COBRAR A 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IV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ROS AC. CIRCULAN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RIMON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RSION EN 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50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ALANCE DE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SIVOS Y PATRIMON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TAS.POR PAGAR A 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ROS PASIV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RIMON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0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348840"/>
            <a:ext cx="72421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760" y="1355760"/>
            <a:ext cx="8245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RSION EN 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Activo Circulan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50* 0,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Activo Fij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250* 0,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sivo Circulant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   100* 0,75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Activo Circulan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Activo Fij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2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Pasivo Circulan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Interés Minoritario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    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5372280"/>
            <a:ext cx="8474040" cy="82404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inoritario : aquella parte de la empresa Y que no pertenece a la empresa 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Consolid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6760" y="21718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1989000"/>
            <a:ext cx="82454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.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. CIRCULANTE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. CIRCULANTE  2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.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 MINO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7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7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cp:keywords/>
  <dc:language>en-US</dc:language>
  <cp:lastModifiedBy>Ariel Gringaus</cp:lastModifiedBy>
  <cp:lastPrinted>1999-03-18T21:03:28Z</cp:lastPrinted>
  <dcterms:modified xsi:type="dcterms:W3CDTF">2007-04-10T02:56:18Z</dcterms:modified>
  <cp:revision>11</cp:revision>
  <dc:subject/>
  <dc:title>ESTADISTICAS DE POLIMEROS</dc:title>
</cp:coreProperties>
</file>