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E5A5-B94E-4857-8A76-1319268B7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E861-B988-4711-9CBF-40C808DD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D12D-A92F-473F-8780-F294A23FE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74E9-4B5E-41C4-8077-12F2AC796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3145-BCAB-46F5-B741-C24E36FE3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8151-2D02-44C7-9420-FE993290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2C30-DDAC-4922-8B30-E55A3A4C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F37B-46B3-407B-85F5-FEC146F1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97DA-B7DC-48F9-B5CF-69CC0ED0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E4DC-38C4-4A19-9F09-C0DFA835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4693-82DF-468F-AE03-143EC09E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11D9-4CB7-4AD4-AB16-9E21F492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409B-CD3E-43C0-8F97-5C71D38B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7D6F-D3D7-4BBD-884B-141A833E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78D5-6878-44EB-98A2-09404EAA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4F1B-478E-4545-A039-C648FE118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9F62-9978-44AD-8C09-28A3D8943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0870-32F6-4A3B-94E5-E7B6DDE5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B3BC-A423-4084-B9F3-C970813D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E8C6-80D2-42A9-A3AB-D6CC5D03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4BE2-59A8-4EDC-8D88-7F966A57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376E-9818-422C-952D-22ED219F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E61D-54CE-48EB-8ED5-14794C53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F83D-FD2C-4194-A643-1A635513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FBB8-8D85-4E45-A483-1DCA8DB4B0C3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2ED5-3FD4-47FB-AFA3-0F092475791E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10666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558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8: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280" y="1268280"/>
            <a:ext cx="8839440" cy="528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Nominal  =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(Act. - Pas.)    =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érdida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(9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352440"/>
            <a:ext cx="31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960" y="1413000"/>
            <a:ext cx="883908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ora el activo es un terren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(no pierde valor con la infl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       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= 1.000 * 1.1 + 10 = 1.1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1.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3080" y="35244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2 (cont.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320" y="1413000"/>
            <a:ext cx="899136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hora hay una deuda reajustable (en UF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,1            =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 = 1.510 – 500 * 1,1 =     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=    (14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6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canismo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In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Final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1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s a Plazo Reajustab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Intangibles, Ac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Cobrar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7453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en U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pactadas en moneda extranje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lquier deuda pactada con cláusula de reajus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amortiza en pesos y luego se hace C.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744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y Pasivos mone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quellos pasivos y activos cuyo valor nominal permanece constante, pero no el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no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es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773000"/>
            <a:ext cx="8763120" cy="477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el Capital Inicial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portes y Retir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Pas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Variación del Índice de Precios al Consumidor, se usa para corregi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Reposi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corregir el valor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fine como el valor de la última unidad comp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fines tributarios se considera el precio más alto pagado en 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8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ó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anismo para reflejar en los estados financieros la pérdida d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der adquisi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la mone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20728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Variación Tipo de Camb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las deudas o depósitos pactados en moneda extranj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láusulas de Reajustabilidad</a:t>
            </a: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Según como se haya establecido o pac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deudas o depósitos pactados con las respectivas cláusula (la más usual es la Unidad de Fomento (UF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881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na empresa tiene los siguientes estados financieros a f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l ejercicio de 200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xtran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8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3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Pas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750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or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. y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75960"/>
            <a:ext cx="874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, se tiene la siguiente inform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4 =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5 = 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ón tipo de cambio   =   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existencias, valoradas según el método FIFO,  se componen de 80 unidades a $8 cada una y 16 unidades a $10 cada una. En la última compra se pagó este último pre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Capital Inicial (como el IPC de diciembre 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oce en Enero, se usa el de noviembr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2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-  1=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 Revaloriz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.000*1.25 =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Revalorizad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500*1.25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96*10    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Pasivos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.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600* 1.3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Final Revalorizado : (Activo- Pas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+ 900 + 960 + 625- 780 - 400 = 1.4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o el Patrimonio Inicial Revalorizado es 1250, se ti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5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3640" y="1143000"/>
            <a:ext cx="8667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s de Corrección Mone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M.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3640" y="75960"/>
            <a:ext cx="577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981000"/>
            <a:ext cx="618660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Estado de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t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1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7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Adm.y Vta.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.O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rrección Monetaria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14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62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15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58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5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59644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ongamos una economía donde existe un solo bien (manzana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0 : Po = 10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1 : P1 = 11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tonces la inflación =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5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628640"/>
            <a:ext cx="883944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un individuo dispone de $ 1.000, y tiene la alternativa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ositar al 20%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Manza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,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fi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nominal = 1.200 – 1.000 =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 cada añ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=  9,09*11 = 1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l año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calcular la utilidad real obtenida en un depósito, lo que hacemos es comparar el dinero obtenido a la fecha del vencimiento con el capital depositado originalmente, pero actualizado según la variación del IPC (inflación)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tilidad real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 1200 – 1000 * (1+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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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200 – 1000 * 1,1      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2 Inflación y Estad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s de la Inflació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el valor de Activos y 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la relación entre Ingresos y Gas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pagar impuestos sobre utilidades re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comparar estados financieros de distintos perío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determinar la utilidad real en una empresa, es decir, con corrección monetaria, se aplica un procedimiento conceptualmente similar a cuando se obtiene la utilidad real de un depósito bancario (como en ejemplo anterio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diferencia es que el patrimonio final no es necesariamente una cantidad de dinero, como ocurre en un depósito, sino un conjunto de activos y pasivos, monetarios y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tonces, se debe comparar el patrimonio inicial actualizado con el patrimonio final, también actualiz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9644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s expresiones importa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1773360"/>
            <a:ext cx="787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sultado = Patrimonio Final - Patrimonio Inicial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= Activo - 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uest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flación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Utilidad es producto de una prestación de servicios que se paga al co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3:09:14Z</dcterms:created>
  <dc:creator>Michael Jorratt</dc:creator>
  <dc:description/>
  <dc:language>en-US</dc:language>
  <cp:lastModifiedBy>IVAN ALVAREZ VALDES</cp:lastModifiedBy>
  <cp:lastPrinted>1999-03-18T21:02:27Z</cp:lastPrinted>
  <dcterms:modified xsi:type="dcterms:W3CDTF">2006-04-17T03:14:02Z</dcterms:modified>
  <cp:revision>29</cp:revision>
  <dc:subject/>
  <dc:title>Primera Parte: Contabilidad Financiera</dc:title>
</cp:coreProperties>
</file>