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CFD3-86E3-4306-8A82-EEF4EB56A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50E7-1B73-489E-818A-BD2F837DA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A27C-85D5-442A-B3F2-1D9DF3AD0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8570-DFAE-4894-A00B-D73AB5B1E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7A981-E43B-4AED-BF72-FC908060B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1E0AF-CB91-405A-B5BB-A3FC5D1AF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5F793-08BF-403B-9AD2-AC7FCE2E4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E637C-1FC2-4C35-ABB9-8D048D856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4681A-5A32-42CD-95FB-BC7FA40BE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5DCDE-D035-4B71-9F23-122CFCAF8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FD8CB-71EF-4B4C-B9A0-CFBF0868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F0C0-00AE-42CF-B243-62543FED5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E3FC1-AD62-457B-AB55-E369EF59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F14F4-B76E-4A34-B22F-1FC6F746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7C0E3-1A6E-422A-A6C2-78C2FE559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A798C-4F64-4385-9ECD-36933CBEB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C7460-376F-4CBE-BD41-C13DD5AD9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D8DF-7FF8-4D6C-8BBA-7727BBE5A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546D-2875-4126-B0B2-462546BC4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B28A-B274-414E-8DD2-75440BABB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A430-9BCC-4046-8E23-AE0DA4425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4A98-8351-4C73-BEAA-D0BF3A63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F6EF-C122-4D66-88FE-54E4AF38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9F20-9949-4550-81F1-44DC1B3A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4B601-D025-443B-8B59-2393E9AC10FF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D0897-AE73-4318-BA58-9DDFA4222A54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10666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558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ítulo 8: 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2280" y="1268280"/>
            <a:ext cx="8839440" cy="528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Nominal  =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Inicial Actualizado = 1.000 * 1.1 =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Final Actualizado (Act. - Pas.)    =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alance Final Corregid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érdida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(9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352440"/>
            <a:ext cx="316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jemplo 1 (cont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9636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2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5960" y="1413000"/>
            <a:ext cx="8839080" cy="468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hora el activo es un terreno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(no pierde valor con la inflació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I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Activo Fij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F.  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 Fijo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Utilidad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Inicial Actualizado = 1.000 * 1.1         =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Final Actualizado  = 1.000 * 1.1 + 10 = 1.1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real (PFA - PI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228600" y="1676520"/>
            <a:ext cx="861048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lance Final Corregid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1.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13080" y="352440"/>
            <a:ext cx="297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jemplo 2 (cont.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4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320" y="1413000"/>
            <a:ext cx="8991360" cy="51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hora hay una deuda reajustable (en UF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I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5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F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5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Inicial Actualizado = 1.000 * 1,1            = 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Final Actualizado   = 1.510 – 500 * 1,1 =     9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real (PFA - PI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=    (14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67240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ecanismo de la 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valorizar el Patrimonio Ini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valorizar el Patrimonio Final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Revalorizables (No Monetari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sivos Revalorizables (No Monetari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no monetari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761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tán auto protegidos de la Inflació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 valor real permanece constante en el tiemp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s a Plazo Reajustab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Intangibles, Ac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. por Cobrar Reajus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456840"/>
            <a:ext cx="7453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ivos no monetari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tán auto protegidos de la Inflació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 valor real permanece constante en el tiemp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s en U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s pactadas en moneda extranjer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ualquier deuda pactada con cláusula de reajustabil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amortiza en pesos y luego se hace C.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380520"/>
            <a:ext cx="744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y Pasivos moneta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on aquellos pasivos y activos cuyo valor nominal permanece constante, pero no el re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s no reajus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591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ses de la 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8600" y="1773000"/>
            <a:ext cx="8763120" cy="477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el Capital Inicial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Aportes y Retiros de 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Activos No Monet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Pasivos No Monet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ores de correcc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IPC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Variación del Índice de Precios al Consumidor, se usa para corregir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Intangi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de Reposi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sa para corregir el valor de las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efine como el valor de la última unidad compr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 fines tributarios se considera el precio más alto pagado en el ejerc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078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ción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canismo para reflejar en los estados financieros la pérdida d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oder adquisitiv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 la mone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20728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ores de correcc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Variación Tipo de Cambi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usa para corregir las deudas o depósitos pactados en moneda extranj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Cláusulas de Reajustabilidad</a:t>
            </a:r>
            <a:r>
              <a:rPr b="1" i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Según como se haya establecido o pact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usa para corregir deudas o depósitos pactados con las respectivas cláusula (la más usual es la Unidad de Fomento (UF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50560" y="75960"/>
            <a:ext cx="8816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na empresa tiene los siguientes estados financieros a f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l ejercicio de 200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SIVO Y 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. en M.Extran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ores por Vta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. por Paga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8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y Reserv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5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ercici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3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otal Act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2.3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otal Pas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.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7750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do de Resultad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por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5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g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7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de Adm. y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de Ejercici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3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50920" y="75960"/>
            <a:ext cx="874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emás, se tiene la siguiente informació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 a Noviembre de 2004 = 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 a Noviembre de 2005 = 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ción tipo de cambio   =   3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s existencias, valoradas según el método FIFO,  se componen de 80 unidades a $8 cada una y 16 unidades a $10 cada una. En la última compra se pagó este último pre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50560" y="759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Capital Inicial (como el IPC de diciembre 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oce en Enero, se usa el de noviembr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2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-  1= 2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 Revaloriz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1.000*1.25 = 1.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050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763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alorización Activos No Monet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Revalorizad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500*1.25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Revalorizad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96*10      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8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alorización Pasivos No Monetar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en M.E. Revalorizad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600* 1.3 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en M.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 Final Revalorizado : (Activo- Pasiv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 + 900 + 960 + 625- 780 - 400 = 1.4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o el Patrimonio Inicial Revalorizado es 1250, se tie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Re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15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23640" y="1143000"/>
            <a:ext cx="86677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sientos de Corrección Monetari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uda M.E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3640" y="75960"/>
            <a:ext cx="577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4572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8360" y="981000"/>
            <a:ext cx="618660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uevo Estado de Result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s por Vt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1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sto Vta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arge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7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Adm.y Vta.      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.O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rrección Monetaria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(14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15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uevo Bal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SIVO Y 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. en M.E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ores por Vtas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. por Paga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6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y Reserv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1.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62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Utilidad del Ejercici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155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.58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2.5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59644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1 Concepto de Poder Adquisi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5960" y="198108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pongamos una economía donde existe un solo bien (manzanas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ecio periodo 0 : Po = 10 $/un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ecio periodo 1 : P1 = 11 $/un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ntonces la inflación = 1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5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1 Concepto de Poder Adquisi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2280" y="1628640"/>
            <a:ext cx="8839440" cy="48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un individuo dispone de $ 1.000, y tiene la alternativa 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ositar al 20%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Manza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 = 0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,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 = 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fi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9,0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9,0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nominal = 1.200 – 1.000 = 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n $ de cada añ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re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=  9,09*11 = 10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n $ del año 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ara calcular la utilidad real obtenida en un depósito, lo que hacemos es comparar el dinero obtenido a la fecha del vencimiento con el capital depositado originalmente, pero actualizado según la variación del IPC (inflación), es deci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tilidad real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= 1200 – 1000 * (1+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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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1200 – 1000 * 1,1      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312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2 Inflación y Estado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as de la Inflación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orsiona el valor de Activos y Pas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orsiona la relación entre Ingresos y Gast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 pagar impuestos sobre utilidades re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 comparar estados financieros de distintos perío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ara determinar la utilidad real en una empresa, es decir, con corrección monetaria, se aplica un procedimiento conceptualmente similar a cuando se obtiene la utilidad real de un depósito bancario (como en ejemplo anterio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a diferencia es que el patrimonio final no es necesariamente una cantidad de dinero, como ocurre en un depósito, sino un conjunto de activos y pasivos, monetarios y no monetar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tonces, se debe comparar el patrimonio inicial actualizado con el patrimonio final, también actualiz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596440" cy="115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s expresiones important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5280" y="1773360"/>
            <a:ext cx="787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sultado = Patrimonio Final - Patrimonio Inicial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= Activo - Pas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jemplo 1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I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F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puesto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flación 1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Utilidad es producto de una prestación de servicios que se paga al cont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1T23:09:14Z</dcterms:created>
  <dc:creator>Michael Jorratt</dc:creator>
  <dc:description/>
  <dc:language>en-US</dc:language>
  <cp:lastModifiedBy>IVAN ALVAREZ VALDES</cp:lastModifiedBy>
  <cp:lastPrinted>1999-03-18T21:02:27Z</cp:lastPrinted>
  <dcterms:modified xsi:type="dcterms:W3CDTF">2006-04-17T03:14:02Z</dcterms:modified>
  <cp:revision>29</cp:revision>
  <dc:subject/>
  <dc:title>Primera Parte: Contabilidad Financiera</dc:title>
</cp:coreProperties>
</file>