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B0FC-C086-42DF-975E-D86125995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4CAC-706E-4946-8150-A42792BC8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1481-B9FC-424A-B132-BC2AA6D6B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51F2-CE68-4727-97B3-8198E5CB7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A347C-CF1D-49AA-BFCA-852DFE7DC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ECCD4-A4B6-4731-AAB8-823F3F13E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B7B06-4F64-493C-98B3-1BA308230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E0C08-300B-4C6D-987C-39235228B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9865A-EE78-4179-B807-6C4B7BEB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2FD4B-E4B8-44D6-803C-B96554024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7B970-3AD4-45DC-8DF1-FAB6B23F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9504-FDCF-4063-AB50-27D3AA270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EEB34-34EE-4D80-A6B8-E4134A61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ECF49-0486-461B-9FDC-FA21C7DE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ECA09-B00B-45A2-A7A3-AB09A8A12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DFAF4-E699-4D37-806E-6C2265706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6C24B-404C-4A67-B5A4-8B06DA129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D14A-FF14-4785-B35C-DE8FB39A4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075F-C420-4B33-AD8A-259B5663C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F429-B893-4A9D-BF39-51C2492E1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5C1A-6185-4068-A597-736C4A54C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108F-859B-4D5A-8017-238F4513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22B0-0EB4-4EDF-9A86-960D814E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D597-C480-4CE1-B369-6A7D6F75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6B0A2-C86E-4116-9717-424797F9110A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120AA-3888-43DA-BF88-9F8730436F55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10666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558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8: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2280" y="1268280"/>
            <a:ext cx="8839440" cy="528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Nominal  =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.1 =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(Act. - Pas.)    =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alance Final Corregid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érdida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(9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352440"/>
            <a:ext cx="316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1 (cont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9636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2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5960" y="1413000"/>
            <a:ext cx="8839080" cy="46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hora el activo es un terren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(no pierde valor con la inflació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  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.1         =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 = 1.000 * 1.1 + 10 = 1.1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real (PFA - PI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61048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e Final Corregid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1.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3080" y="352440"/>
            <a:ext cx="297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2 (cont.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320" y="1413000"/>
            <a:ext cx="8991360" cy="51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hora hay una deuda reajustable (en UF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5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5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,1            = 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  = 1.510 – 500 * 1,1 =     9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real (PFA - PI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=    (14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6724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canismo de la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valorizar el Patrimonio Ini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valorizar el Patrimonio Final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Revalorizables (No Monetari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s Revalorizables (No Monetari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no monetari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761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tán auto protegidos de la Inflac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 valor real permanece constante en el tiem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s a Plazo Reajustab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Intangibles, Ac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Cobrar Reajus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456840"/>
            <a:ext cx="7453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ivos no monetari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tán auto protegidos de la Inflac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 valor real permanece constante en el tiem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en U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pactadas en moneda extranjer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alquier deuda pactada con cláusula de reajust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amortiza en pesos y luego se hace C.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380520"/>
            <a:ext cx="744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y Pasivos moneta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n aquellos pasivos y activos cuyo valor nominal permanece constante, pero no el re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no reajus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591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ses de la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600" y="1773000"/>
            <a:ext cx="8763120" cy="477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el Capital Inicial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Aportes y Retiros de 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Act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Pas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ores de correc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PC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Variación del Índice de Precios al Consumidor, se usa para corregir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Reposi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para corregir el valor de las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fine como el valor de la última unidad compr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 fines tributarios se considera el precio más alto pagado en el ejerc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078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ció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anismo para reflejar en los estados financieros la pérdida d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oder adquisitiv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 la mone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20728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ores de correc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Variación Tipo de Camb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usa para corregir las deudas o depósitos pactados en moneda extranj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láusulas de Reajustabilidad</a:t>
            </a:r>
            <a:r>
              <a:rPr b="1" i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Según como se haya establecido o pact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usa para corregir deudas o depósitos pactados con las respectivas cláusula (la más usual es la Unidad de Fomento (UF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50560" y="75960"/>
            <a:ext cx="8816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na empresa tiene los siguientes estados financieros a f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l ejercicio de 200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 Y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. en M.Extran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ores por Vta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Paga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8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y Reserv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ercic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otal 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2.3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otal Pas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7750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de Resultad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por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5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g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7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Adm. y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de Ejercic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50920" y="75960"/>
            <a:ext cx="874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emás, se tiene la siguiente informa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a Noviembre de 2004 =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a Noviembre de 2005 = 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ción tipo de cambio   =   3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 existencias, valoradas según el método FIFO,  se componen de 80 unidades a $8 cada una y 16 unidades a $10 cada una. En la última compra se pagó este último pre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0560" y="759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Capital Inicial (como el IPC de diciembre 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oce en Enero, se usa el de noviembr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2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-  1= 2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 Revaloriz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1.000*1.25 = 1.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050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alorización Act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Revalorizad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500*1.25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Revalorizad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96*10     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8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alorización Pasivos No Monetar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en M.E. Revalorizad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600* 1.3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en M.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 Final Revalorizado : (Activo- Pasiv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 + 900 + 960 + 625- 780 - 400 = 1.4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o el Patrimonio Inicial Revalorizado es 1250, se tie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Re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15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23640" y="1143000"/>
            <a:ext cx="86677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ientos de Corrección Monetar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a M.E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3640" y="75960"/>
            <a:ext cx="577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4572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8360" y="981000"/>
            <a:ext cx="618660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uevo Estado de Result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s por Vt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1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sto Vta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arge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7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Adm.y Vta.  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.O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rrección Monetaria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(14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1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uevo Bal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 Y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. en M.E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ores por Vtas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Paga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6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y Reserv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1.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62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Utilidad del Ejercic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155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.58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2.5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59644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1 Concepto de Poder Adquisi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5960" y="19810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pongamos una economía donde existe un solo bien (manzanas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ecio periodo 0 : Po = 10 $/un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ecio periodo 1 : P1 = 11 $/un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ntonces la inflación = 1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5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1 Concepto de Poder Adquisi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2280" y="1628640"/>
            <a:ext cx="8839440" cy="48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un individuo dispone de $ 1.000, y tiene la alternativa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ositar al 20%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Manza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 = 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,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 = 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fi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9,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9,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nominal = 1.200 – 1.000 =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n $ de cada añ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re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=  9,09*11 = 1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n $ del año 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ara calcular la utilidad real obtenida en un depósito, lo que hacemos es comparar el dinero obtenido a la fecha del vencimiento con el capital depositado originalmente, pero actualizado según la variación del IPC (inflación), es dec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tilidad real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= 1200 – 1000 * (1+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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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200 – 1000 * 1,1      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312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2 Inflación y Estad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as de la Inflación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orsiona el valor de Activos y Pas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orsiona la relación entre Ingresos y Gas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 pagar impuestos sobre utilidades re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 comparar estados financieros de distintos perío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ara determinar la utilidad real en una empresa, es decir, con corrección monetaria, se aplica un procedimiento conceptualmente similar a cuando se obtiene la utilidad real de un depósito bancario (como en ejemplo anterio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a diferencia es que el patrimonio final no es necesariamente una cantidad de dinero, como ocurre en un depósito, sino un conjunto de activos y pasivos, monetarios y no monetar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tonces, se debe comparar el patrimonio inicial actualizado con el patrimonio final, también actualiz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59644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s expresiones important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1773360"/>
            <a:ext cx="787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sultado = Patrimonio Final - Patrimonio Inicial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= Activo - Pas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puesto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flación 1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Utilidad es producto de una prestación de servicios que se paga al con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1T23:09:14Z</dcterms:created>
  <dc:creator>Michael Jorratt</dc:creator>
  <dc:description/>
  <dc:language>en-US</dc:language>
  <cp:lastModifiedBy>IVAN ALVAREZ VALDES</cp:lastModifiedBy>
  <cp:lastPrinted>1999-03-18T21:02:27Z</cp:lastPrinted>
  <dcterms:modified xsi:type="dcterms:W3CDTF">2006-04-17T03:14:02Z</dcterms:modified>
  <cp:revision>29</cp:revision>
  <dc:subject/>
  <dc:title>Primera Parte: Contabilidad Financiera</dc:title>
</cp:coreProperties>
</file>