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2DC-6106-4CB9-AF74-68A849A5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810-2281-4705-A2BE-94B6B2FC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D56-1233-405E-BCC2-CFEBD7BB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E1D-7CC1-4F81-ADBC-F065282A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4758-195A-4168-B578-058406AE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AE57-F02F-41E7-831A-000DA649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DED0-3D66-44CF-8EA5-D47E5389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5128-F0A2-49E1-868F-564B5046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B7A7-E3D0-4905-BD73-B997A770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09DC-04D2-40C1-8771-38A36AF1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3C1F-9796-4118-B483-2FD1FFF6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A59-A7DD-4898-8FC1-83F6C294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38D2-BABF-4D53-840A-6E8E5EC1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250A-A138-4DE1-8255-511132AF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BA28-7BF2-43F7-80AF-A91B206F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B58C-B75E-46AA-BA1C-DE0787E3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C9FE-247B-442D-80AB-28B008EB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AF6-DEF9-4A34-9BFF-BFB42EE6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B10-EA6C-4451-840C-B89E1B1F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7A0-B7A7-4F47-B5E8-37C415C4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7F8-1D0E-47BD-B4EB-B634C5B1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028-C7DC-45D5-BDDE-4EE1BC27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736-FBCD-4C60-90BD-5D596E83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81E-4AC3-4325-90A1-61CD4C91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44A4-4747-460E-A017-643A9C5CDA0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7D7F-9755-4819-B6A9-FEEF0A1CD32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cp:keywords/>
  <dc:language>en-US</dc:language>
  <cp:lastModifiedBy>Ariel Gringaus</cp:lastModifiedBy>
  <cp:lastPrinted>1999-03-18T20:56:04Z</cp:lastPrinted>
  <dcterms:modified xsi:type="dcterms:W3CDTF">2007-03-26T22:03:40Z</dcterms:modified>
  <cp:revision>13</cp:revision>
  <dc:subject/>
  <dc:title>Primera Parte: Contabilidad Financiera</dc:title>
</cp:coreProperties>
</file>