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1D4-992A-4FC0-90CD-4E5DFD62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530-132C-47F3-A24F-77578B59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9BF-AAFF-4E92-AEEC-D7B9C86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A7A-8A8E-45B5-A337-BE2B1952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F64-31C0-457C-9433-EF45D2CB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ACC4-9C6E-43AE-9614-163C21A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F700-11C0-41F9-83C8-85B31230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6B3C-E737-4478-9C3A-98B24D8D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C1DE-162A-4298-A100-DA99572D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A6A4-31D1-425A-95C4-5A31D7F1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578A-1776-4EB9-BEBE-D07ACF6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11E-9D84-49F7-9153-B6A36367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2B02-008B-42F0-8377-8C0678C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91B7-49AB-48F1-B10F-4390D8B0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6C62-6504-4466-8608-5984612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C294-61A2-4D1D-9E68-8DE85AF1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F631-FED0-4325-890C-6D0CF4A8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8AE-8146-447E-B8BE-A8385842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D12-196E-485C-A292-DB3A6BAA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EFC-160E-48B7-8274-2CE50244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9B2-592C-483E-9842-B86306FC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66B-B601-4E8E-8E8F-BBAD5A2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1DF-4347-48B1-9E98-DA8624CF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BB9-66DC-42E7-B04E-759184E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FE45-E36B-4C89-89EE-F3D6E476A48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1153-54C7-4BC5-ACEC-93FA1567040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Ariel Gringaus</cp:lastModifiedBy>
  <cp:lastPrinted>1999-03-18T20:56:04Z</cp:lastPrinted>
  <dcterms:modified xsi:type="dcterms:W3CDTF">2007-03-26T22:03:40Z</dcterms:modified>
  <cp:revision>13</cp:revision>
  <dc:subject/>
  <dc:title>Primera Parte: Contabilidad Financiera</dc:title>
</cp:coreProperties>
</file>