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5CF-3529-4E75-9B3C-8C22D3D4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7EA-B4E6-478E-B68D-2180FF36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D52-D8DD-4587-B3D9-5B41F5CE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5A4-D5B8-463C-9481-940D9E75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5681-A699-4A22-BA5C-1FD39126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802E-AF0E-4B94-82D2-2EBE291F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DECD-266E-44C4-9E1C-76EAA817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1604-E63E-4AAE-A84F-A93603CE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02F2-548D-4060-8FB5-54CB41BD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8CEE-7B6F-4000-8A2D-59944E24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AAE6-E531-4C62-B69B-36668424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8F0F-4018-4EF4-90EE-F2052755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2B14-B0FD-46C3-A8DF-D94DB5CE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1019-7807-4C5E-9B0F-1E3B40AD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6CFB-613D-4025-9AEF-6AE70FDE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83D2-1A2D-4771-9933-B3164259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2736-948E-4789-B4C6-EE2D77E6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E2B-E8F1-43C4-BAD4-01B9A78E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99A0-30AB-4AAD-BDDF-AF794653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89A-F56E-4E1F-B54D-B17F0B83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FB1-8D55-4966-9D76-9DF75F6B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6617-4F2C-4A78-A96D-624B53DB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71D-2C84-4D82-8084-3B92541D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E87-DF6F-4882-BDAD-ACEA0AA5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4EDA-6AD1-4251-A0A1-4614C94EC4B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C889-18DB-4BFA-906E-4DA9E5CD2DD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cp:keywords/>
  <dc:language>en-US</dc:language>
  <cp:lastModifiedBy>Ariel Gringaus</cp:lastModifiedBy>
  <cp:lastPrinted>1999-03-18T20:56:04Z</cp:lastPrinted>
  <dcterms:modified xsi:type="dcterms:W3CDTF">2007-03-26T22:03:40Z</dcterms:modified>
  <cp:revision>13</cp:revision>
  <dc:subject/>
  <dc:title>Primera Parte: Contabilidad Financiera</dc:title>
</cp:coreProperties>
</file>