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DBE-7AF2-4168-8A23-CE1750F6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0B0-BA9B-4E07-BD1D-922B8B3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752-E440-4C75-81B0-2609DF51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ADE-0A3E-4C7F-A42D-C6B25760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F648-7756-4FA5-B322-FB1E47D0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F0DF-FE97-4396-87DA-5501DDA3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DF73-A6A6-4E87-8B27-F3AECF3D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7DBF-640D-4682-AFFC-6577C381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1187-41B5-47B8-A124-6A0E1289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AB3A-F90D-4D2C-A3F2-00374F80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0145-C73C-46EE-919B-C05E7FE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2B3-2E87-4DA3-8183-F7218547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6992-0955-4417-A2FD-AD0A387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F54F-4573-46C6-BF5D-524CDC13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DD1A-9594-4CE3-A3B4-B324F8A9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DE1-03D9-42BB-831F-C6041EA9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BE1E-CA5D-4799-A5EC-CE030C3D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46E-F97E-4E35-9C7F-5721017D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B69-9D92-45C0-9BA6-FE82116E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6AF-EF2A-489E-9F61-AB40C61B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925-2F2C-42BB-8204-9EDD566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980-9BB3-407F-8399-2BA7BC0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CAD-EBBA-431D-A872-AB5069C4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1AA-CAE6-40C8-A5D9-1EE6949F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4DD3-3087-46D3-BD11-EDA36852C32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505D-AE61-472B-9060-DAC25EA73EA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Ariel Gringaus</cp:lastModifiedBy>
  <cp:lastPrinted>1999-03-18T20:56:04Z</cp:lastPrinted>
  <dcterms:modified xsi:type="dcterms:W3CDTF">2007-03-26T22:03:40Z</dcterms:modified>
  <cp:revision>13</cp:revision>
  <dc:subject/>
  <dc:title>Primera Parte: Contabilidad Financiera</dc:title>
</cp:coreProperties>
</file>