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3A4-1CE1-4A12-B962-E46661F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985-07C5-44C1-8E6D-73531869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518-5C3D-4ECE-A2BB-A51309CA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1A7-7F59-4B69-90DC-1151B48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EEBF-CACE-433A-9C10-F77921FF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164F-AB5E-4402-8B67-DC40939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DAC-BE51-4DCA-8022-72343EC2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C32-ED39-4543-B3A1-D136332E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855F-D2B6-4367-97AE-EAF3CE9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D707-1523-4B6B-9F66-1158DFEE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BEA5-1F97-4B7F-81EB-76CFBFA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773-19F6-4D0D-8064-90C1E084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B1BE-0A61-407C-B6D6-5C6E568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9746-0AB0-4EE3-910D-5B45593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8E41-A245-4EC5-B499-07EEC273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D68-2170-4565-8865-11EA6F32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1CE5-AB8D-4EAC-83DC-B7EBCECA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074-302F-49D0-869D-4998372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B22-137C-488D-92EB-4D5A827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030-13E4-4CEA-8289-80B40EDE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695-3810-4EA7-AFE7-C43FE21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C5C-92BF-4113-A77A-D661078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39D-A294-4421-A25C-8B586B1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1A3-46A7-431F-9107-38F6D41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553-75F6-49B9-8128-32AEFADFEA1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34FA-8CA7-4ECD-8804-1968C4B27AA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Ariel Gringaus</cp:lastModifiedBy>
  <cp:lastPrinted>1999-03-18T20:56:04Z</cp:lastPrinted>
  <dcterms:modified xsi:type="dcterms:W3CDTF">2007-03-26T22:03:40Z</dcterms:modified>
  <cp:revision>13</cp:revision>
  <dc:subject/>
  <dc:title>Primera Parte: Contabilidad Financiera</dc:title>
</cp:coreProperties>
</file>