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BEA9-3E73-4D82-A429-C297D022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6C72-ABDB-442F-8CFF-C676A761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B5C4-D8F3-4630-B7BB-3CCCDED2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ED05-7DD9-4247-80C4-2B552AD1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973B-2035-4F2A-B00D-295A7ADDF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B4B1-00C0-4F3B-B7BB-ADE1ED5A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4DBF-2D43-472C-A2FD-5648017B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F3D2-463B-442F-AF0B-9563F7E1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44F7-CCDB-4180-AD68-05117D9A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C69C-FE7F-45B6-9BA6-A23E8799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B590-1736-44AD-AE8E-029D2B59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7CF7-48D3-47F1-BAC1-FAB808BE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61A5-CFC0-4888-B9A9-D87E601C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34F9-DFE1-4A04-9025-20050655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9737-454B-4E93-942C-C8ABA8DE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2906-7DC0-4FB9-940B-3428C1A6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3122-9B4A-400A-B81C-5FB509855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6A1F-1B0D-45F1-BF63-F18E5DF0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13A5-1DFD-4B9C-8DDB-E0FCF065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C117-BAEC-4EE5-B0F1-62978795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2570-EA36-4ECE-89D2-2EC96C38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3519-A090-4D61-9B9C-F0C7D893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47CA-ECF1-406A-BE6C-234F0985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5690-F3BB-4EEB-879C-141D256B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CE26-FFDD-4D97-8551-1F004BE0DF4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415B-BF5E-4C27-AE39-4D0746BC2AC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mercadería y se aumenta la cuenta 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Costo de Venta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 ¿Cuál es el costo de venta? 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3680" y="4502160"/>
            <a:ext cx="7835760" cy="2120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 de la Suma de los Dígitos de los Añ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2327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5400" y="4141800"/>
            <a:ext cx="638496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1295280"/>
            <a:ext cx="815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tiene un AF por $100.000, vida útil 5 años y Vr = 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0520" y="1766880"/>
            <a:ext cx="3171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preciación Line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57200" y="2362320"/>
          <a:ext cx="774072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77407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81960" y="1538280"/>
            <a:ext cx="676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28600" y="2362320"/>
          <a:ext cx="9023400" cy="427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62320"/>
                    <a:ext cx="9023400" cy="42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283400" y="1538280"/>
            <a:ext cx="6761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preciación Acelerada (saldos decreciente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96920" y="2438280"/>
          <a:ext cx="8870760" cy="42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2438280"/>
                    <a:ext cx="887076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5680" y="1386000"/>
            <a:ext cx="469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458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475920"/>
            <a:ext cx="8229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0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0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0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0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,4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20,4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20,4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20,4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20,4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6,6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9,6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9,6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9,6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9,6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 como : Bonos, Depósitos a Plazo, Pagarés, accione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. Financieros de corto plazo: Su objetivo es obtener rentabilidad de los excedentes de caj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. Financieros de largo plazo: Inversiones permanentes en otras socie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12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08640" y="303372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01028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2362320" y="2514600"/>
          <a:ext cx="4979880" cy="3051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514600"/>
                    <a:ext cx="4979880" cy="30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2133720" y="1905120"/>
          <a:ext cx="4903560" cy="307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905120"/>
                    <a:ext cx="4903560" cy="30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p = Tasa de Inflació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+in) = (1+ir) * (1+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n las siguientes alternativ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tienen además las siguientes expectativa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 = 1% men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Tc=0.7% mens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4080" y="1371240"/>
            <a:ext cx="8989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del depósito al quinto mes = 1.000.000*(1+in)^5 = 1.000.000*(1+0.015)^5 = 1.077.28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del depósito al quinto mes = 1.000.000*(1+in)^5 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del depósito al quinto mes = 1.000.000*(1+in)^5 = 1.000.000*[(1+ir)*(1+DTc)] ^5 = 1.000.000*[(1+0.008)*(1+0.007)] ^5 = 1.077.58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400*(1.012)^2-4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,6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9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s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71240" y="763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4376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¿Cómo se valoran contablement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or Negociable: Mín. {Costo Adquisición.; Valor de Mercado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rsión Empresas Relacionadas: Valor Patrimonial Propor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rsión en Otras Sociedades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 se cotiza en bolsa: Mín. {Costo Adquisición; Valor de Mercado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 no se cotiza en bolsa: Costo de Adquisi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61084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gistro de la compr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VPP = 2.500 x 0,2 = 5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sión en empresas relacionadas (A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or valor inversiones (A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cuenta “Menor valor inversiones” se debe amortizar en un plaz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áximo de 5 añ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cp:keywords/>
  <dc:language>en-US</dc:language>
  <cp:lastModifiedBy>Ariel Gringaus</cp:lastModifiedBy>
  <cp:lastPrinted>1999-03-18T20:54:39Z</cp:lastPrinted>
  <dcterms:modified xsi:type="dcterms:W3CDTF">2007-03-26T21:51:33Z</dcterms:modified>
  <cp:revision>33</cp:revision>
  <dc:subject/>
  <dc:title>Primera Parte: Contabilidad Financiera</dc:title>
</cp:coreProperties>
</file>