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7A93-98A9-4070-A544-936AF6A1A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9A81-09BF-44B2-A355-9D9480FC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9D58-11D1-4632-BE82-5D201AEC1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D328-38CC-468B-ABE2-F4B24455D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BA49-12CA-4F88-B0CC-FFF399277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31FA-8A87-4DBD-BFE7-CFF30B9C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44C7-4AC6-4C62-9A43-96C014BE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1986-F225-4461-AF34-C600B5C7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BE98-931D-4D6C-84E2-11525BD7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00EE-65FB-4A8E-8CF8-32A3F919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D58C-815A-4569-9D3D-54FAD3A6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76DC-5D3B-4C29-A2F7-0542B069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9A74-CB89-41A0-AB41-8B5621AC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0937-5E3A-447C-B2D5-0BFD2820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B300-2089-4332-8612-985A35D2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30D2-825E-4ED7-92DC-E7281E4A0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11CC-736B-415C-8A6C-1F5A0628E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A285-7BDA-476D-8840-37638958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CD21-C8BC-4BBD-A234-28DE94D8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DCDB-BCC7-476A-BE97-51F379DE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3186-A989-4949-8928-C125D41E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A6E1-DEF5-4DEE-BD8E-D691C9F4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D0FF-2993-4791-85FC-1EC0B305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B4C1-21FF-41B9-91ED-04DD08F0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F136-B332-4CC9-A7CF-D28B6C773F56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AFEF-7851-4A58-8CA7-ECEC6126A656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4880"/>
            <a:ext cx="8229600" cy="33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4: A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uenta complementaria del activo (CA): Cuenta que se comporta como un pasivo pero que se presenta en el balance general como un activo negativo, rebajando al activo que complem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2240" y="3962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4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(2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 (neto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upóngase que se logran recuperar $1.000 de la deuda previamente castig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743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360" y="470052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Las normas tributarias permiten rebajar como gasto los castigos, pero no las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99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Existen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IODICO : Se cierra el negocio cada cierto tiempo, se cuentan las unidades físicas y se valoriz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PETU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La cuenta existencias se mantiene permanentemente al d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75248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 de Inventar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ió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4880" y="2057400"/>
            <a:ext cx="778824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pras del Períod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adería 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ntario Final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8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tiliza una cuenta transitori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e se carga con el inventario inicial y las compras (al costo) y se abona con la ventas (a precio de ven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 detectan robos ni mermas de mercader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vender mercadería se reduce la cuenta mercadería y se aumenta la cuenta costo de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conoce el Costo de Venta cada vez que ocurre una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ere poder asociar cada venta con la mercader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ha realizado las siguientes compras de mercader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unidades a $10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8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unidades a $11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el 10.04 vende dos unidades ¿Cuál es el costo de venta? ¿$20, $22, el promedio ponderado, ...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 l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idades Específic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o Permanente que permite Identificar cuál es el Costo de Adquisición de Cada Unidad Vend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con volúmenes de venta pequeñ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activos de alto valor unit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0920" y="228600"/>
            <a:ext cx="7846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700280"/>
            <a:ext cx="861048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Promedio Ponder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valor del Inventario se calcula aplicando a cada artículo en existencias el costo de adquisición promedio ponderado, incluyendo el costo de adquisición de las existencias ini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da vez que ocurre una compra se calcula un nuevo promed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*10  +5*11)/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0,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,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,75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 Método FIFO (o P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 : La mercadería que primero entra al inventario es la que primero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más antiguo, y el inventario queda valorado al costo de adquisición más reci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+ 5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0920" y="22824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LIFO (o U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: La mercadería que ingresó al último es la primera que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de adquisición más reciente, y las existencias se valoran al costo más antigu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*11 + 3*10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7360" y="6026040"/>
            <a:ext cx="8064360" cy="8240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BUTARIAMENTE SE ACEPTA FIFO Y CP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de Valoración de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tiene un Inventario Inicial de 300 unidades a $0,95 c/u. El Inventario Final es de 330 un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2276640"/>
            <a:ext cx="397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50840" y="2743200"/>
            <a:ext cx="77122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o ($/u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Costo Total ($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5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1,1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2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16000" y="5029200"/>
            <a:ext cx="6732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4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MEN 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Fin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4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249228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465300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3645000"/>
            <a:ext cx="7417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250*1,12+80*1,1 = 36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= 300*0,95=2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= 1.0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la venta = 285 + 1.015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= 1300 - 368 = 9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300*0,95+30*1,0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venta no varía = 1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 = 1300- 315 = 9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3680" y="4502160"/>
            <a:ext cx="7835760" cy="21207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 QUE DA UN COSTO DE VENTA MAYOR 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FIF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PP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*0,95+101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1,04 $/u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300+9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IF = 330*1,04 = 343,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para la venta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de Venta = 1300 – 343,2=  956,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1880" y="2498760"/>
            <a:ext cx="3842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28954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2590920"/>
            <a:ext cx="0" cy="121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4567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0,95+200*1= 4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00*1,05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 : Costo Venta = 300*1,05+120*1,1=4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15 +200*1,1-447=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2000" y="3809880"/>
            <a:ext cx="855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OSTO VTA.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485=3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+200*1,1=5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4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35-447=8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8+250*1,12=3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4191120"/>
            <a:ext cx="8837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1,05+200*1= 5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200*1,1+220*0,95= 4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3352680"/>
            <a:ext cx="8229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COSTO VTA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515=2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85+200*1,1=5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2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5-429=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6+250*1,12=3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4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733920"/>
            <a:ext cx="853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9112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639880"/>
            <a:ext cx="8991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V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C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*0,95+200*1=485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/500 = 0,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85+300*1,05=8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/800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00-500=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+200*1,1=5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20/500 =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   420*1,04=436,8   520-436,8 = 83,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3,2+250*1,12=363,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,2/330 = 1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6.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2971800"/>
            <a:ext cx="8686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2743200"/>
            <a:ext cx="0" cy="251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2666880"/>
            <a:ext cx="0" cy="2667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2666880"/>
            <a:ext cx="0" cy="25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475920"/>
            <a:ext cx="82947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IJOS (o de Largo Plaz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Todo bien o derecho obtenido con el propósito de emplearlo en la explotación, representativo de un potencial de servicio utilizable durante un período, que en general trasciende un ejercicio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Físicos (o tangibles)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, construcciones y obras de ingeniería, maquinarias y equipo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Intangibles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entes, marcas comerciales, derechos de llave, licencias o franquicia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 3 métodos para valorar activ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al Co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nformación objetiva y verific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necesariamente coincide con valor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de Mercado (o de Reemplaz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el Valor Real del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siempre es objetivo, no es único y no todos los activos se transan en el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9246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ís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16765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ación: A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osto de adquisi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que comprende el precio del activo más los gastos conex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Conexos: Transporte, instalaciones, comisiones, gastos notarial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lgunos activos de bajo valor relativo se registran directamente como gastos (ej: repuestos, materiales de oficina, libros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7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joras y Repar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joras: Cambios Estructurales del activo (ampliación a adición de elementos). S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italiz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es decir, incrementan en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aciones y mantenimiento: Dejan al activo en condiciones normales de funcionamiento. No son  capitalizables, es decir, se consideran u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752480"/>
            <a:ext cx="914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8991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a propiedad que costó $50.000.000. Una tasación técnica indica lo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 se incurrió en los siguientes gast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orarios del abog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Transferen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notar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o Total = mm$50 + mm$0.15 = $50.150.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siento Contab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ren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.15*0.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.15*0.58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alacion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.15*0.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.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Vent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vende una máquina en $60.000, cuyo valor contable neto es el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10.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ne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6160" y="3956040"/>
            <a:ext cx="8775720" cy="2347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Fuera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Distribución del costo del activo como gasto en los períodos en que presta sus servic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es consecuencia de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terio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u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solescenci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no es un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 varios métodos de depreciación. Nosotros estudiaremos tr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elerada (suma de los dígitos de los años y saldos decrecien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 acelerada (tributar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A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 : Costo de Adquisi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r: Valor Resid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n : Vida Ut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1640" y="3632040"/>
            <a:ext cx="3937320" cy="187992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-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2362320"/>
            <a:ext cx="0" cy="281916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5181480"/>
            <a:ext cx="3048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746200" y="53182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4495680"/>
            <a:ext cx="228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43600" y="2971800"/>
            <a:ext cx="2286000" cy="1523880"/>
          </a:xfrm>
          <a:prstGeom prst="line">
            <a:avLst/>
          </a:prstGeom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46880" y="27288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17920" y="42530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85160" y="5318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29600" y="4495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99160" y="196704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 de la Suma de los Dígitos de los Añ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0280" y="1333440"/>
            <a:ext cx="7467480" cy="19051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t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n -t + 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(P - V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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08800" y="2803680"/>
            <a:ext cx="59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4600" y="380988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12960" y="4100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07560" y="585324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6040" y="2438640"/>
            <a:ext cx="426708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89280" y="341316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2327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Método de los saldos decrecien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 = Tasa anual de depreci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n = años de vida út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VR = valor resid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A = Depreciación acumul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5400" y="4141800"/>
            <a:ext cx="6384960" cy="18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(P –DA)*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saldo no depreciado - 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 Acele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ste en depreciar el activo linealmente, considerando una vida útil igual a [1/3] de la vida útil norm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un método aceptado por el S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ene como objetivo incentivar la inversión en activo fijo, a través de la postergación del impuesto a la ren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5438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: Valor del activo es función de los flujos fut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una buena estimación del precio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Se debe estimar flujos futuros, tasa de descuento y período de madurez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203480" y="1203480"/>
            <a:ext cx="61610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1295280"/>
            <a:ext cx="8153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 tiene un AF por $100.000, vida útil 5 años y Vr = 0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90520" y="1766880"/>
            <a:ext cx="3171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preciación Line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457200" y="2362320"/>
          <a:ext cx="7740720" cy="426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77407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81960" y="1538280"/>
            <a:ext cx="676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preciación Acelerada (suma de los dígito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228600" y="2362320"/>
          <a:ext cx="9023400" cy="427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362320"/>
                    <a:ext cx="9023400" cy="42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283400" y="1538280"/>
            <a:ext cx="6761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preciación Acelerada (saldos decreciente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96920" y="2438280"/>
          <a:ext cx="8870760" cy="428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920" y="2438280"/>
                    <a:ext cx="8870760" cy="42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5760" y="328680"/>
            <a:ext cx="8140680" cy="61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87480" y="2347920"/>
            <a:ext cx="210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´= [5/3] =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440" y="3238560"/>
            <a:ext cx="8913960" cy="23623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.Acumula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.F.N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35680" y="1386000"/>
            <a:ext cx="469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preciación Lineal Acelera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84582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O CON DEPRECIACION LIN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960" y="2489040"/>
            <a:ext cx="8508960" cy="248940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8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475920"/>
            <a:ext cx="8229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O CON DEPRECIACION  LINEAL ACELE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4280" y="3098880"/>
            <a:ext cx="7899480" cy="27939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0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0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0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0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,4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20,4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20,4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20,4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20,4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6,6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9,6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9,6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9,6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9,6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on activos no físicos que presentan un potencial de servic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registran contablemente sólo cuando son adquiridos de terceros (al costo de adquisició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Amortización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: Proceso a través del cual el valor de adquisición del intangible se convierte parcial y periódicamente en gas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étodo: Línea recta con VR =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ida Util: Mín {Plazo del Contrato; Plazo estimado razonable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atente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Concesión del gobierno en favor de un inventor, mediante la cual le otorga el derecho exclusivo para producir y explotar su invent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Marcas Comerciale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Privilegio obtenido para el uso exclusivo de identificaciones distintivas de un producto o servic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recho de llav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Exceso de costo de un activo o empresa por sobre el valor comercial de las partes que lo compone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Licencia o franquici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Privilegio obtenido por una firma para la comercialización de un producto bajo condiciones específica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rsión en un instrumento constitutivo de una obligación y emitido por un banco, empresa, o institución financie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 como : Bonos, Depósitos a Plazo, Pagarés, accione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. Financieros de corto plazo: Su objetivo es obtener rentabilidad de los excedentes de caj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. Financieros de largo plazo: Inversiones permanentes en otras socieda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7160" y="2727360"/>
            <a:ext cx="226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514600" y="1676520"/>
            <a:ext cx="1447920" cy="137160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14600" y="3048120"/>
            <a:ext cx="1523880" cy="152388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96440" y="1355760"/>
            <a:ext cx="4848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to Plazo (Activo Circulante)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ispon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pósitos a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alores Negociables (accion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ctos de comercio, bonos, et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51240" y="4251240"/>
            <a:ext cx="4673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rgo Plazo (Otros Activo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Empresas Relacion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Otras Socie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 Valor Pres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hoy se depositan $100 al 10%, en el Próximo período se tendrán $1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5920" y="40989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08640" y="303372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37339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324480" y="32767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3733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11880" y="4481640"/>
            <a:ext cx="212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 =  110/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5960" y="5187960"/>
            <a:ext cx="7378560" cy="12826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CTUALIZAN LOS MONTOS A UNA TA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pósito a Plaz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rsión de Fondos a un Plazo Fijo (30, 60 o 90 días). Hay una tasa de Interés Involucra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sa de Interés Simple : Se aplica sobre el Capital Inic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sa de Interés Compuesta : Se aplica sobre el Capital Inicial y sobre el Interés Deveng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01028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jemplo Interés Si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invierten $100 a una tasa del 10% anu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5560" y="5511960"/>
            <a:ext cx="9016920" cy="109188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al = N * i * 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:T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: Capital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2362320" y="2514600"/>
          <a:ext cx="4979880" cy="3051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2514600"/>
                    <a:ext cx="4979880" cy="30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jemplo Interés Compuest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560" y="5207040"/>
            <a:ext cx="9091440" cy="154944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= C * [(1+i)^n - 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período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:Interés Total Simple=100, Interés Total Compuesto=159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2133720" y="1905120"/>
          <a:ext cx="4903560" cy="307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905120"/>
                    <a:ext cx="4903560" cy="30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sas de interé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sa de Interés Nominal : Porcentaje que se paga sobre lo adeud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sa de Interés Real : Aumento del Poder Adquisitivo del que Presta el Din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p = Tasa de Inflación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+in) = (1+ir) * (1+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46040" y="1650960"/>
            <a:ext cx="4165920" cy="58428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an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 = 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mens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^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dispone de $1MM. Se hará un depósito a plazo a 5 meses y se tienen las siguientes alternativ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Monotype Sort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pósito no reajustable al 1.5% men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Monotype Sor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pósito en UF (reajustable) al 0.6% mensu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Monotype Sorts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pósito en US$ al 0.8% mensu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tienen además las siguientes expectativa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 = 1% men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Tc=0.7% mensu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Cuál alternativa convie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4080" y="1371240"/>
            <a:ext cx="8989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2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Monotype Sort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del depósito al quinto mes = 1.000.000*(1+in)^5 = 1.000.000*(1+0.015)^5 = 1.077.28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2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Monotype Sor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del depósito al quinto mes = 1.000.000*(1+in)^5 =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1.000.000*[(1+ir)*(1+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)] ^5 = 1.000.000*[(1+0.006)*(1+0.01)] ^5 = $1.082.9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2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Monotype Sorts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del depósito al quinto mes = 1.000.000*(1+in)^5 = 1.000.000*[(1+ir)*(1+DTc)] ^5 = 1.000.000*[(1+0.008)*(1+0.007)] ^5 = 1.077.58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917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Una empresa hace un depósito a plazo a 90 días por m$400 al 1.2% mensual. El cierre es a 60 días de hecho el depósit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400                      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A los 60 días 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(400*(1.012)^2-400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Ingresos Financieros (I)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400*(1.012)^2-4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,6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9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gistran bajo este concepto las inversiones en acciones, bonos, efectos de comercio, fondos mutuos y otros títulos de oferta públ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c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que otorga a su poseedor la participación en la propiedad de una sociedad anón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o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de deuda, emitido por una empresa o por el gobierno, que promete a su poseedor el pago de una cantidad cierta de dinero, en un plazo determinado. Duración may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fectos de Comer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déntico al bono, pero su duración es inferi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ndo Mu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Fondo formado por el aporte de muchas personas y cuyo destino es la inversión en acciones o instrumento de renta fi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adquiere un efecto de comercio que paga al vencimiento $1.200.000. Se adquiere faltando 4 meses para su vencimiento, en $960.000. El cierre del ejercicio ocurre 3 meses después de efectuada la oper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3840" y="3365640"/>
            <a:ext cx="8584920" cy="32511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=0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fec. de Comercio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=90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debe distinguir si el objetivo de la inversión es de corto o largo plaz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Valor Negociab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“Activo Circulante”) s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acción se cotiza en bol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monto invertido representa menos del 10% del capital de la empresa emiso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monto invertido representa menos del 5% de los activos del inversionis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general, la Contabilidad Financiera usa l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aloración al cos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rincipio Contab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unas veces se usa el valor de mercado (acciones en calidad de valores nego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otras se usa el valor presente (activos en leasing o inversiones en 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371240" y="763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versión en Empresa Relacionad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“Otros Activos”) s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monto invertido representa más del 10 % del capital de la empresa emiso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interesa si la acción tiene o no cotización bursát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versión en Otras Sociedades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“Otros Activos”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 se cotiza en bolsa, representa menos del 10% del capital de la emisora y más del 5% de los activos de la empre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bien, si no se cotiza en bolsa y representa menos del 10 % del capital de la Empresa Emiso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98440" y="1676520"/>
            <a:ext cx="8699400" cy="4376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¿Cómo se valoran contablement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or Negociable: Mín. {Costo Adquisición.; Valor de Mercado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ersión Empresas Relacionadas: Valor Patrimonial Propor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ersión en Otras Sociedades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 se cotiza en bolsa: Mín. {Costo Adquisición; Valor de Mercado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 no se cotiza en bolsa: Costo de Adquisi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jemplo de Valor Negoci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adquieren acciones de una S.A en $4.500.000. Al momento de preparar los estados financieros su valor de mercado era de $4.000.000. Posteriormente, se venden en $4.200.0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0880" y="2666880"/>
            <a:ext cx="8597880" cy="4191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comp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cierr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egresos fuera de la explotación (G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ven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ingresos fuera de la explot. (I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61084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adquiere en MM$600 el 20% de las acciones de una compañía, cuyo patrimonio contable es de MM$2.5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0880" y="2362320"/>
            <a:ext cx="8597880" cy="41907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egistro de la compr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VPP = 2.500 x 0,2 = 5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rsión en empresas relacionadas (A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nor valor inversiones (A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 cuenta “Menor valor inversiones” se debe amortizar en un plaz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áximo de 5 añ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rech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exigir de un tercero un pago, o la entrega de bienes y servicios, por un cierto monto, a una fecha fu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iene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su origen en la venta de bienes o prestación de servicios a crédito, o en la cesión de un bien del activo a un tercero bajo compromiso de pago a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el balance general normalmente se presentan rebajadas por las estimaciones (provisiones) de deudores incobrables y por los intereses no deveng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clasifican en las siguientes partid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: Provenientes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por cobrar: Provenientes de las operaciones comerciales y documentadas a través de letras, pagares u o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varios: Las que no provienen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y cuentas por cobrar a empresas relacion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a largo plazo: Vencimiento superior a un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a empresa tiene cuentas por cobrar de $50.000. Por quiebra de un cliente no será posible recaudar $6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9960" y="27432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astigo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40384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l momento de preparar los estados financieros, se estima que $2.000 podrían no recuperar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240" y="5105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ón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 (CA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2T21:47:36Z</dcterms:created>
  <dc:creator>DPTO. INFORMATICA</dc:creator>
  <dc:description/>
  <cp:keywords/>
  <dc:language>en-US</dc:language>
  <cp:lastModifiedBy>Ariel Gringaus</cp:lastModifiedBy>
  <cp:lastPrinted>1999-03-18T20:54:39Z</cp:lastPrinted>
  <dcterms:modified xsi:type="dcterms:W3CDTF">2007-03-26T21:51:33Z</dcterms:modified>
  <cp:revision>33</cp:revision>
  <dc:subject/>
  <dc:title>Primera Parte: Contabilidad Financiera</dc:title>
</cp:coreProperties>
</file>