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02F-E859-4ED8-9173-D1B905B9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E4A-E248-48A5-9BE0-000BF12D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3F5-E770-4D2D-BA29-ADC39F13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AEA-2891-48CC-8094-C6122126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351-A115-465D-911B-D8C9DBA4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FF0-44C1-478C-AB02-AE524203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33F2-2EC3-4DB7-82F7-7D4A9C9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8B70-091A-445A-A750-6797365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777-7154-44A7-A6CB-F958C29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BA80-4A86-421C-A494-4696696F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6B3B-6966-4C80-BBE7-357B3AD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C30-9E08-4277-8BA7-410E2205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ACD-72D0-457C-A539-E5A62B5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85E-D897-41B2-8C54-04B3563C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B911-7756-44A2-86A6-EB34E719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8FE-0817-4BD7-9F66-07985935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189F-8C76-420B-83A5-392C9B5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73B-B221-4936-8D80-01C00293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010-0E40-4314-A0B4-C5F0784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136-1352-48E3-B5AF-699ED78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6F3-77B5-478A-83E1-85CFCF32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5A0-683B-4E7E-9C0E-D99C4F9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FEA-D55C-4E18-8BD9-8CAFCE3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982-B0A9-4FA3-9240-81D9467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94CC-CD30-44BC-81D6-18C11357DC1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FA8-3865-4066-88B0-8BEADB550D7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371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04480" y="3448080"/>
            <a:ext cx="7581960" cy="23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: Es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gistro Cronológic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s transacciones efectuadas por una organización. Se especifica el carácter y circunstancia de cada una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registro de una transacción en el Libro Diario recibe el nombre de ASIENT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42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quema de un Libro Diar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-12600" y="3052800"/>
          <a:ext cx="9250200" cy="37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3052800"/>
                    <a:ext cx="9250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360" y="1889280"/>
            <a:ext cx="791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ado de todas las cuentas del mayor con los débito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éditos del período y sus respectivos saldos deu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3664080"/>
            <a:ext cx="8902800" cy="977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de las transacciones en el Libro Di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Traspaso al 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Asientos de ajuste y cierre de cuentas (hoja de trabaj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Preparación de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STEMA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s Cont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bre de la Cuen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debe se llama: Adeudar, Cargar o Deb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Haber se llama: Abonar o Acred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ándonos en la igualdad del inventario existir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Ac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Pasivo y P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Gast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819520"/>
            <a:ext cx="281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8195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59092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5909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8006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4800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800600"/>
            <a:ext cx="312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960" y="1676520"/>
            <a:ext cx="777096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responde al conjunto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tilizadas en un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resa. Como mínimo son las del Balance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66880"/>
            <a:ext cx="73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DI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.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Cor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 St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670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124080"/>
            <a:ext cx="0" cy="373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libro que agrupa todas las cuentas que utiliza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 registro corresponde al saldo del ejercicio anterior, salvo en las cuentas de resultado, cuyo saldo inicial es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5600" y="3314880"/>
          <a:ext cx="8367480" cy="281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314880"/>
                    <a:ext cx="836748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133440" y="242100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: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19:21:30Z</dcterms:created>
  <dc:creator/>
  <dc:description/>
  <cp:keywords/>
  <dc:language>en-US</dc:language>
  <cp:lastModifiedBy>Ariel Gringaus</cp:lastModifiedBy>
  <cp:lastPrinted>1997-04-02T16:56:46Z</cp:lastPrinted>
  <dcterms:modified xsi:type="dcterms:W3CDTF">2007-03-20T01:24:46Z</dcterms:modified>
  <cp:revision>16</cp:revision>
  <dc:subject/>
  <dc:title>Primera Parte: Contabilidad Financiera</dc:title>
</cp:coreProperties>
</file>