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67A-E6F3-4207-83DB-5AE894B1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E0E-863F-477A-ACC8-270F02B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CE0-15F5-4CBD-995C-520A96C2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4EE-03A0-4221-AB2F-72C3C242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C5CA-D981-4D56-B223-6D610BB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3B73-7061-4F17-BC66-BD2F32F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7375-FC44-4633-8A3C-AC907379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76C8-DF13-4D9F-8A00-3613D7B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5357-B257-4F98-AE24-733B7BA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BA64-4042-47E9-B357-1AD22F9D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8BA6-1405-4A4F-A0C0-8D0B4D2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529-6D98-4BFD-9F3E-8368251E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9057-DE36-40C7-8083-18F4933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4732-6836-4E1E-96A0-9D33917D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4170-C02A-414A-97BE-E9904B6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4F73-0F0C-4358-A1F2-A9F6D447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978-C57E-4485-B15D-F8C316D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114-646F-41F2-BDDA-8B224FFD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E4E-8164-4CEE-B24C-1486FF9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9AD-D2D7-4DD5-B868-A55FE83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FF2-3D06-4CCE-A55F-D5583165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85F-A1C5-4D46-9517-6C9F0997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43A-790A-4140-9018-26E9E31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3B3-AD4B-4F2C-A4E2-8B724EA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53E2-7FCF-4FCF-AEA8-A8ED26BDE26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6955-9049-4F92-BB37-14420173DD3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371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04480" y="3448080"/>
            <a:ext cx="7581960" cy="23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DIARIO : Es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gistro Cronológic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s transacciones efectuadas por una organización. Se especifica el carácter y circunstancia de cada una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registro de una transacción en el Libro Diario recibe el nombre de ASIENT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42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quema de un Libro Diari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-12600" y="3052800"/>
          <a:ext cx="9250200" cy="37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3052800"/>
                    <a:ext cx="9250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ance de Comprob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360" y="1889280"/>
            <a:ext cx="791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ado de todas las cuentas del mayor con los débito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éditos del período y sus respectivos saldos deu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acr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760" y="3664080"/>
            <a:ext cx="8902800" cy="977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CLO CON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de las transacciones en el Libro Di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Traspaso al Libro Ma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Balance de Comprob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Asientos de ajuste y cierre de cuentas (hoja de trabaj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Preparación de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STEMA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s Cont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de Cu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de Comprob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clo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bre de la Cuen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895480"/>
          <a:ext cx="4038480" cy="1117800"/>
        </p:xfrm>
        <a:graphic>
          <a:graphicData uri="http://schemas.openxmlformats.org/drawingml/2006/table">
            <a:tbl>
              <a:tblPr/>
              <a:tblGrid>
                <a:gridCol w="895320"/>
                <a:gridCol w="1436760"/>
                <a:gridCol w="588960"/>
                <a:gridCol w="111744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2895480"/>
          <a:ext cx="4038480" cy="1117800"/>
        </p:xfrm>
        <a:graphic>
          <a:graphicData uri="http://schemas.openxmlformats.org/drawingml/2006/table">
            <a:tbl>
              <a:tblPr/>
              <a:tblGrid>
                <a:gridCol w="895320"/>
                <a:gridCol w="1436760"/>
                <a:gridCol w="588960"/>
                <a:gridCol w="111744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ar una cantidad al debe se llama: Adeudar, Cargar o Deb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ar una cantidad al Haber se llama: Abonar o Acred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ándonos en la igualdad del inventario existirá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 de Ac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 de Pasivo y P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de Gast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de 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819520"/>
            <a:ext cx="2819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8195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59092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5909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80060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4800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800600"/>
            <a:ext cx="312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4960" y="1676520"/>
            <a:ext cx="777096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responde al conjunto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utilizadas en un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presa. Como mínimo son las del Balance Ge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66880"/>
            <a:ext cx="73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DI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.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Cor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ta. Cte. Bco.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ta. Cte. Bco. St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. Producto A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. Producto A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429000"/>
            <a:ext cx="670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124080"/>
            <a:ext cx="0" cy="373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libro que agrupa todas las cuentas que utiliza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 registro corresponde al saldo del ejercicio anterior, salvo en las cuentas de resultado, cuyo saldo inicial es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25600" y="3314880"/>
          <a:ext cx="8367480" cy="281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314880"/>
                    <a:ext cx="836748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133440" y="242100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: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19:21:30Z</dcterms:created>
  <dc:creator/>
  <dc:description/>
  <cp:keywords/>
  <dc:language>en-US</dc:language>
  <cp:lastModifiedBy>Ariel Gringaus</cp:lastModifiedBy>
  <cp:lastPrinted>1997-04-02T16:56:46Z</cp:lastPrinted>
  <dcterms:modified xsi:type="dcterms:W3CDTF">2007-03-20T01:24:46Z</dcterms:modified>
  <cp:revision>16</cp:revision>
  <dc:subject/>
  <dc:title>Primera Parte: Contabilidad Financiera</dc:title>
</cp:coreProperties>
</file>