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6B2-9116-4FE1-B6D9-3202A954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DF2D-579E-480B-9AB9-5B59D596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3B4-126F-4ABC-A98C-101639AF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E40-5A37-433D-AAC3-2AEED186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BF45-68DE-4A09-9899-558D06DD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C6EF-6259-408C-9B55-B3DBB498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8D7B-4F12-47E1-87B6-A4E5C110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680B-0238-4334-BB4D-0ACF7C4C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9860-6DAB-4EB7-9430-DA2BD251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AC0C-A077-4D5B-8E6F-AB3EEACC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211F-B2F7-445B-85C9-7307E1E1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6DD-9180-4743-8B8C-37EB1144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4EEA-627D-4C8F-947D-337B7B6D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970E-19D9-479D-9BF2-98E844F2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6441-584A-4959-A487-9BB63856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65C8-FB81-4B17-AD98-D18443CB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0C64-73DF-445B-BDF9-1E65061B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611-39BE-4F0D-A51B-5BD7AC94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C43-CC62-40B7-82B7-9FF94693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7F7D-34D8-4492-8954-DDB6B3F1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D0C-8D08-47A8-8F1D-ACD1F1C2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FA0-D378-4AA7-9450-E36718A4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2D2-40BF-4213-8648-33604C1C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665-3B1A-4647-BD14-36F596AC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474F-5E20-4892-A89A-5EBB7440D29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4789-E38B-4826-92D2-808026FDD8A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37160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04480" y="3448080"/>
            <a:ext cx="7581960" cy="23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3: Sistema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34272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bro Diario y Asientos Cont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BRO DIARIO : Es u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gistro Cronológic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as transacciones efectuadas por una organización. Se especifica el carácter y circunstancia de cada una de el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registro de una transacción en el Libro Diario recibe el nombre de ASIENT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342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bro Diario y Asientos Cont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quema de un Libro Diari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-12600" y="3052800"/>
          <a:ext cx="9250200" cy="372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3052800"/>
                    <a:ext cx="92502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lance de Comprob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360" y="1889280"/>
            <a:ext cx="7910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ado de todas las cuentas del mayor con los débitos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éditos del período y sus respectivos saldos deudo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acre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8760" y="3664080"/>
            <a:ext cx="8902800" cy="977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IFICA QUE EL PASO DEL LIBRO DIARIO AL MAY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 CORR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ICLO CON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de las transacciones en el Libro Di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Traspaso al Libro May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Balance de Comprob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 Asientos de ajuste y cierre de cuentas (hoja de trabaj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 Preparación de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STEMAS CONT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s Cont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Cu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 de Cu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bro May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bro Diario y Asientos Con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de Comprob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clo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Cue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mpresas pueden tener cientos o miles de transacciones diarias, por lo cual no es posible registrar las transacciones directamente en el balance, como lo hemos hecho hasta ah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“Cuenta” es un registro asociado a un ítem o rubro del balance, en el cual se registran todas las variaciones que afectan a dicho rub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19047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mbre de la Cuent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28954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895480"/>
            <a:ext cx="800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9480" y="2895480"/>
          <a:ext cx="4038480" cy="1117800"/>
        </p:xfrm>
        <a:graphic>
          <a:graphicData uri="http://schemas.openxmlformats.org/drawingml/2006/table">
            <a:tbl>
              <a:tblPr/>
              <a:tblGrid>
                <a:gridCol w="895320"/>
                <a:gridCol w="1436760"/>
                <a:gridCol w="588960"/>
                <a:gridCol w="111744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648320" y="2895480"/>
          <a:ext cx="4038480" cy="1117800"/>
        </p:xfrm>
        <a:graphic>
          <a:graphicData uri="http://schemas.openxmlformats.org/drawingml/2006/table">
            <a:tbl>
              <a:tblPr/>
              <a:tblGrid>
                <a:gridCol w="895320"/>
                <a:gridCol w="1436760"/>
                <a:gridCol w="588960"/>
                <a:gridCol w="111744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s Cue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ar una cantidad al debe se llama: Adeudar, Cargar o Debi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ar una cantidad al Haber se llama: Abonar o Acredi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ándonos en la igualdad del inventario existirá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de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de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de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de Resul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s Cue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enta de Activ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enta de Pasivo y P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+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-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-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(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entas de Gast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entas de Ingr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+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-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-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(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2819520"/>
            <a:ext cx="2819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281952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2590920"/>
            <a:ext cx="3200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25909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4800600"/>
            <a:ext cx="266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4800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4800600"/>
            <a:ext cx="312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816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 de Cue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4960" y="1676520"/>
            <a:ext cx="7770960" cy="41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rresponde al conjunto d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utilizadas en un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mpresa. Como mínimo son las del Balance Gene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666880"/>
            <a:ext cx="7315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DIG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ct.Circul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1.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1.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entas Corr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1.2.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ta. Cte. Bco.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1.2.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ta. Cte. Bco. St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2.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xist. Producto AA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2.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xist. Producto A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3429000"/>
            <a:ext cx="6705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3124080"/>
            <a:ext cx="0" cy="3733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bro May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libro que agrupa todas las cuentas que utiliza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primer registro corresponde al saldo del ejercicio anterior, salvo en las cuentas de resultado, cuyo saldo inicial es c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bro may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25600" y="3314880"/>
          <a:ext cx="8367480" cy="281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3314880"/>
                    <a:ext cx="8367480" cy="28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133440" y="2421000"/>
            <a:ext cx="275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: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6T19:21:30Z</dcterms:created>
  <dc:creator/>
  <dc:description/>
  <cp:keywords/>
  <dc:language>en-US</dc:language>
  <cp:lastModifiedBy>Ariel Gringaus</cp:lastModifiedBy>
  <cp:lastPrinted>1997-04-02T16:56:46Z</cp:lastPrinted>
  <dcterms:modified xsi:type="dcterms:W3CDTF">2007-03-20T01:24:46Z</dcterms:modified>
  <cp:revision>16</cp:revision>
  <dc:subject/>
  <dc:title>Primera Parte: Contabilidad Financiera</dc:title>
</cp:coreProperties>
</file>