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176-7902-4EA8-8140-C4025456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EDF-F74E-4E2A-B31D-4303EB1D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4FA-066E-458E-A20B-41253917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57D-86E5-4014-9EC9-D3D64180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163E-0B7A-4CC3-8EAA-B9FCF5DE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5ACE-F22F-483C-BBDB-F20DCDBF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41D4-C6CC-4F9D-AECD-505CAC8E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1508-A8F4-4C20-B50B-84D06F7D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BA75-E826-4090-BB01-41B0231E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4AFA-6C7D-4C32-82F9-52EB39ED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A62C-4D06-4382-A80E-63B8E0C6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DF98-5B2B-4DDA-8747-373A506C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A233-9EF0-463D-937F-C025F64A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6CE8-3F5E-4CD5-9FFA-DEE8B9FE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5993-F54D-41E8-ABAE-383DE933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B23E-B7AE-49C2-A6A4-DF9F8E02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9271-54FB-4ED8-94FB-4D5A723BC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938-48AA-4290-BDBE-5EDA8ECC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2FC-ED40-49BE-B0AA-CCEEDF21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D3C-0B5B-41DC-AB98-D7B89FB1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ED4-3403-4E6A-9012-1814D1F3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7B2-1F61-492E-95A1-3BFB84E0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F41-95A9-48F7-9276-8EF394B7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260-EC10-4C6B-8363-FBBEBB02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CDFD-4C7D-427A-B4C5-7817C26EA36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C0FD-C53E-49F4-94C3-41DB748AB44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 de carácter estático, muestra 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ó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cp:keywords/>
  <dc:language>en-US</dc:language>
  <cp:lastModifiedBy>Ariel Gringaus</cp:lastModifiedBy>
  <cp:lastPrinted>1999-03-18T20:43:15Z</cp:lastPrinted>
  <dcterms:modified xsi:type="dcterms:W3CDTF">2007-03-13T01:51:23Z</dcterms:modified>
  <cp:revision>29</cp:revision>
  <dc:subject/>
  <dc:title>TRANSACCION</dc:title>
</cp:coreProperties>
</file>