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A07-EDE8-4172-8816-1D431A94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692-0BC7-4197-A5AE-FC610CD7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BE0-35FA-4BC9-AB28-1E29BF9E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61E-EB4C-420D-BF5F-781D9A88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4B4A-1814-4C0A-871E-309CBAC9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A71E-375D-4B90-BC1A-683629A5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C768-833E-46F9-A909-4C9BFDA8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3364-FC42-4E70-81E3-B9EC02E0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47D0-EE38-45C7-92C3-15740E48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89BD-E39A-429A-BF6E-373C1E58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F160-8108-4772-8EB9-54DE75BB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7BE-5D7F-4F04-98EA-5E384D9B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C7BE-69E3-484B-94AD-B28EDC5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5111-5C1F-4047-A9D0-B87EEF8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3032-55C0-4A67-9757-594DCB51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2DE5-B432-4F29-B9AF-29E870B0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CC12-560A-4ABB-A745-6C542794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268-EC7D-44BE-AB32-3A3F854C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747-79F8-4A6D-A72D-27D2D847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C70-C37C-4C5D-BA37-FADBCAB4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87A-A86A-4B10-AAAB-886BF389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6A4-3D51-4FB3-804C-5BADD7F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FA9-7EFF-42DB-829C-108FE41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3C4-D5E4-4EAD-BE11-10281CD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4A2E-3639-4762-B843-99A53593440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47B8-D55C-4689-BFFC-A20868B6600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de carácter estático, muestra 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cp:keywords/>
  <dc:language>en-US</dc:language>
  <cp:lastModifiedBy>Ariel Gringaus</cp:lastModifiedBy>
  <cp:lastPrinted>1999-03-18T20:43:15Z</cp:lastPrinted>
  <dcterms:modified xsi:type="dcterms:W3CDTF">2007-03-13T01:51:23Z</dcterms:modified>
  <cp:revision>29</cp:revision>
  <dc:subject/>
  <dc:title>TRANSACCION</dc:title>
</cp:coreProperties>
</file>