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235-7898-4141-A07E-E3D8104A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ABF-02B4-41B9-BA0B-C193855C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6BE-EB6C-4B3D-BB74-294126D1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6F0-CD1B-4F8D-8F09-77FE5FE8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1D1C-73D5-44FA-A115-694C9598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E48B-01EB-4A59-857D-58A2B1A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A5A-9273-47C5-8D92-C87E83D4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B71C-F015-4919-8D54-5F12A8B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5961-5EFF-4F88-B345-0BB1035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B02-C340-46CF-A117-237EC37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748-0EC9-436F-BBB0-D48CE87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5DE-5A92-465C-84A0-C19F45A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5AA3-B0AA-4A73-BDBA-B620393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2B14-D28E-4790-A42B-5FD8835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1A83-1096-40A3-9129-CB410BE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E487-7B3A-435E-8BA6-8257A489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E204-C11E-44E2-819E-28E9BC80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E34-AFC1-489E-8851-83AF48A1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6E9-F413-4127-94D4-F32A101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F5B-3C70-4FBC-9E48-63139214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6C2-D422-43F4-AD29-AEC484F2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78A-DEAF-4FA9-AFC4-D078313E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EE2-C80A-469A-B499-6D7A0C2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1EC-D012-44BD-B263-A4BDA07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AB90-7062-4B8A-A79B-0DED65F9509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A236-17AA-4B4D-BF4B-1BD1C587AB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352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1: Principi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a la Igualdad del Inventario o Ecuación Fundamental de la Contabil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3760" y="4424400"/>
            <a:ext cx="7311240" cy="6411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CTIVO = PASIVO + PATRIMON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Bienes y Derechos de Propie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o Destino de los Recu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Obligaciones de la Empresa con Terc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nte u Origen de los recursos que provienen de Terc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rencia entre el Activo y el Pasivo o los Derechos de los Propietarios sobr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en o Fuente de Recursos Provenientes de los Propietari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13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35920" y="739800"/>
            <a:ext cx="6143760" cy="1189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= CAPITAL +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= INGRESOS - 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2346480"/>
            <a:ext cx="8163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&gt;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&lt;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PERD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565360"/>
            <a:ext cx="1219320" cy="0"/>
          </a:xfrm>
          <a:prstGeom prst="line">
            <a:avLst/>
          </a:prstGeom>
          <a:ln w="507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3284640"/>
            <a:ext cx="1219320" cy="0"/>
          </a:xfrm>
          <a:prstGeom prst="line">
            <a:avLst/>
          </a:prstGeom>
          <a:ln w="507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3794040"/>
            <a:ext cx="8451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: Valor de los servicios prestados o mercaderías vendidas. Son aumentos de Patrim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86d1ec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: Valor de los recursos empleados (bienes, servicios o derechos) durante un período, con el 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r los ingresos del mismo perío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disminuciones de Patrimon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ciones de 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rte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Provenientes de las Operaciones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MINUCIONE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rdidas Provenientes de las Operaciones del Negoc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uación generalizada del inv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2438280"/>
            <a:ext cx="8297640" cy="1063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 PASIV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+ INGRES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- GAST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300640"/>
            <a:ext cx="8467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simplicidad, se ha omitido la posibilidad de distribu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, lo que también constituye una disminución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3645000"/>
            <a:ext cx="8458200" cy="10652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+ INGRES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AST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 acontecimiento que afecta la posición económica y financiera de la empresa y que puede ser medido objetivamente en unidades mone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06292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r. Antonio Martínez se instala con un  pequeño negocio que comercializará abarro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aporte de capital es de $500.000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8760" y="3809880"/>
            <a:ext cx="8977320" cy="11304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3360" y="5624640"/>
            <a:ext cx="6925680" cy="8240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 =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=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 : Preparar los estados financieros para terceros, que dan cuenta de la situación económico-financiera de un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e una cuenta corriente en el banco de Chile con un depósito inicial de $4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6840" y="3282840"/>
            <a:ext cx="7080480" cy="22035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 mercadería con un cheque por valor de $3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352680"/>
            <a:ext cx="7925040" cy="23558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 muebles para el uso del negocio, a crédito, por $60.000. Se deprecian en dos años (2500 $/m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429000"/>
            <a:ext cx="8223120" cy="28828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        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aga arriendo en efectivo por $1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960" y="2597040"/>
            <a:ext cx="8147160" cy="37972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72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bonan 40.000 a las cuentas por pagar (cheq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8760" y="3054240"/>
            <a:ext cx="8750160" cy="3721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62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05920" cy="150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mercadería por valor de $150.000, a crédito. El costo de la mercadería vendida es de $1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2901960"/>
            <a:ext cx="8977320" cy="37958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 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2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AS. POR COBRAR  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ogra asociar el registro del Ingreso con el momento en que se proveen EFECTIVAMENTE los bienes o servicios, y el Gasto con el momento en que EFECTIVAMENTE se consumen los recur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2560" y="3500280"/>
            <a:ext cx="345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ES DECIR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69608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242244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ingresos se reconocen a medida que estos son ganados y los gastos mientras se incurra en ellos, independiente del momento en que se produzcan los flujos de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re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¿ Cuando el ingreso se considera gan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 un compromiso comercial que define precios, cantidades y forma de pago del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bienes han sido entregados o los servicios pres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caudación respectiva está razonablemente asegu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reglas, procedimientos y convenciones adoptadas por la contabilidad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l consenso respecto a los recursos y obligaciones que deben ser registrados, los cambios que los afectan, la forma como deben ser medidos, la información que debe darse a conocer y los estados que se deben prepar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Re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siempre las cuentas por cobrar se recuperan, lo que se reconoce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TIGO: Cuando existe certeza de irrecuper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VISION: (Por Deudores Incobrables) Cuando existe la probabilidad de irrecuperabil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773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CORRESPOND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uede relacionar con los ingresos del período (costo de venta, comisiones por vent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vincula con las actividades del período aunque no se pueda asociar a un ingreso específico (consumos básicos, remuneración administrativ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no puede vincularse objetivamente con ingresos futuros (capacitación, publicida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844640"/>
            <a:ext cx="2209680" cy="0"/>
          </a:xfrm>
          <a:prstGeom prst="line">
            <a:avLst/>
          </a:prstGeom>
          <a:ln w="10152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74600" y="2147760"/>
            <a:ext cx="637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¿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uando un desembolso es gast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conservador o prud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existen dos o más formas de registrar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o acontecimiento se debe optar por el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dente, es decir, el que signifique un MENOR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 activo o patrimo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de uniformidad o consis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lige un método para registrar determinados acontecimientos, se debe aplicar el MISMO METODO en todo acontecimiento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de expo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tados financieros deben contener toda la información y discriminación básica y adicional que sea necesaria para una adecuada interpretación de la situación financiera y de los resultados económicos del ente al que se refi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2280" y="5492880"/>
            <a:ext cx="7530840" cy="9014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E DEBE OCULTAR 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os Básicos que Debe Cumplir la Información Con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INENCIA: No se debe omitir  información que sea útil o que pueda alterar  significativamente la situación de la 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IDAD: La información debe ser confiable y su exactitud susceptible de verif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IBILIDAD: Todo cambio en la forma de operar debe significar beneficios, en el peor de los casos iguales a los costos adicionales de reunir e interpretar la correspondiente informació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00100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MONEDA COMÚN DENOMIN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tabilidad registra solo los acontecimientos que pueden medirse monetari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mite sumar bienes y recursos de distinta  naturale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se pueden registrar hechos que afectan a la empresa y no son medibles monetariam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ienes con igual valor monetario pueden tener distinto valor económico por asociarse a tiempos distin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3336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ÍODO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procesa información para preparar informes referidos a un período determinado, que normalmente es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LA 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se prepara para una persona natural o jurídica DISTINTA del o los d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6280" y="4321080"/>
            <a:ext cx="8469360" cy="8240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LA CONTABILIDAD SE LLEVA A NOMBRE D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MPRESA Y NO DE LOS SOCIOS O PROPIE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EMPRESA EN MAR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supone que la empresa seguirá operando en forma indefinida, por lo que las cifras presentadas no reflejan necesariamente los valores de re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4854600"/>
            <a:ext cx="8276040" cy="8240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IEMPRE QUE NO EXISTAN PRUEBAS DE LO CONTR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E SUPONDRA LA INDEFINIDA MARCHA DE LA EMPRES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VALORACIO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recursos o activos económicos de una empresa se valoran al Costo Histórico, o valor de adquisició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embargo, el valor contable de un bien físico no se mantiene inalterable, puesto se reconoce un desgaste mediante la depreci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797360"/>
            <a:ext cx="8424720" cy="1189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L VALOR CONTABLE NO NECESARIAMENTE COINCIDE CON EL VALOR DE MERCADO DE UN DETERMINAD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COS VILCHES</dc:creator>
  <dc:description/>
  <dc:language>en-US</dc:language>
  <cp:lastModifiedBy>IVAN ALVAREZ VALDES</cp:lastModifiedBy>
  <cp:lastPrinted>1999-03-18T20:46:15Z</cp:lastPrinted>
  <dcterms:modified xsi:type="dcterms:W3CDTF">2006-03-13T02:29:00Z</dcterms:modified>
  <cp:revision>18</cp:revision>
  <dc:subject/>
  <dc:title>Vender una idea o un producto</dc:title>
</cp:coreProperties>
</file>