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3995-F86E-4344-8383-064083B7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3469-B5DD-496F-B47D-496C7EE71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B6E9-B46C-4A16-B073-D6D752BE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4D979-B493-4BD0-91E4-578242D395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3F021-DA76-49F5-99FA-260C619B1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D539D-E16D-4A84-B094-CE74281AC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EA3B7-F611-4E18-BFD1-42CD73F09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0FC68-A4E2-467F-BFCC-E7C4F23A45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6946-9560-4347-B833-1C9EE9EDB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B5FF4-03A2-4172-A0F7-E1305835E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3D470-17F6-4397-85BF-0D5FC224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C913-173E-45F1-82DB-D0B4E31D8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84C5A-D015-421B-9B64-A031B7C0C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C7DA5-BDC2-492F-AA38-70829A01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040F7-9574-4950-A91D-039FDF932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B186B-8D1C-4FBE-B59D-2AC2E214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BD67A-A0E0-46D7-B76C-CE1F28BBA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D8D4C-6E72-4F67-9FD9-777D283A2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1F1E-31A6-45E6-B605-75649E48B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348AC-0E03-40D1-A24B-5C18212FB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5B29F-9C94-4958-8A72-8726676B0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DEFD5-A5B1-440E-9062-C7B3A6E39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EAF5-1844-41F4-A068-86A469465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AF22-FA91-4785-B97B-1D71E8205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2B5F-E4FC-4B80-8E9A-990A062C7CA6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DA247-9411-4DB0-837A-A94E1898AB6E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3520"/>
            <a:ext cx="8229600" cy="1420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1: Principios Contabl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IO DE DUA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lantea la Igualdad del Inventario o Ecuación Fundamental de la Contabilidad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833760" y="4424400"/>
            <a:ext cx="7311240" cy="64116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Book Antiqua"/>
              </a:rPr>
              <a:t>ACTIVO = PASIVO + PATRIMONI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 DE DU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junto de Bienes y Derechos de Propiedad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o o Destino de los Recurs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junto de Obligaciones de la Empresa con Terc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uente u Origen de los recursos que provienen de Terc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 DE DUALID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erencia entre el Activo y el Pasivo o los Derechos de los Propietarios sobr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igen o Fuente de Recursos Provenientes de los Propietarios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835280" y="2349360"/>
            <a:ext cx="504180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813600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735920" y="739800"/>
            <a:ext cx="6143760" cy="118980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 = CAPITAL + RESULTA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= INGRESOS - 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1360" y="2346480"/>
            <a:ext cx="816300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&gt; 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UTIL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&lt; 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PERDI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95640" y="2565360"/>
            <a:ext cx="1219320" cy="0"/>
          </a:xfrm>
          <a:prstGeom prst="line">
            <a:avLst/>
          </a:prstGeom>
          <a:ln w="5076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95640" y="3284640"/>
            <a:ext cx="1219320" cy="0"/>
          </a:xfrm>
          <a:prstGeom prst="line">
            <a:avLst/>
          </a:prstGeom>
          <a:ln w="5076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41360" y="3794040"/>
            <a:ext cx="845172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Font typeface="Book Antiqua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: Valor de los servicios prestados o mercaderías vendidas. Son aumentos de Patrimon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>
              <a:lnSpc>
                <a:spcPct val="100000"/>
              </a:lnSpc>
              <a:buClr>
                <a:srgbClr val="86d1ec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86d1ec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: Valor de los recursos empleados (bienes, servicios o derechos) durante un período, con el objeto 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r los ingresos del mismo períod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disminuciones de Patrimoni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dissolv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Variaciones de 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MENTOS DE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porte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Provenientes de las Operaciones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MINUCIONES DE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tiros de Capit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érdidas Provenientes de las Operaciones del Negoci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777096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cuación generalizada del inventar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41440" y="2438280"/>
            <a:ext cx="8297640" cy="106380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ACTIVO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=  PASIVO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+ PATRIMONI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t-1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                   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+ INGRESO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t-1,t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- GASTO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t-1,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8360" y="5300640"/>
            <a:ext cx="84675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r simplicidad, se ha omitido la posibilidad de distribuir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, lo que también constituye una disminución d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8360" y="3645000"/>
            <a:ext cx="8458200" cy="106524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TRIMONI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t</a:t>
            </a:r>
            <a:r>
              <a:rPr b="0" lang="es-CL" sz="2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PATRIMONIO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t-1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+ INGRESO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t-1,t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 - 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ffffff"/>
                </a:solidFill>
                <a:latin typeface="Arial"/>
              </a:rPr>
              <a:t>GASTOS</a:t>
            </a:r>
            <a:r>
              <a:rPr b="0" lang="es-ES_tradnl" sz="2800" spc="-1" strike="noStrike" baseline="-25000">
                <a:solidFill>
                  <a:srgbClr val="ffffff"/>
                </a:solidFill>
                <a:latin typeface="Arial"/>
              </a:rPr>
              <a:t>t-1,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ac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755640" y="1773000"/>
            <a:ext cx="7772400" cy="2274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odo acontecimiento que afecta la posición económica y financiera de la empresa y que puede ser medido objetivamente en unidades monetar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94920" y="1676160"/>
            <a:ext cx="8062920" cy="160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Sr. Antonio Martínez se instala con un  pequeño negocio que comercializará abarrot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 aporte de capital es de $500.000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158760" y="3809880"/>
            <a:ext cx="8977320" cy="113040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P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AT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053360" y="5624640"/>
            <a:ext cx="6925680" cy="824040"/>
          </a:xfrm>
          <a:prstGeom prst="rect">
            <a:avLst/>
          </a:prstGeom>
          <a:noFill/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RIMONIO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NERO = 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= 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70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O : Preparar los estados financieros para terceros, que dan cuenta de la situación económico-financiera de un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re una cuenta corriente en el banco de Chile con un depósito inicial de $4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996840" y="3282840"/>
            <a:ext cx="7080480" cy="220356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RIMONIO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N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O.CH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4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1174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 mercadería con un cheque por valor de $3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38080" y="3352680"/>
            <a:ext cx="7925040" cy="235584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RIMONIO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N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O.CH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IA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3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160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ra muebles para el uso del negocio, a crédito, por $60.000. Se deprecian en dos años (2500 $/me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2120" y="3429000"/>
            <a:ext cx="8223120" cy="288288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N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O.CH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 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RIMONIO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IA        3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92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paga arriendo en efectivo por $1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15960" y="2597040"/>
            <a:ext cx="8147160" cy="379728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N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O.CH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RIMONIO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10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20728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abonan 40.000 a las cuentas por pagar (chequ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8760" y="3054240"/>
            <a:ext cx="8750160" cy="372132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N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O.CH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RIMONIO INICI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06292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39640" y="1125000"/>
            <a:ext cx="8305920" cy="1506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vende mercadería por valor de $150.000, a crédito. El costo de la mercadería vendida es de $10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8760" y="2901960"/>
            <a:ext cx="8977320" cy="379584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NER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2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CO. CH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TRIMONIO INICI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RCADERI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25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TAS. POR COBRAR       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OR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5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V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1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___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7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67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io de Deveng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determinación del resultado y posición financiera de la empresa debe considerar todos los recursos y obligaciones del período, aunque estos hayan sido o no percibidos o pagados, con el objeto de que los costos y gastos puedan ser debidamente relacionados con los respectivos ingresos que generan.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68000" y="475920"/>
            <a:ext cx="7770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 de Deveng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11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logra asociar el registro del Ingreso con el momento en que se proveen EFECTIVAMENTE los bienes o servicios, y el Gasto con el momento en que EFECTIVAMENTE se consumen los recurs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222560" y="3500280"/>
            <a:ext cx="34524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ff"/>
                </a:solidFill>
                <a:latin typeface="Book Antiqua"/>
              </a:rPr>
              <a:t>ES DECIR.......................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68360" y="404640"/>
            <a:ext cx="769608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 de Devengad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68360" y="2422440"/>
            <a:ext cx="8207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ingresos se reconocen a medida que estos son ganados y los gastos mientras se incurra en ellos, independiente del momento en que se produzcan los flujos de din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76280" indent="-4762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io de realizació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¿ Cuando el ingreso se considera ganado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11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 un compromiso comercial que define precios, cantidades y forma de pago del bi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11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bienes han sido entregados o los servicios pres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76280" indent="-4762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11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recaudación respectiva está razonablemente asegurad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00000" y="1700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junto de reglas, procedimientos y convenciones adoptadas por la contabilidad financie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n el consenso respecto a los recursos y obligaciones que deben ser registrados, los cambios que los afectan, la forma como deben ser medidos, la información que debe darse a conocer y los estados que se deben preparar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 de Realiz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68000" y="1916280"/>
            <a:ext cx="82040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 siempre las cuentas por cobrar se recuperan, lo que se reconoce por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TIGO: Cuando existe certeza de irrecuperabilidad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ROVISION: (Por Deudores Incobrables) Cuando existe la probabilidad de irrecuperabilidad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371240" y="-360"/>
            <a:ext cx="7086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837720" y="1197000"/>
            <a:ext cx="8077320" cy="5508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IO DE CORRESPONDENC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uede relacionar con los ingresos del período (costo de venta, comisiones por vent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vincula con las actividades del período aunque no se pueda asociar a un ingreso específico (consumos básicos, remuneración administrativa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135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no puede vincularse objetivamente con ingresos futuros (capacitación, publicidad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059280" y="1844640"/>
            <a:ext cx="2209680" cy="0"/>
          </a:xfrm>
          <a:prstGeom prst="line">
            <a:avLst/>
          </a:prstGeom>
          <a:ln w="101520">
            <a:solidFill>
              <a:srgbClr val="3366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074600" y="2147760"/>
            <a:ext cx="6372360" cy="5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ff"/>
                </a:solidFill>
                <a:latin typeface="Times New Roman"/>
              </a:rPr>
              <a:t>¿ </a:t>
            </a:r>
            <a:r>
              <a:rPr b="1" lang="en-US" sz="2800" spc="-1" strike="noStrike">
                <a:solidFill>
                  <a:srgbClr val="3366ff"/>
                </a:solidFill>
                <a:latin typeface="Arial"/>
              </a:rPr>
              <a:t>Cuando un desembolso es gasto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io conservador o prudenci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existen dos o más formas de registrar 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erminado acontecimiento se debe optar por el má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udente, es decir, el que signifique un MENOR VAL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 activo o patrimon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io de uniformidad o consistenci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elige un método para registrar determinados acontecimientos, se debe aplicar el MISMO METODO en todo acontecimiento futur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68000" y="333000"/>
            <a:ext cx="77706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incipio de exposició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estados financieros deben contener toda la información y discriminación básica y adicional que sea necesaria para una adecuada interpretación de la situación financiera y de los resultados económicos del ente al que se refier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92280" y="5492880"/>
            <a:ext cx="7530840" cy="90144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NO SE DEBE OCULTAR NAD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99640" y="549000"/>
            <a:ext cx="7543800" cy="1276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os Básicos que Debe Cumplir la Información Con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2286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TINENCIA: No se debe omitir  información que sea útil o que pueda alterar  significativamente la situación de la 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JETIVIDAD: La información debe ser confiable y su exactitud susceptible de verific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TIBILIDAD: Todo cambio en la forma de operar debe significar beneficios, en el peor de los casos iguales a los costos adicionales de reunir e interpretar la correspondiente información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539280" y="1413000"/>
            <a:ext cx="8001000" cy="475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568440" indent="-568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MONEDA COMÚN DENOMINAD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ntabilidad registra solo los acontecimientos que pueden medirse monetaria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4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1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ermite sumar bienes y recursos de distinta  naturalez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1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No se pueden registrar hechos que afectan a la empresa y no son medibles monetariamen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68440" indent="-568440">
              <a:lnSpc>
                <a:spcPct val="90000"/>
              </a:lnSpc>
              <a:spcBef>
                <a:spcPts val="601"/>
              </a:spcBef>
              <a:buClr>
                <a:srgbClr val="86d1ec"/>
              </a:buClr>
              <a:buSzPct val="15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ienes con igual valor monetario pueden tener distinto valor económico por asociarse a tiempos distinto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826920" y="333360"/>
            <a:ext cx="7086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ÍODO CONT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ontabilidad procesa información para preparar informes referidos a un período determinado, que normalmente es un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IO DE LA ENT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ontabilidad se prepara para una persona natural o jurídica DISTINTA del o los dueñ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06280" y="4321080"/>
            <a:ext cx="8469360" cy="82404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LA CONTABILIDAD SE LLEVA A NOMBRE DE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EMPRESA Y NO DE LOS SOCIOS O PROPIETARI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IO DE EMPRESA EN MARCH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contabilidad supone que la empresa seguirá operando en forma indefinida, por lo que las cifras presentadas no reflejan necesariamente los valores de realiz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2320" y="4854600"/>
            <a:ext cx="8276040" cy="82404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SIEMPRE QUE NO EXISTAN PRUEBAS DE LO CONTRAR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SE SUPONDRA LA INDEFINIDA MARCHA DE LA EMPRESA</a:t>
            </a: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incipi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INCIPIO DE VALORACION AL CO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s recursos o activos económicos de una empresa se valoran al Costo Histórico, o valor de adquisición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embargo, el valor contable de un bien físico no se mantiene inalterable, puesto se reconoce un desgaste mediante la depreci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95280" y="4797360"/>
            <a:ext cx="8424720" cy="1189800"/>
          </a:xfrm>
          <a:prstGeom prst="rect">
            <a:avLst/>
          </a:prstGeom>
          <a:noFill/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Book Antiqua"/>
              </a:rPr>
              <a:t>EL VALOR CONTABLE NO NECESARIAMENTE COINCIDE CON EL VALOR DE MERCADO DE UN DETERMINADO BIE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06:36Z</dcterms:created>
  <dc:creator>MARCOS VILCHES</dc:creator>
  <dc:description/>
  <dc:language>en-US</dc:language>
  <cp:lastModifiedBy>IVAN ALVAREZ VALDES</cp:lastModifiedBy>
  <cp:lastPrinted>1999-03-18T20:46:15Z</cp:lastPrinted>
  <dcterms:modified xsi:type="dcterms:W3CDTF">2006-03-13T02:29:00Z</dcterms:modified>
  <cp:revision>18</cp:revision>
  <dc:subject/>
  <dc:title>Vender una idea o un producto</dc:title>
</cp:coreProperties>
</file>