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B71-9333-47AE-895A-D0C3FA9A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898-47B9-4455-8DA9-08465878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0A9-8CA3-4492-A74C-1D16CE4B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FE5-4396-4B18-B014-E29AC8D3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BFED-A972-4C17-83B2-9B753ED8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FC13-1BBF-48B5-A4A5-A49B5A08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5F0F-6F5E-4EA0-A1B1-9C4569E0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008D-60DD-4205-B686-8887F7EC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1D0B-B685-444F-8530-05223C82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EE6A-6FF2-4616-A3F5-455481DF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6BD3-8937-4506-A7BA-A78F3711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AE5-3BFD-4C09-B11D-CE346E17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8CC5-8E34-44C9-B932-9DC1EE97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7D2E-316F-458A-8F9C-ADFBE452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D94F-9C41-444A-BE40-8D9C41EC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5619-9423-4EC1-8687-FA1EE23A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C936-3B96-4329-A529-DBBEE0D9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5FAA-30EE-407C-8DC8-C3530F2E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0E6CC-B52B-4E77-AC18-8CEF57BB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43065-8753-49D8-9BB2-B2B12248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0C9E-D649-4B80-BE7E-C14F45DD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77AF9-28C0-4358-9AD3-C3397016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3C6-0887-429D-BEFC-8F0D2CC7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3A1F6-626B-49F3-ACE5-1F98CACE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4A905-D3D8-42E7-A129-C07253A0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A1BF1-D1E5-4F65-AAD0-6FA95B13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AB1C-E9AF-479F-A4B2-B614AEC1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0A234-1FCA-4817-AB78-7882AC1E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10EAA-9471-403F-AF1A-077AD048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71A23-2778-4070-BC23-284AAB1D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1F492-3A75-43D7-B753-008C9A10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6B040-BA22-4EFE-9BC1-93012C31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1D850-8650-4754-9D2A-29FFA4FB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C47-9543-4AA1-A400-3007F7E5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827B4-FDD7-4E4C-AFFA-F72C778E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0BD83-7B5A-44C0-9084-DD6F679B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172FC-DD0B-4C9C-ACF3-E20902FF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E226B-7787-4B36-8727-81B5BEA3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B387D-391C-4BD7-A3FF-6D3954BE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5A393-9858-48C0-ABFD-B10447B5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C2F42-1416-4443-A1A9-B52D1F74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331CF-9A77-45CD-ACAC-9F76962B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508E9-2606-4426-A8D2-BDB884C3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19573-6B8E-446A-A057-7E0A3D4D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BE76-E436-4922-ADFC-CA6E9429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25C99-81BF-4B60-98C9-0099C56A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BA31D-620E-455E-A0A2-5D8C929C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5DD98-EE79-4DDC-8B22-012214DC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3239F-4808-4387-9BD8-FEE8186C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378FB-43D5-4F66-A699-F5AE3E7F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65E35-2C81-433E-8646-2C72A822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CFDB6-43F0-4735-A6E4-996F7310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4F432-9925-466C-847A-CB907FAC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1DBC8-B11D-4302-B696-F8532616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C6689-DDA8-408C-9572-9155956A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ADF-ADB3-400A-81E0-2C59578A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8A0B6-6267-417B-B911-90199B00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FBC-473C-4EA1-A832-C8300F6A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858-4904-4308-A9F6-A5B305D2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1ED-4BBC-4462-82E0-B939C12C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519C-DF29-44D2-BDB4-1D895AEFFF9F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FE47-1505-4B99-A1E9-58D5A823D654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2f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2f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2f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F642-6F12-4CA1-93A5-9E89A064F37C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2f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3B7B-D0DB-442B-A40D-BCCA3312F9DB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252" name="20 Conector recto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23 Conector recto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24 Conector recto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25 Grupo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256" name="26 Conector recto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27 Conector recto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28 Conector recto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260" name="30 Conector recto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31 Conector recto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32 Conector recto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BF4E-8FBF-49D1-942D-758051DC7F3D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1 Título" descr=""/>
          <p:cNvPicPr/>
          <p:nvPr/>
        </p:nvPicPr>
        <p:blipFill>
          <a:blip r:embed="rId1"/>
          <a:stretch/>
        </p:blipFill>
        <p:spPr>
          <a:xfrm>
            <a:off x="682560" y="434664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857160" y="608652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Noviembre 2008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Qué externalidades positivas generaría para la Isla Caguache para la ejecución del Proyecto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De qué manera podría cuantificar las externalidades positivas del Proyecto?. Para ello, utilice como supuesto la información disponible a nivel de Instituciones Públicas (INE, CNE, etc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Cómo podría saber que el Estado realizó una buena asignación de recursos públicos al decidir realizar el Proyecto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 Person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Qué líneas de estudio o qué investigaciones que contribuyan a las metodología de Evaluación Social realizaría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Para responder, recuerde lo desarrollado por Mideplan y plantee los supuestos necesarios para el financiamiento y tiempos para el desarrollo de los estudios planteado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83b7"/>
                </a:solidFill>
                <a:latin typeface="Consolas"/>
              </a:rPr>
              <a:t>Presenta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040" y="1784520"/>
            <a:ext cx="351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l caso trata sobre la Isla Caguache de la comuna de Quinchao región de Los Lagos, donde actualmente habitan 398 personas,  correspondiente a 106 famili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8" name="4 Imagen" descr="Isla_Caguache_Quinchao.jpg"/>
          <p:cNvPicPr/>
          <p:nvPr/>
        </p:nvPicPr>
        <p:blipFill>
          <a:blip r:embed="rId1"/>
          <a:stretch/>
        </p:blipFill>
        <p:spPr>
          <a:xfrm>
            <a:off x="4702320" y="1071720"/>
            <a:ext cx="40845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Descripción del Problem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00040" y="1714320"/>
            <a:ext cx="81439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urante los últimos años, las familias del lugar </a:t>
            </a: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, gracias a su propio esfuerzo, poseen un par de motores diesel generadores de electricidad, los que fueron importados hace un par de añ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1" name="4 Marcador de contenido" descr="generador_luz_80Hz.jpg"/>
          <p:cNvPicPr/>
          <p:nvPr/>
        </p:nvPicPr>
        <p:blipFill>
          <a:blip r:embed="rId1"/>
          <a:stretch/>
        </p:blipFill>
        <p:spPr>
          <a:xfrm>
            <a:off x="5286240" y="3429000"/>
            <a:ext cx="3409920" cy="2571840"/>
          </a:xfrm>
          <a:prstGeom prst="rect">
            <a:avLst/>
          </a:prstGeom>
          <a:ln w="0">
            <a:noFill/>
          </a:ln>
        </p:spPr>
      </p:pic>
      <p:sp>
        <p:nvSpPr>
          <p:cNvPr id="312" name="2 Marcador de contenido"/>
          <p:cNvSpPr/>
          <p:nvPr/>
        </p:nvSpPr>
        <p:spPr>
          <a:xfrm>
            <a:off x="500040" y="3500280"/>
            <a:ext cx="4572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os generadores están siendo administrados por una cooperativa que cobra 165 $/kWh entregado (IVA inclu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Estructura de Costos Actual y Demand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8572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En  estas condiciones, las familias consumen 30 kWh de energía al mes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En el presente, los motores valen 10 MM$  cada uno y podrían ser utilizados por un período de 25 años a los actuales niveles de costos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Los motores funcionan 24 horas por día y consumen, en promedio, 500 litros de petróleo diario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Con esta cifra, el costo variable es de 100$/kWh y sus costos fijos son 5 MM$ anuales, ambas cifras no incluyen IVA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La estructura del costo variable es 80% combustibles y lubricantes importados (con arancel incluido), 10% mano de obra y 10% otros insumos nacionale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400" y="17845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Se plantea la posibilidad de que la empresa eléctrica distribuidora “ElectroSur” construya torres que permitan conectar la isla a la red eléctrica del continente por vía aérea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Picture 2" descr="MVC-012F"/>
          <p:cNvPicPr/>
          <p:nvPr/>
        </p:nvPicPr>
        <p:blipFill>
          <a:blip r:embed="rId1"/>
          <a:stretch/>
        </p:blipFill>
        <p:spPr>
          <a:xfrm>
            <a:off x="4857840" y="3143160"/>
            <a:ext cx="38671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14400" y="1784520"/>
            <a:ext cx="401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a inversión requerida se estima, a costos privados sin IVA, en $500.000 por familia. Dicha inversión será subsidiada por el Est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a estructura de costos es 50% insumos importados (con arancel incluido), 30% mano de obra , y 20% otros insumos nacional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MVC-005S"/>
          <p:cNvPicPr/>
          <p:nvPr/>
        </p:nvPicPr>
        <p:blipFill>
          <a:blip r:embed="rId1"/>
          <a:stretch/>
        </p:blipFill>
        <p:spPr>
          <a:xfrm>
            <a:off x="5326200" y="1928880"/>
            <a:ext cx="3390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a empresa deberá pagar a la Cooperativa $50.000.000 por el traspaso de la postación existent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os motores serán vendidos por la Cooperativa y serán utilizados en otras islas cercanas. Con esto, la Cooperativa pagará sus deudas actuales y dejará de existi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Modelo de Negocios de la Distribuidor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400" y="1999800"/>
            <a:ext cx="777240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ElectroSur cobraría a sus usuarios 70 $/kWh, IVA incluido. A este precio las familias consumirían 70 kWh por me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a empresa compra la electricidad a 30$/kWh. Sus costos fijos de operación y mantención serán de $3.000.000 al añ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Para realizar la Evaluación Social del Proyecto, identifique a los agentes afectados por el mism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Enuncie claramente cómo podría cuantificar los Costos Sociales del Proyect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Mencione qué consideraría y cómo calcularía los Beneficios Sociales del Proyecto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30:22Z</dcterms:created>
  <dc:creator>WinuE</dc:creator>
  <dc:description/>
  <dc:language>en-US</dc:language>
  <cp:lastModifiedBy>kcarrasco</cp:lastModifiedBy>
  <dcterms:modified xsi:type="dcterms:W3CDTF">2008-11-16T19:50:23Z</dcterms:modified>
  <cp:revision>68</cp:revision>
  <dc:subject/>
  <dc:title>Sistema Control de Gestión</dc:title>
</cp:coreProperties>
</file>