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20F-4090-4D7A-9BF8-EB9E34FD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DA96-554C-4EDF-8A9E-94805059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E18-F903-43F7-93BB-4E4D8715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EBE9-C64A-4586-9902-C3564000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1128-0C1A-4836-BC00-A792145A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79EF-0C86-45A2-8BF0-692A4102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4459-8A5D-4D05-B9A5-9532B9F4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3D2D-40A4-4B81-BF0E-9BE4FCAA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78E5-F826-43D1-87ED-0421CB75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ADE8-C4AA-4A5F-9E49-21CE260A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3D70-9B75-42EC-92BB-45FC2686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4E3-64A5-4C1B-8811-90CE7804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DA02-B589-40EF-80FF-08E2960A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8F0B-20AF-425D-91A8-6F0A57EA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EB53-1F98-4274-9F21-F4794BCB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70E6-4D20-4CFF-A1D3-A4A4408C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ED93-A4F1-431B-BDE4-72F2D055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67E55-563F-463F-A3B9-3917DB1F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85224-49C4-4B5C-A27D-C32FB4E4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0FDD6-D6A2-42AA-AB15-1A09E110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FDE30-663F-4CF8-83D6-BB096426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B3EE5-1F6C-4E76-A830-DD014869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E4E-CBBA-4362-836E-8ACF9221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64BBB-09E7-4BA5-ADEC-B3F30474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208D3-1704-4935-AE2B-EF26C105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DF3C5-D481-4B32-B093-C4F149CA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4647C-9512-4C72-93BD-BE84F438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B545F-7358-4793-996E-67A983C7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C70D5-04DC-400D-8548-15DB382C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3EC2A-E89D-471C-BDD8-85EC11F1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FFB57-675C-4B9D-88F8-74336E40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7D322-5EFC-4B9E-95B0-BD8D6647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C83EA-1609-4E27-A332-98952E19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95CA-0496-4B63-B8BB-23BFC8D3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6494E-D045-4610-8CCB-57A61BE2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11AD2-D619-4543-8931-3D959420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32850-160C-4C97-B4FE-17DF59F4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B99B7-A476-40C0-8958-DC7A7063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18F3A-0EFE-45BB-841F-44EADA3E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F2DBE-0E25-4224-9EDB-639A0E3C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B6227-099B-4706-B345-93BC778C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FAE40-FDAA-4A4E-83F3-D577E8E6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977E7-D7C7-4D5F-BB35-500C2AEC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5DC6D-72C0-44A1-9AD4-448940BC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586-D845-44B7-B688-088E668C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25B88-96A5-4892-BE9B-D78867E9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9E0DA-00B4-4EDC-912C-63C7DA9E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DD642-CCB3-47CD-874A-47D0E1A4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9463B-779E-4E8E-AB99-F8F294A8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FD650-0EB2-41CD-B25A-08977A67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AF1B6-8124-4CB0-8600-02EC1FA9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45A09-6ED1-4ADD-A2C1-577D412A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55BD5-9909-4A0E-B08E-F922CEFC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CD88F-B718-43B9-8817-6592FECB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15C98-DD2A-499E-8F02-72F0CF33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B0B-1896-49F6-90FC-1D71B546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B157A-DFFC-4DB4-BE75-2EBFCFAD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C7E7-8249-47B5-8F5C-FADBF102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FD5-3549-48EE-9B7A-6FECC7E5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0E6-34CF-41CA-84FF-C065A89F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D060-97F9-4067-A7A3-7C6754CD325F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23DA-49D9-45F7-B726-7AB690BFE006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7 Forma libre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8 Forma libre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9 Forma libre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d2f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20 Forma libre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3 Forma libre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24 Forma libre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5 Forma libre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26 Forma libre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7 Forma libre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28 Forma libre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29 Forma libre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30 Forma libre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1 Forma libre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2 Forma libre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33 Forma libre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d2f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d2f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3A29-C0F9-4B18-AD42-CCADC0213387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d2f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F7D8-7DEF-4E90-B920-E0EA08B7E5A1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19 Grupo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252" name="20 Conector recto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23 Conector recto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24 Conector recto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25 Grupo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256" name="26 Conector recto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27 Conector recto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28 Conector recto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29 Grupo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260" name="30 Conector recto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31 Conector recto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32 Conector recto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AA38-0DF6-4707-AC0A-8F4122CE6535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1 Título" descr=""/>
          <p:cNvPicPr/>
          <p:nvPr/>
        </p:nvPicPr>
        <p:blipFill>
          <a:blip r:embed="rId1"/>
          <a:stretch/>
        </p:blipFill>
        <p:spPr>
          <a:xfrm>
            <a:off x="682560" y="434664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857160" y="608652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Noviembre 2008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Qué externalidades positivas generaría para la Isla Caguache para la ejecución del Proyecto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De qué manera podría cuantificar las externalidades positivas del Proyecto?. Para ello, utilice como supuesto la información disponible a nivel de Instituciones Públicas (INE, CNE, etc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Cómo podría saber que el Estado realizó una buena asignación de recursos públicos al decidir realizar el Proyecto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 Person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Qué líneas de estudio o qué investigaciones que contribuyan a las metodología de Evaluación Social realizaría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Para responder, recuerde lo desarrollado por Mideplan y plantee los supuestos necesarios para el financiamiento y tiempos para el desarrollo de los estudios planteado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83b7"/>
                </a:solidFill>
                <a:latin typeface="Consolas"/>
              </a:rPr>
              <a:t>Presentació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14040" y="1784520"/>
            <a:ext cx="351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l caso trata sobre la Isla Caguache de la comuna de Quinchao región de Los Lagos, donde actualmente habitan 398 personas,  correspondiente a 106 famili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8" name="4 Imagen" descr="Isla_Caguache_Quinchao.jpg"/>
          <p:cNvPicPr/>
          <p:nvPr/>
        </p:nvPicPr>
        <p:blipFill>
          <a:blip r:embed="rId1"/>
          <a:stretch/>
        </p:blipFill>
        <p:spPr>
          <a:xfrm>
            <a:off x="4702320" y="1071720"/>
            <a:ext cx="40845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Descripción del Problem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00040" y="1714320"/>
            <a:ext cx="81439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urante los últimos años, las familias del lugar </a:t>
            </a: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, gracias a su propio esfuerzo, poseen un par de motores diesel generadores de electricidad, los que fueron importados hace un par de añ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1" name="4 Marcador de contenido" descr="generador_luz_80Hz.jpg"/>
          <p:cNvPicPr/>
          <p:nvPr/>
        </p:nvPicPr>
        <p:blipFill>
          <a:blip r:embed="rId1"/>
          <a:stretch/>
        </p:blipFill>
        <p:spPr>
          <a:xfrm>
            <a:off x="5286240" y="3429000"/>
            <a:ext cx="3409920" cy="2571840"/>
          </a:xfrm>
          <a:prstGeom prst="rect">
            <a:avLst/>
          </a:prstGeom>
          <a:ln w="0">
            <a:noFill/>
          </a:ln>
        </p:spPr>
      </p:pic>
      <p:sp>
        <p:nvSpPr>
          <p:cNvPr id="312" name="2 Marcador de contenido"/>
          <p:cNvSpPr/>
          <p:nvPr/>
        </p:nvSpPr>
        <p:spPr>
          <a:xfrm>
            <a:off x="500040" y="3500280"/>
            <a:ext cx="45720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os generadores están siendo administrados por una cooperativa que cobra 165 $/kWh entregado (IVA inclu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Estructura de Costos Actual y Demand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8572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En  estas condiciones, las familias consumen 30 kWh de energía al mes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En el presente, los motores valen 10 MM$  cada uno y podrían ser utilizados por un período de 25 años a los actuales niveles de costos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Los motores funcionan 24 horas por día y consumen, en promedio, 500 litros de petróleo diario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Con esta cifra, el costo variable es de 100$/kWh y sus costos fijos son 5 MM$ anuales, ambas cifras no incluyen IVA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La estructura del costo variable es 80% combustibles y lubricantes importados (con arancel incluido), 10% mano de obra y 10% otros insumos nacionale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14400" y="178452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Se plantea la posibilidad de que la empresa eléctrica distribuidora “ElectroSur” construya torres que permitan conectar la isla a la red eléctrica del continente por vía aérea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Picture 2" descr="MVC-012F"/>
          <p:cNvPicPr/>
          <p:nvPr/>
        </p:nvPicPr>
        <p:blipFill>
          <a:blip r:embed="rId1"/>
          <a:stretch/>
        </p:blipFill>
        <p:spPr>
          <a:xfrm>
            <a:off x="4857840" y="3143160"/>
            <a:ext cx="386712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14400" y="1784520"/>
            <a:ext cx="4014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a inversión requerida se estima, a costos privados sin IVA, en $500.000 por familia. Dicha inversión será subsidiada por el Estad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a estructura de costos es 50% insumos importados (con arancel incluido), 30% mano de obra , y 20% otros insumos nacional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MVC-005S"/>
          <p:cNvPicPr/>
          <p:nvPr/>
        </p:nvPicPr>
        <p:blipFill>
          <a:blip r:embed="rId1"/>
          <a:stretch/>
        </p:blipFill>
        <p:spPr>
          <a:xfrm>
            <a:off x="5326200" y="1928880"/>
            <a:ext cx="3390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a empresa deberá pagar a la Cooperativa $50.000.000 por el traspaso de la postación existente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os motores serán vendidos por la Cooperativa y serán utilizados en otras islas cercanas. Con esto, la Cooperativa pagará sus deudas actuales y dejará de existir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Modelo de Negocios de la Distribuidor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914400" y="1999800"/>
            <a:ext cx="777240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ElectroSur cobraría a sus usuarios 70 $/kWh, IVA incluido. A este precio las familias consumirían 70 kWh por me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a empresa compra la electricidad a 30$/kWh. Sus costos fijos de operación y mantención serán de $3.000.000 al añ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Para realizar la Evaluación Social del Proyecto, identifique a los agentes afectados por el mism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Enuncie claramente cómo podría cuantificar los Costos Sociales del Proyect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Mencione qué consideraría y cómo calcularía los Beneficios Sociales del Proyecto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30:22Z</dcterms:created>
  <dc:creator>WinuE</dc:creator>
  <dc:description/>
  <dc:language>en-US</dc:language>
  <cp:lastModifiedBy>kcarrasco</cp:lastModifiedBy>
  <dcterms:modified xsi:type="dcterms:W3CDTF">2008-11-16T19:50:23Z</dcterms:modified>
  <cp:revision>68</cp:revision>
  <dc:subject/>
  <dc:title>Sistema Control de Gestión</dc:title>
</cp:coreProperties>
</file>