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616E-FB00-4F6D-9F08-D0DD064AC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56A8-9FED-4991-BA02-943DD2C0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985A-03C4-4C0A-A39D-327B01CF8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9AAC-8A0F-4DB4-B411-836C44B68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F28A-05EC-4ED7-B03E-A3B744FD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E8E7-F093-4018-A5C5-256DF5FA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C5BD-F953-4221-8D54-BE767A07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06CC-7EA0-4B5A-9A59-05DE6650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5B7F-2C9E-4007-97BB-E0E842B2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7843-560A-4CD2-874F-6665E2B2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0E3C-770A-456D-9D72-1BAEA062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294C-1AFA-49E3-99BE-2DA06D8C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988E-5C6C-4631-A690-C7205BAF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166A-26F8-4131-9DA7-FD09622D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D0B2-26A2-48A5-9BD1-BD0C0124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F389-4054-425A-B8B4-4BC33B3C1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FE3F-262C-4180-9AC0-B3D73E978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51272-2047-4B15-99B1-C6E349251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66304-285C-4A2F-B42A-CD6E804A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38B6B-0778-4FD0-B47B-C7C8784B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FA61B-E3EF-483B-84AF-12689E31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C7AB2-4FD5-4684-A8C6-A8A2DB89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C4A1-8574-42BF-8F02-63E46097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ADE70-610F-40CE-B36D-53370FC7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A3135-DBD8-4199-8523-201BC467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CF98D-2E0C-4793-959A-F1861EAF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6A012-1F88-4DDA-B118-15811009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DCFB0-6226-4517-9EB5-DF318C85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3F64C-694E-414C-8602-4335F510A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A17BD-A837-4BAD-901E-208BCD75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1FCB6-4A56-4C4A-931F-3013B26F5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BB459-8006-48BF-B346-D9F174B1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C9100-3243-4BB6-BE97-64CB84F6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5F25-AB8E-4E7F-8D97-4D4DCA9C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A84E7-A94C-45D1-8637-48D3FE7F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CFE74-4328-4512-962D-9EBE3D7A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ABC4D-47CE-4B05-BD59-F8B83B3C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E3237-E043-469A-A80A-EF0FA994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C6661-B439-456D-A168-2D522FB6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5A7BB-9C14-48F0-8FCE-C660DD00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5A060-6895-4FD8-946E-0C81AEA0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DDB3B-C59A-4BD4-9BAB-7670A6156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33B00-34D1-430B-833F-962B9D7B1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160F3-355B-453F-8BC8-0CEF9E6D2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7514-5614-4FD5-9A7F-C25927B1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5E459-1FDA-4719-9043-8174EB4A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F9E63-72F6-4C55-AE05-23EB1A24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815A3-94A9-45AC-8C51-05EB0FE7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83E8E-AAB8-4F9A-A3AB-B5BD029F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A02B8-1E1E-4A5A-BEC7-4E626469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55365-D0A0-47B9-8684-057A4344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2C55A-0DFC-4DF5-A116-80145539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0E889-40AF-418D-9DA6-1EEED744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8411C-DD9B-4C27-A384-7DC5569B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9CB25-E807-4042-AD4E-852A5D40D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2BB8-D03D-406C-9697-B26BBBCF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6CDCF-DCFD-423E-B6FA-F01C68B31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88A5-9D92-4924-A4F8-D774F755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76E3-1C69-4AF1-B88D-3140B885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1ED7-E980-4B6F-B227-90021A42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4617b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BC9B-229B-46E3-9FE7-9D7F60EA1FCC}" type="slidenum">
              <a:rPr b="0" lang="es-ES_tradnl" sz="1200" spc="-1" strike="noStrike">
                <a:solidFill>
                  <a:srgbClr val="04617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7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8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9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20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23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24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25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26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27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4617b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EA2F-09F3-42C3-810F-CA6EFB45359C}" type="slidenum">
              <a:rPr b="0" lang="es-ES_tradnl" sz="1200" spc="-1" strike="noStrike">
                <a:solidFill>
                  <a:srgbClr val="04617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17 Forma libre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009dd9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18 Forma libre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009dd9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19 Forma libre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d2f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20 Forma libre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23 Forma libre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24 Forma libre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25 Forma libre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26 Forma libre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27 Forma libre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28 Forma libre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29 Forma libre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30 Forma libre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31 Forma libre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32 Forma libre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33 Forma libre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d2f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34 Rectángulo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d2fe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35 Rectángulo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36 Rectángulo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37 Rectángulo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38 Rectángulo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39 Rectángulo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4617b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BF61-5B31-4EE2-A406-2FF8DAB961A3}" type="slidenum">
              <a:rPr b="0" lang="es-ES_tradnl" sz="1200" spc="-1" strike="noStrike">
                <a:solidFill>
                  <a:srgbClr val="04617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7 Rectángulo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d2fe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18 Rectángulo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19 Rectángulo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20 Rectángulo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23 Rectángulo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24 Rectángulo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25 Rectángulo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26 Rectángulo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27 Rectángulo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28 Rectángulo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4617b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1529-F274-4BA4-A4DE-60B6DA6A3849}" type="slidenum">
              <a:rPr b="0" lang="es-ES_tradnl" sz="1200" spc="-1" strike="noStrike">
                <a:solidFill>
                  <a:srgbClr val="04617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17 Rectángulo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18 Conector recto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19 Grupo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252" name="20 Conector recto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23 Conector recto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24 Conector recto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25 Grupo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256" name="26 Conector recto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27 Conector recto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28 Conector recto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29 Grupo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260" name="30 Conector recto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31 Conector recto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32 Conector recto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3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4617b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4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5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452A-C660-4A18-8EE8-DA01B377A494}" type="slidenum">
              <a:rPr b="0" lang="es-ES_tradnl" sz="1200" spc="-1" strike="noStrike">
                <a:solidFill>
                  <a:srgbClr val="04617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1 Título" descr=""/>
          <p:cNvPicPr/>
          <p:nvPr/>
        </p:nvPicPr>
        <p:blipFill>
          <a:blip r:embed="rId1"/>
          <a:stretch/>
        </p:blipFill>
        <p:spPr>
          <a:xfrm>
            <a:off x="682560" y="434664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857160" y="6086520"/>
            <a:ext cx="7772400" cy="62856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Noviembre 2008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egunta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¿Qué externalidades positivas generaría para la Isla Caguache para la ejecución del Proyecto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¿De qué manera podría cuantificar las externalidades positivas del Proyecto?. Para ello, utilice como supuesto la información disponible a nivel de Instituciones Públicas (INE, CNE, etc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egunta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¿Cómo podría saber que el Estado realizó una buena asignación de recursos públicos al decidir realizar el Proyecto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egunta Persona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¿Qué líneas de estudio o qué investigaciones que contribuyan a las metodología de Evaluación Social realizaría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Para responder, recuerde lo desarrollado por Mideplan y plantee los supuestos necesarios para el financiamiento y tiempos para el desarrollo de los estudios planteado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83b7"/>
                </a:solidFill>
                <a:latin typeface="Consolas"/>
              </a:rPr>
              <a:t>Presentació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14040" y="1784520"/>
            <a:ext cx="351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El caso trata sobre la Isla Caguache de la comuna de Quinchao región de Los Lagos, donde actualmente habitan 398 personas,  correspondiente a 106 familia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8" name="4 Imagen" descr="Isla_Caguache_Quinchao.jpg"/>
          <p:cNvPicPr/>
          <p:nvPr/>
        </p:nvPicPr>
        <p:blipFill>
          <a:blip r:embed="rId1"/>
          <a:stretch/>
        </p:blipFill>
        <p:spPr>
          <a:xfrm>
            <a:off x="4702320" y="1071720"/>
            <a:ext cx="40845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Descripción del Problem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500040" y="1714320"/>
            <a:ext cx="814392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urante los últimos años, las familias del lugar </a:t>
            </a:r>
            <a:r>
              <a:rPr b="0" lang="es-ES" sz="2400" spc="-1" strike="noStrike">
                <a:solidFill>
                  <a:srgbClr val="000000"/>
                </a:solidFill>
                <a:latin typeface="Corbel"/>
              </a:rPr>
              <a:t>, gracias a su propio esfuerzo, poseen un par de motores diesel generadores de electricidad, los que fueron importados hace un par de añ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1" name="4 Marcador de contenido" descr="generador_luz_80Hz.jpg"/>
          <p:cNvPicPr/>
          <p:nvPr/>
        </p:nvPicPr>
        <p:blipFill>
          <a:blip r:embed="rId1"/>
          <a:stretch/>
        </p:blipFill>
        <p:spPr>
          <a:xfrm>
            <a:off x="5286240" y="3429000"/>
            <a:ext cx="3409920" cy="2571840"/>
          </a:xfrm>
          <a:prstGeom prst="rect">
            <a:avLst/>
          </a:prstGeom>
          <a:ln w="0">
            <a:noFill/>
          </a:ln>
        </p:spPr>
      </p:pic>
      <p:sp>
        <p:nvSpPr>
          <p:cNvPr id="312" name="2 Marcador de contenido"/>
          <p:cNvSpPr/>
          <p:nvPr/>
        </p:nvSpPr>
        <p:spPr>
          <a:xfrm>
            <a:off x="500040" y="3500280"/>
            <a:ext cx="457200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rbel"/>
              </a:rPr>
              <a:t>Los generadores están siendo administrados por una cooperativa que cobra 165 $/kWh entregado (IVA inclui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Estructura de Costos Actual y Demand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14400" y="18572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rbel"/>
              </a:rPr>
              <a:t>En  estas condiciones, las familias consumen 30 kWh de energía al mes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0240" indent="-32544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rbel"/>
              </a:rPr>
              <a:t>En el presente, los motores valen 10 MM$  cada uno y podrían ser utilizados por un período de 25 años a los actuales niveles de costos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0240" indent="-32544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rbel"/>
              </a:rPr>
              <a:t>Los motores funcionan 24 horas por día y consumen, en promedio, 500 litros de petróleo diario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0240" indent="-32544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rbel"/>
              </a:rPr>
              <a:t>Con esta cifra, el costo variable es de 100$/kWh y sus costos fijos son 5 MM$ anuales, ambas cifras no incluyen IVA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0240" indent="-32544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rbel"/>
              </a:rPr>
              <a:t>La estructura del costo variable es 80% combustibles y lubricantes importados (con arancel incluido), 10% mano de obra y 10% otros insumos nacionale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opuest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14400" y="178452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rbel"/>
              </a:rPr>
              <a:t>Se plantea la posibilidad de que la empresa eléctrica distribuidora “ElectroSur” construya torres que permitan conectar la isla a la red eléctrica del continente por vía aérea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7" name="Picture 2" descr="MVC-012F"/>
          <p:cNvPicPr/>
          <p:nvPr/>
        </p:nvPicPr>
        <p:blipFill>
          <a:blip r:embed="rId1"/>
          <a:stretch/>
        </p:blipFill>
        <p:spPr>
          <a:xfrm>
            <a:off x="4857840" y="3143160"/>
            <a:ext cx="386712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opuest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914400" y="1784520"/>
            <a:ext cx="4014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rbel"/>
              </a:rPr>
              <a:t>La inversión requerida se estima, a costos privados sin IVA, en $500.000 por familia. Dicha inversión será subsidiada por el Estad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rbel"/>
              </a:rPr>
              <a:t>La estructura de costos es 50% insumos importados (con arancel incluido), 30% mano de obra , y 20% otros insumos nacional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2" descr="MVC-005S"/>
          <p:cNvPicPr/>
          <p:nvPr/>
        </p:nvPicPr>
        <p:blipFill>
          <a:blip r:embed="rId1"/>
          <a:stretch/>
        </p:blipFill>
        <p:spPr>
          <a:xfrm>
            <a:off x="5326200" y="1928880"/>
            <a:ext cx="33908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opuesta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rbel"/>
              </a:rPr>
              <a:t>La empresa deberá pagar a la Cooperativa $50.000.000 por el traspaso de la postación existente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rbel"/>
              </a:rPr>
              <a:t>Los motores serán vendidos por la Cooperativa y serán utilizados en otras islas cercanas. Con esto, la Cooperativa pagará sus deudas actuales y dejará de existir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Modelo de Negocios de la Distribuidor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914400" y="1999800"/>
            <a:ext cx="7772400" cy="43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rbel"/>
              </a:rPr>
              <a:t>ElectroSur cobraría a sus usuarios 70 $/kWh, IVA incluido. A este precio las familias consumirían 70 kWh por mes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rbel"/>
              </a:rPr>
              <a:t>La empresa compra la electricidad a 30$/kWh. Sus costos fijos de operación y mantención serán de $3.000.000 al añ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egunta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Para realizar la Evaluación Social del Proyecto, identifique a los agentes afectados por el mismo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Enuncie claramente cómo podría cuantificar los Costos Sociales del Proyecto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Mencione qué consideraría y cómo calcularía los Beneficios Sociales del Proyecto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30:22Z</dcterms:created>
  <dc:creator>WinuE</dc:creator>
  <dc:description/>
  <dc:language>en-US</dc:language>
  <cp:lastModifiedBy>kcarrasco</cp:lastModifiedBy>
  <dcterms:modified xsi:type="dcterms:W3CDTF">2008-11-16T19:50:23Z</dcterms:modified>
  <cp:revision>68</cp:revision>
  <dc:subject/>
  <dc:title>Sistema Control de Gestión</dc:title>
</cp:coreProperties>
</file>