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D5A-6278-44AF-97A0-8626D0F3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740-96D7-4519-928A-BA78E38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2C6-F037-4A19-8742-2EEC52D0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2FF-8B13-4E96-B389-EFC59442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01D5-E635-40F6-86E7-541AC070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70B9-51E9-4BED-BDA8-6AEEC9C1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2660-A4BD-496B-9CDD-152E470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0441-55AD-4618-8857-305A801B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23EF-8A56-44D4-AD9C-CA921075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96C-7736-41BF-83F0-E312E110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E694-0B35-470F-9A7B-D75100A0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354-0C58-490B-B407-A4D05F4B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9C54-63EE-4B62-AEC4-80918AF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4E9B-DD7C-4154-9112-53408BA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AD83-390E-4247-B46D-A54B06BB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D122-44C4-404B-B4A7-343EA811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AF2A-A306-40C0-9EB4-152C5DB5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C155-0794-4CCE-A063-502C8B52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A513-BFB5-4DBA-A417-DC04BFFA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F7B9-B6D5-442A-9FC1-0BEC0F90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9C637-2B77-420C-8B69-EA6AE8A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297B-2CBD-4B9A-B152-E90DBC5C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352-CB6A-4A4B-BBFF-6AF29407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37AD-CE09-43B3-A57D-9471FE68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7FA2-B3D8-42A2-BECF-AD2C3B51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9686-E58F-43AE-AB3F-2D43442C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1602-F7C5-4F2B-A3C7-49E94B6C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EEDF-3466-403A-A25F-14056AAF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4016-1821-414C-A91E-220EDD70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CC25-72AD-4C74-A782-F881AD20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9665A-F6E0-48D4-BF42-CBEA413A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FE088-6132-4DCD-AC99-A50BA7CF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7A450-D97C-4F3E-A65E-70BE5E34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6F3-63A4-4FB6-BA40-483F8E6E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2CB6-A68C-480D-B8EC-6C63965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FFC4E-D92B-4E62-B655-1ACEA7B9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F0B06-A4EA-4258-87C3-3D1A7635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68D7-B9F0-4D40-9888-B3535A7A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7D56-7D8E-4902-86AB-517652F6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C4D6-06FA-417E-8199-510F8DA5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4C51-CE08-4D6C-AD14-E3AC858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3F2A-8D90-4D2B-8FD7-8CA0BA96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B84E8-EE63-4BB0-9B8F-D37782C0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F04E2-43E2-4EF1-B30A-1F3322A1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83E-7F5D-43F1-AF9F-5FB87E87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CEC0A-0E48-4AEB-982A-DD7DE4C2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7E6B1-E45A-4687-896A-D0338F5E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DFA41-8D40-4C9A-B8D8-DB76C39D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36181-2991-4DBA-B586-9397D4C4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5A52-28AA-450A-A236-1F7E6492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F139D-B1FF-49B7-9E94-BBBF749C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E31C-C492-45AE-841C-4A63A9FF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9A70-43B3-42E7-8148-C9D75EA8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EA5A6-1FC0-42AD-9F72-7CA47E56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95AAD-AFF9-4CA6-B5A3-9522E0EA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E99-6400-4FEA-A3E4-92EECE6B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63821-CC1E-427A-93C7-E3804B4C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773-200D-491F-B243-B64EF8F2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E36-E7AF-42AF-B525-C7295E6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BCD-08A7-44BB-9D0B-F7A538E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D7A7-7DF6-47A1-80C9-E2A5BFD05151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25A6-DEA4-4185-9041-A03AF1214B68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95AE-F840-4A91-96FB-00A9C6F50B49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7521-03BB-41E7-916E-3508C1793363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52" name="20 Conector recto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23 Conector recto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24 Conector recto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26 Conector recto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7 Conector recto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28 Conector recto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60" name="30 Conector recto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31 Conector recto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32 Conector recto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4285-03DB-4457-951D-BCDF76241477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682560" y="434664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57160" y="60865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Noviembre 200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externalidades positivas generaría para la Isla Caguache para la ejecución d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De qué manera podría cuantificar las externalidades positivas del Proyecto?. Para ello, utilice como supuesto la información disponible a nivel de Instituciones Públicas (INE, CNE, etc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Cómo podría saber que el Estado realizó una buena asignación de recursos públicos al decidir realizar 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 Person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líneas de estudio o qué investigaciones que contribuyan a las metodología de Evaluación Social realizaría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sponder, recuerde lo desarrollado por Mideplan y plantee los supuestos necesarios para el financiamiento y tiempos para el desarrollo de los estudios plantead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83b7"/>
                </a:solidFill>
                <a:latin typeface="Consolas"/>
              </a:rPr>
              <a:t>Present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040" y="1784520"/>
            <a:ext cx="351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l caso trata sobre la Isla Caguache de la comuna de Quinchao región de Los Lagos, donde actualmente habitan 398 personas,  correspondiente a 106 famil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4 Imagen" descr="Isla_Caguache_Quinchao.jpg"/>
          <p:cNvPicPr/>
          <p:nvPr/>
        </p:nvPicPr>
        <p:blipFill>
          <a:blip r:embed="rId1"/>
          <a:stretch/>
        </p:blipFill>
        <p:spPr>
          <a:xfrm>
            <a:off x="4702320" y="1071720"/>
            <a:ext cx="4084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Descripción del Problem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171432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urante los últimos años, las familias del lugar </a:t>
            </a: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, gracias a su propio esfuerzo, poseen un par de motores diesel generadores de electricidad, los que fueron importados hace un par de a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4 Marcador de contenido" descr="generador_luz_80Hz.jpg"/>
          <p:cNvPicPr/>
          <p:nvPr/>
        </p:nvPicPr>
        <p:blipFill>
          <a:blip r:embed="rId1"/>
          <a:stretch/>
        </p:blipFill>
        <p:spPr>
          <a:xfrm>
            <a:off x="5286240" y="3429000"/>
            <a:ext cx="34099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2 Marcador de contenido"/>
          <p:cNvSpPr/>
          <p:nvPr/>
        </p:nvSpPr>
        <p:spPr>
          <a:xfrm>
            <a:off x="500040" y="3500280"/>
            <a:ext cx="4572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os generadores están siendo administrados por una cooperativa que cobra 165 $/kWh entregado (IVA inclu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Estructura de Costos Actual y Dema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857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 estas condiciones, las familias consumen 30 kWh de energía al me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el presente, los motores valen 10 MM$  cada uno y podrían ser utilizados por un período de 25 años a los actuales niveles de costo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os motores funcionan 24 horas por día y consumen, en promedio, 500 litros de petróleo diario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Con esta cifra, el costo variable es de 100$/kWh y sus costos fijos son 5 MM$ anuales, ambas cifras no incluyen IVA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a estructura del costo variable es 80% combustibles y lubricantes importados (con arancel incluido), 10% mano de obra y 10% otros insumos nacional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84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Se plantea la posibilidad de que la empresa eléctrica distribuidora “ElectroSur” construya torres que permitan conectar la isla a la red eléctrica del continente por vía aérea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MVC-012F"/>
          <p:cNvPicPr/>
          <p:nvPr/>
        </p:nvPicPr>
        <p:blipFill>
          <a:blip r:embed="rId1"/>
          <a:stretch/>
        </p:blipFill>
        <p:spPr>
          <a:xfrm>
            <a:off x="4857840" y="314316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78452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inversión requerida se estima, a costos privados sin IVA, en $500.000 por familia. Dicha inversión será subsidiada por el Est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estructura de costos es 50% insumos importados (con arancel incluido), 30% mano de obra , y 20% otros insumos naciona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MVC-005S"/>
          <p:cNvPicPr/>
          <p:nvPr/>
        </p:nvPicPr>
        <p:blipFill>
          <a:blip r:embed="rId1"/>
          <a:stretch/>
        </p:blipFill>
        <p:spPr>
          <a:xfrm>
            <a:off x="5326200" y="1928880"/>
            <a:ext cx="3390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deberá pagar a la Cooperativa $50.000.000 por el traspaso de la postación existent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os motores serán vendidos por la Cooperativa y serán utilizados en otras islas cercanas. Con esto, la Cooperativa pagará sus deudas actuales y dejará de existi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Modelo de Negocios de la Distribuido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99980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ElectroSur cobraría a sus usuarios 70 $/kWh, IVA incluido. A este precio las familias consumirían 70 kWh por m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compra la electricidad a 30$/kWh. Sus costos fijos de operación y mantención serán de $3.000.000 al añ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alizar la Evaluación Social del Proyecto, identifique a los agentes afectados por el mis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Enuncie claramente cómo podría cuantificar los Costos Sociales del Proyec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Mencione qué consideraría y cómo calcularía los Beneficios Sociales del Proyect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22Z</dcterms:created>
  <dc:creator>WinuE</dc:creator>
  <dc:description/>
  <dc:language>en-US</dc:language>
  <cp:lastModifiedBy>kcarrasco</cp:lastModifiedBy>
  <dcterms:modified xsi:type="dcterms:W3CDTF">2008-11-16T19:50:23Z</dcterms:modified>
  <cp:revision>68</cp:revision>
  <dc:subject/>
  <dc:title>Sistema Control de Gestión</dc:title>
</cp:coreProperties>
</file>