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638-AAED-4C06-8892-A7FE4072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C9C8-345C-4DCD-9870-70ECF16A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17DC-E1AC-4C47-8770-5EC30139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99E5-A558-425B-828E-0AC26599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FFD8-9433-4CE0-A791-AB04C961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31D9-A6E3-4891-93A7-FCF23CAC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7F46-2A07-4E93-8127-0235F37E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F2CF-E740-4834-91E5-66404D9B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754D-C105-4FED-8C4A-81212DE6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9A8A-4F46-4408-8876-C9E6C810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0907-C881-4B25-A279-D430ED3A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28A9-05CB-4C52-8DA5-6227F476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CBED-54F4-4D01-815C-FE3FC133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1272-F2E9-427A-94A3-76F5E1E3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369C-7170-4E9C-B848-9BB21D5D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898B-FA74-4AF8-8924-83C9199F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C99F-A1CC-4F4D-9F92-FB8491D8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BEE13-45F5-46BE-A2AC-5A2209AC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B521C-C782-402D-BD83-F9D21D53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EDEC6-34B9-4D83-AAF8-0B252A62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890A6-4671-4E11-9690-02516B36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017A5-8A9D-414B-A1CF-E3E01EBB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8D3C-75E7-4CDC-BEF1-15471A50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4C5B-BEB2-4E2D-9BB7-376C0523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CA3EA-EE6F-40DD-8822-DA3D20D9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8EA46-BE8F-45DC-9C2D-28DF0D1F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3F460-472E-428A-9FB5-3C5D1626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6C08E-6759-44B5-887E-4A23028F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2B016-997E-4C1F-901E-B6FE967D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28A7A-B066-45DD-AD49-37C81E0D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5C02B-4344-4813-9625-06F2620B1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3A675-30DB-424D-9492-74EEF37E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E497D-9527-45F3-8AB2-57FE8303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26B-E756-4EA7-BAC6-B182642E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93312-38B9-4921-B784-D5859CF7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CFA59-C956-4429-AD57-D90AD996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5473C-7063-4AB9-BCD4-CC236D2B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0AFCF-0ACB-4778-BD94-944424AB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28259-B806-4910-85B0-BB8EF480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B0213-888C-4794-AF75-E66E252F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A4DA4-1685-4E2D-A230-6D982860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330C9-CA66-4A54-AAE2-3DB385C5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B8862-EB6E-4301-A339-285F4E13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9451D-9AA6-49B3-890A-7291FFD4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AF17-BE51-47F4-97E4-AB71EB8E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BB522-DF41-45C4-A83A-B3ECE4D6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7E3D3-7F7F-4D81-BC2C-DED58B35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6BD7A-844D-4CAB-9442-EAC89A2B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D7803-B5AB-45CF-BC4E-9D5F6E80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AF2A1-1F89-443C-9AC5-846F80B2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13FBC-0B3D-4E56-A7C7-4AD81511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AFE84-1232-4D80-9FB0-42A46DAB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E7324-0DBF-401C-8DDF-CF45FAAE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B8E50-4DEF-4213-92A0-23F9D2A5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DFCD4-DE55-4A7F-A4AE-D527ABC8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88BB-87E6-4196-806B-3E2B8468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957FF-5DC6-43A0-BA69-2B1F2ED4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ECB8-DE6C-479C-9548-4780C055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69E-11F1-447F-BB8A-22906E61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355B-72FD-4F02-8662-7729CEC0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E8F2-7F1E-4463-948B-9C004BE688FB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7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8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9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0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3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24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5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26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27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039F-D7FC-4E75-884E-6770B7888381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7 Forma libre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8 Forma libre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009dd9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9 Forma libre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d2f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20 Forma libre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23 Forma libre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24 Forma libre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5 Forma libre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26 Forma libre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7 Forma libre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28 Forma libre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29 Forma libre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30 Forma libre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31 Forma libre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32 Forma libre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c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33 Forma libre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d2f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34 Rectángulo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d2f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35 Rectángulo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36 Rectángulo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7 Rectángulo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8 Rectángulo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39 Rectángulo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275F-BC6D-4BF1-BCE0-426B1C603792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7 Rectángulo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d2f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18 Rectángulo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19 Rectángulo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0 Rectángulo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3 Rectángulo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4 Rectángulo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25 Rectángulo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26 Rectángulo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7 Rectángulo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28 Rectángulo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43D2-321E-4C0F-9531-335144052496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6 Rectángulo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7 Rectángulo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8 Rectángulo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9 Rectángulo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0 Rectángulo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1 Rectángulo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4 Rectángulo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5 Rectángulo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6 Rectángulo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7 Rectángulo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8 Conector recto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19 Grupo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252" name="20 Conector recto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23 Conector recto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24 Conector recto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25 Grupo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256" name="26 Conector recto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27 Conector recto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28 Conector recto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29 Grupo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260" name="30 Conector recto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31 Conector recto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32 Conector recto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009dd9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009dd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4617b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4617b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03D4-7BB9-4C98-889D-CACC8A56595D}" type="slidenum">
              <a:rPr b="0" lang="es-ES_tradnl" sz="1200" spc="-1" strike="noStrike">
                <a:solidFill>
                  <a:srgbClr val="04617b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1 Título" descr=""/>
          <p:cNvPicPr/>
          <p:nvPr/>
        </p:nvPicPr>
        <p:blipFill>
          <a:blip r:embed="rId1"/>
          <a:stretch/>
        </p:blipFill>
        <p:spPr>
          <a:xfrm>
            <a:off x="682560" y="434664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857160" y="608652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Noviembre 2008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Qué externalidades positivas generaría para la Isla Caguache para la ejecución del Proyecto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De qué manera podría cuantificar las externalidades positivas del Proyecto?. Para ello, utilice como supuesto la información disponible a nivel de Instituciones Públicas (INE, CNE, etc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Cómo podría saber que el Estado realizó una buena asignación de recursos públicos al decidir realizar el Proyecto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 Person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¿Qué líneas de estudio o qué investigaciones que contribuyan a las metodología de Evaluación Social realizaría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Para responder, recuerde lo desarrollado por Mideplan y plantee los supuestos necesarios para el financiamiento y tiempos para el desarrollo de los estudios planteado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83b7"/>
                </a:solidFill>
                <a:latin typeface="Consolas"/>
              </a:rPr>
              <a:t>Presentació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14040" y="1784520"/>
            <a:ext cx="351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El caso trata sobre la Isla Caguache de la comuna de Quinchao región de Los Lagos, donde actualmente habitan 398 personas,  correspondiente a 106 familia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8" name="4 Imagen" descr="Isla_Caguache_Quinchao.jpg"/>
          <p:cNvPicPr/>
          <p:nvPr/>
        </p:nvPicPr>
        <p:blipFill>
          <a:blip r:embed="rId1"/>
          <a:stretch/>
        </p:blipFill>
        <p:spPr>
          <a:xfrm>
            <a:off x="4702320" y="1071720"/>
            <a:ext cx="408456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Descripción del Problem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00040" y="1714320"/>
            <a:ext cx="814392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urante los últimos años, las familias del lugar </a:t>
            </a: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, gracias a su propio esfuerzo, poseen un par de motores diesel generadores de electricidad, los que fueron importados hace un par de añ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1" name="4 Marcador de contenido" descr="generador_luz_80Hz.jpg"/>
          <p:cNvPicPr/>
          <p:nvPr/>
        </p:nvPicPr>
        <p:blipFill>
          <a:blip r:embed="rId1"/>
          <a:stretch/>
        </p:blipFill>
        <p:spPr>
          <a:xfrm>
            <a:off x="5286240" y="3429000"/>
            <a:ext cx="3409920" cy="2571840"/>
          </a:xfrm>
          <a:prstGeom prst="rect">
            <a:avLst/>
          </a:prstGeom>
          <a:ln w="0">
            <a:noFill/>
          </a:ln>
        </p:spPr>
      </p:pic>
      <p:sp>
        <p:nvSpPr>
          <p:cNvPr id="312" name="2 Marcador de contenido"/>
          <p:cNvSpPr/>
          <p:nvPr/>
        </p:nvSpPr>
        <p:spPr>
          <a:xfrm>
            <a:off x="500040" y="3500280"/>
            <a:ext cx="45720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os generadores están siendo administrados por una cooperativa que cobra 165 $/kWh entregado (IVA inclu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Estructura de Costos Actual y Demand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14400" y="18572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En  estas condiciones, las familias consumen 30 kWh de energía al mes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En el presente, los motores valen 10 MM$  cada uno y podrían ser utilizados por un período de 25 años a los actuales niveles de costos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Los motores funcionan 24 horas por día y consumen, en promedio, 500 litros de petróleo diario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Con esta cifra, el costo variable es de 100$/kWh y sus costos fijos son 5 MM$ anuales, ambas cifras no incluyen IVA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rbel"/>
              </a:rPr>
              <a:t>La estructura del costo variable es 80% combustibles y lubricantes importados (con arancel incluido), 10% mano de obra y 10% otros insumos nacionale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14400" y="178452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Se plantea la posibilidad de que la empresa eléctrica distribuidora “ElectroSur” construya torres que permitan conectar la isla a la red eléctrica del continente por vía aérea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78000" indent="-315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Picture 2" descr="MVC-012F"/>
          <p:cNvPicPr/>
          <p:nvPr/>
        </p:nvPicPr>
        <p:blipFill>
          <a:blip r:embed="rId1"/>
          <a:stretch/>
        </p:blipFill>
        <p:spPr>
          <a:xfrm>
            <a:off x="4857840" y="3143160"/>
            <a:ext cx="386712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914400" y="1784520"/>
            <a:ext cx="4014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a inversión requerida se estima, a costos privados sin IVA, en $500.000 por familia. Dicha inversión será subsidiada por el Estad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rbel"/>
              </a:rPr>
              <a:t>La estructura de costos es 50% insumos importados (con arancel incluido), 30% mano de obra , y 20% otros insumos nacional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MVC-005S"/>
          <p:cNvPicPr/>
          <p:nvPr/>
        </p:nvPicPr>
        <p:blipFill>
          <a:blip r:embed="rId1"/>
          <a:stretch/>
        </p:blipFill>
        <p:spPr>
          <a:xfrm>
            <a:off x="5326200" y="1928880"/>
            <a:ext cx="3390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opuesta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a empresa deberá pagar a la Cooperativa $50.000.000 por el traspaso de la postación existente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os motores serán vendidos por la Cooperativa y serán utilizados en otras islas cercanas. Con esto, la Cooperativa pagará sus deudas actuales y dejará de existir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Modelo de Negocios de la Distribuidor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914400" y="1999800"/>
            <a:ext cx="777240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ElectroSur cobraría a sus usuarios 70 $/kWh, IVA incluido. A este precio las familias consumirían 70 kWh por me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rbel"/>
              </a:rPr>
              <a:t>La empresa compra la electricidad a 30$/kWh. Sus costos fijos de operación y mantención serán de $3.000.000 al añ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83b7"/>
                </a:solidFill>
                <a:latin typeface="Consolas"/>
              </a:rPr>
              <a:t>Pregunta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Para realizar la Evaluación Social del Proyecto, identifique a los agentes afectados por el mism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Enuncie claramente cómo podría cuantificar los Costos Sociales del Proyecto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74040" indent="-311760">
              <a:spcBef>
                <a:spcPts val="700"/>
              </a:spcBef>
              <a:buClr>
                <a:srgbClr val="04617b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orbel"/>
              </a:rPr>
              <a:t>Mencione qué consideraría y cómo calcularía los Beneficios Sociales del Proyecto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30:22Z</dcterms:created>
  <dc:creator>WinuE</dc:creator>
  <dc:description/>
  <dc:language>en-US</dc:language>
  <cp:lastModifiedBy>kcarrasco</cp:lastModifiedBy>
  <dcterms:modified xsi:type="dcterms:W3CDTF">2008-11-16T19:50:23Z</dcterms:modified>
  <cp:revision>68</cp:revision>
  <dc:subject/>
  <dc:title>Sistema Control de Gestión</dc:title>
</cp:coreProperties>
</file>