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C6B-DE1D-402E-9F99-18E5DEBD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67A-CCC9-40C9-9F1E-D4AAC91C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14B-12C9-442F-B8E0-4F59A3B1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D9E-94FE-4E7A-8310-E6165C5A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329A-FF35-4F56-AB6E-9BFC53F5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08B9-C2F4-4A41-B282-BEE32CD5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B24A-807B-43C2-ABED-36836BA2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CE96-2782-452A-A594-0A90DA71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1911-BD1E-4A0C-9CFF-70DD177C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D494-C24B-4717-9822-DD131DF8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50BA-7D10-412C-99B0-7A3C9CB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D51-6484-49E3-9711-11D41075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2F56-5759-47F1-B9B3-AA43CECC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69C8-7D71-403E-9EC5-2CAEAE6C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54F2-44FD-4D2E-AF10-C9138D60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8716-4A1B-4E7F-BAA6-CC2DB77E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C6DA-2B85-4FE5-83AE-7D4B7BF9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C238-3C26-45F3-8F64-D4D0AC60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E6318-63ED-49C7-B1E4-20AA9481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8432-8B29-4917-9DFF-2584BE5A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D041-FF2B-4401-B3CB-86EEDC4E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F952-747F-4D07-A171-4612C383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68C-8EC8-4BE6-A73E-CE5BB2DA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6C5E-0F22-491A-9131-060DE28A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3609-1E3D-4066-978E-2510C98C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B48A-5138-4A88-A839-B5F1CE78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9AB8-7301-44A8-B4C6-373C70C6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94D2-B1F5-4B0C-B200-2D754D19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29FD-D409-4D9E-A9E8-3BBF60D5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35BCE-2CB2-4AF6-B6F2-22A62C19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C69A3-E51B-479F-B550-AB9CF55C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88649-2246-4B85-8191-FD435708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F873-440B-4251-85D2-F391E81C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3FD-8C2D-4BFD-9119-FD105397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32EC6-17F7-4C8D-990B-5BD652FD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5D66C-C10D-42C2-9669-CE9F9920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C8EB7-E7DF-4141-84DF-4CA0AA1F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AA04C-A46E-4C85-986C-ECDE234B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B039A-203D-408D-BAE2-8679370F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9F90-D45F-4124-8552-05B5824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8860-B3EF-4EAE-9EAE-FD51E93F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A300-1854-4B3D-915A-607417CF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8B737-F935-4401-8FA1-89CAB6E2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E603E-1510-4366-8B40-5431A412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09D-0E70-4A60-A76E-4E5D61F9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444C6-D61E-4A62-BA5D-35C3E7A9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7387E-4E48-4F47-AE36-4891CCB6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D0A45-88AF-4CF2-B8E7-47FE0FC5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D0D95-25B6-4B7F-9C88-5F73BD43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5E10F-C033-467F-91ED-C640F4E8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98838-C710-4FAE-820E-8C7E3064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6B67D-C642-44B0-A51A-44D2584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89803-3B13-45CB-93ED-1AD50ABC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50428-4670-4152-93B7-F1103035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B2BB0-7D20-47DA-AABE-D0AB6934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9FB-278E-4227-8A67-A08DDE04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67498-2D93-4CEA-97F5-16F58A52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EC2-4013-4820-9156-A2C795C9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67B-84B2-4C19-A026-B2E2574D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1A7-BE0D-43C6-8124-22E323AB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C61F-C33A-45FA-A9DD-E407AEE35435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31B4-63F2-495E-872D-B88F3413A7E2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94CA-5908-43DC-AB6E-9C943A4D3A70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43C8-A58E-423D-900C-F8AD59798763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252" name="20 Conector recto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23 Conector recto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24 Conector recto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25 Grupo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56" name="26 Conector recto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27 Conector recto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28 Conector recto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260" name="30 Conector recto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31 Conector recto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32 Conector recto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766A-BE03-4A85-9865-DE4961A50B82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682560" y="434664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857160" y="60865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Noviembre 2008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externalidades positivas generaría para la Isla Caguache para la ejecución d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De qué manera podría cuantificar las externalidades positivas del Proyecto?. Para ello, utilice como supuesto la información disponible a nivel de Instituciones Públicas (INE, CNE, etc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Cómo podría saber que el Estado realizó una buena asignación de recursos públicos al decidir realizar 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 Person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líneas de estudio o qué investigaciones que contribuyan a las metodología de Evaluación Social realizaría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sponder, recuerde lo desarrollado por Mideplan y plantee los supuestos necesarios para el financiamiento y tiempos para el desarrollo de los estudios planteado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83b7"/>
                </a:solidFill>
                <a:latin typeface="Consolas"/>
              </a:rPr>
              <a:t>Present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040" y="1784520"/>
            <a:ext cx="351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l caso trata sobre la Isla Caguache de la comuna de Quinchao región de Los Lagos, donde actualmente habitan 398 personas,  correspondiente a 106 famili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4 Imagen" descr="Isla_Caguache_Quinchao.jpg"/>
          <p:cNvPicPr/>
          <p:nvPr/>
        </p:nvPicPr>
        <p:blipFill>
          <a:blip r:embed="rId1"/>
          <a:stretch/>
        </p:blipFill>
        <p:spPr>
          <a:xfrm>
            <a:off x="4702320" y="1071720"/>
            <a:ext cx="4084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Descripción del Problem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0040" y="171432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urante los últimos años, las familias del lugar </a:t>
            </a: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, gracias a su propio esfuerzo, poseen un par de motores diesel generadores de electricidad, los que fueron importados hace un par de a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4 Marcador de contenido" descr="generador_luz_80Hz.jpg"/>
          <p:cNvPicPr/>
          <p:nvPr/>
        </p:nvPicPr>
        <p:blipFill>
          <a:blip r:embed="rId1"/>
          <a:stretch/>
        </p:blipFill>
        <p:spPr>
          <a:xfrm>
            <a:off x="5286240" y="3429000"/>
            <a:ext cx="3409920" cy="2571840"/>
          </a:xfrm>
          <a:prstGeom prst="rect">
            <a:avLst/>
          </a:prstGeom>
          <a:ln w="0">
            <a:noFill/>
          </a:ln>
        </p:spPr>
      </p:pic>
      <p:sp>
        <p:nvSpPr>
          <p:cNvPr id="312" name="2 Marcador de contenido"/>
          <p:cNvSpPr/>
          <p:nvPr/>
        </p:nvSpPr>
        <p:spPr>
          <a:xfrm>
            <a:off x="500040" y="3500280"/>
            <a:ext cx="4572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os generadores están siendo administrados por una cooperativa que cobra 165 $/kWh entregado (IVA inclu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Estructura de Costos Actual y Demand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857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 estas condiciones, las familias consumen 30 kWh de energía al me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el presente, los motores valen 10 MM$  cada uno y podrían ser utilizados por un período de 25 años a los actuales niveles de costo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os motores funcionan 24 horas por día y consumen, en promedio, 500 litros de petróleo diario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Con esta cifra, el costo variable es de 100$/kWh y sus costos fijos son 5 MM$ anuales, ambas cifras no incluyen IVA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a estructura del costo variable es 80% combustibles y lubricantes importados (con arancel incluido), 10% mano de obra y 10% otros insumos nacional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7845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Se plantea la posibilidad de que la empresa eléctrica distribuidora “ElectroSur” construya torres que permitan conectar la isla a la red eléctrica del continente por vía aérea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MVC-012F"/>
          <p:cNvPicPr/>
          <p:nvPr/>
        </p:nvPicPr>
        <p:blipFill>
          <a:blip r:embed="rId1"/>
          <a:stretch/>
        </p:blipFill>
        <p:spPr>
          <a:xfrm>
            <a:off x="4857840" y="314316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784520"/>
            <a:ext cx="401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inversión requerida se estima, a costos privados sin IVA, en $500.000 por familia. Dicha inversión será subsidiada por el Est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estructura de costos es 50% insumos importados (con arancel incluido), 30% mano de obra , y 20% otros insumos nacional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MVC-005S"/>
          <p:cNvPicPr/>
          <p:nvPr/>
        </p:nvPicPr>
        <p:blipFill>
          <a:blip r:embed="rId1"/>
          <a:stretch/>
        </p:blipFill>
        <p:spPr>
          <a:xfrm>
            <a:off x="5326200" y="1928880"/>
            <a:ext cx="3390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deberá pagar a la Cooperativa $50.000.000 por el traspaso de la postación existent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os motores serán vendidos por la Cooperativa y serán utilizados en otras islas cercanas. Con esto, la Cooperativa pagará sus deudas actuales y dejará de existi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Modelo de Negocios de la Distribuido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99980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ElectroSur cobraría a sus usuarios 70 $/kWh, IVA incluido. A este precio las familias consumirían 70 kWh por m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compra la electricidad a 30$/kWh. Sus costos fijos de operación y mantención serán de $3.000.000 al añ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alizar la Evaluación Social del Proyecto, identifique a los agentes afectados por el mis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Enuncie claramente cómo podría cuantificar los Costos Sociales del Proyect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Mencione qué consideraría y cómo calcularía los Beneficios Sociales del Proyecto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0:22Z</dcterms:created>
  <dc:creator>WinuE</dc:creator>
  <dc:description/>
  <dc:language>en-US</dc:language>
  <cp:lastModifiedBy>kcarrasco</cp:lastModifiedBy>
  <dcterms:modified xsi:type="dcterms:W3CDTF">2008-11-16T19:50:23Z</dcterms:modified>
  <cp:revision>68</cp:revision>
  <dc:subject/>
  <dc:title>Sistema Control de Gestión</dc:title>
</cp:coreProperties>
</file>