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82BC6-0213-4240-ACFB-32460270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DA2BA-D7CE-4B5C-8EE4-6C29AF98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2B39C-B079-4CA1-BC02-E9F5E7D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9EC92-DC7E-4B2C-9944-D574F7F0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AB579-F902-49C8-95C9-BFEC9BE3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F0E08-FF0F-4256-82E9-12EA92F6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F6953-59BF-4270-B4F0-A6777EE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5E951-C40B-43CE-9119-04FC6B20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B478B-EE1E-42AD-A0F6-634854B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00F8C-278F-4056-A178-9948B65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66869-3928-41CA-9B7E-14D71567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1A2D5-3F41-4972-B10C-A47DA2CD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71AF-3736-44C2-9A36-29BBB1FED4FB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paración y Evaluación de Proyectos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3a. ed.,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 Nassir y Reinaldo Sapag. Capítulo 1 y 2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tapas de la Ev.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96280" cy="22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roceso iterativo, etapas de idea y preinvers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63640" y="2133720"/>
            <a:ext cx="5802480" cy="2542320"/>
            <a:chOff x="1763640" y="2133720"/>
            <a:chExt cx="5802480" cy="2542320"/>
          </a:xfrm>
        </p:grpSpPr>
        <p:grpSp>
          <p:nvGrpSpPr>
            <p:cNvPr id="177" name=""/>
            <p:cNvGrpSpPr/>
            <p:nvPr/>
          </p:nvGrpSpPr>
          <p:grpSpPr>
            <a:xfrm>
              <a:off x="1774800" y="2133720"/>
              <a:ext cx="5791320" cy="685080"/>
              <a:chOff x="1774800" y="2133720"/>
              <a:chExt cx="5791320" cy="685080"/>
            </a:xfrm>
          </p:grpSpPr>
          <p:sp>
            <p:nvSpPr>
              <p:cNvPr id="178" name=""/>
              <p:cNvSpPr/>
              <p:nvPr/>
            </p:nvSpPr>
            <p:spPr>
              <a:xfrm>
                <a:off x="1774800" y="213372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5720" y="259056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763640" y="2847960"/>
              <a:ext cx="5791320" cy="1828080"/>
              <a:chOff x="1763640" y="2847960"/>
              <a:chExt cx="5791320" cy="18280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763640" y="2847960"/>
                <a:ext cx="5791320" cy="685080"/>
                <a:chOff x="1763640" y="2847960"/>
                <a:chExt cx="5791320" cy="6850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763640" y="284796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54560" y="330480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1763640" y="42192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1763640" y="3533400"/>
                <a:ext cx="5791320" cy="685080"/>
                <a:chOff x="1763640" y="3533400"/>
                <a:chExt cx="5791320" cy="685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763640" y="353340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354560" y="399024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"/>
          <p:cNvSpPr/>
          <p:nvPr/>
        </p:nvSpPr>
        <p:spPr>
          <a:xfrm rot="10516200">
            <a:off x="971280" y="2205000"/>
            <a:ext cx="504720" cy="2160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realiz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prefactibi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06520" indent="-506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68680" indent="-4204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8680" indent="-4204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8680" indent="-4204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06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06520" indent="-506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68680" indent="-4204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8680" indent="-4204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Anita Ramírez</cp:lastModifiedBy>
  <cp:lastPrinted>2002-11-13T13:47:55Z</cp:lastPrinted>
  <dcterms:modified xsi:type="dcterms:W3CDTF">2007-02-05T14:56:57Z</dcterms:modified>
  <cp:revision>350</cp:revision>
  <dc:subject/>
  <dc:title>Formulación de Proyectos</dc:title>
</cp:coreProperties>
</file>