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DIAPO.WAV" ContentType="audio/x-wav"/>
  <Override PartName="/ppt/media/CLIC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6A958-4F31-4CC2-9B7C-CB669262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9DC8F-DCC6-444B-A118-BDE99CE7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020F3-4C33-4D6F-812E-1F28E269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F8FAA-A3D2-4E78-82D6-AFF40492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AC555-4CBA-4A0F-9F33-33E25905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B90A1-CE00-430D-8536-1B60CEC3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99945-4C67-4D73-A889-BE3E73B2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DA216-C8E7-4C09-A9AE-9A07AC8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4EB5C-F858-40E9-8AB4-0092941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18831-BE18-46B3-8D42-0A37E4FA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A6F2F-D411-40D3-A680-0085CE3A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481C4-1FCF-4D25-811F-1EC45823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4AF9-69FD-4434-9AEC-C7B82CB9CA25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Igor Riquelme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amilo Vi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 y una charla con asistencia obligatori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906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490680" indent="-49068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o de Ca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760" y="237636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sponde 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Neutralizar amena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rregir debil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provechar oportun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xplotar fortale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886200"/>
            <a:ext cx="40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Buscar oportunidades que puedan posicionar la empresa con una ventaja competitiva que le permita obtener una rentabilidad superior al costo de capit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743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2520" y="47498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CREAR VAL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952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48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Intenta lograr una 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ventaja sostenible a largo plazo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en cada uno de sus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5235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990720"/>
            <a:ext cx="5562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99072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Misión del Negoci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ámbitos: de producto, de mercado y geográfic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identificación de las competencias distintiv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(modo de conseguir un liderazgo competitiv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209680"/>
            <a:ext cx="358164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408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in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ríticos para lograr una ventaj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Fortalezas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209680"/>
            <a:ext cx="35812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116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ex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que contribuyen al atractivo de l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Oportun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y Amena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343400"/>
            <a:ext cx="36576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4402080"/>
            <a:ext cx="3549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Formulación de la Estrateg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 Negoci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Generación de proyectos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gramas generales de ac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00400" y="5335560"/>
            <a:ext cx="3657240" cy="912960"/>
            <a:chOff x="3200400" y="5335560"/>
            <a:chExt cx="3657240" cy="912960"/>
          </a:xfrm>
        </p:grpSpPr>
        <p:sp>
          <p:nvSpPr>
            <p:cNvPr id="208" name=""/>
            <p:cNvSpPr/>
            <p:nvPr/>
          </p:nvSpPr>
          <p:spPr>
            <a:xfrm>
              <a:off x="3200400" y="5410080"/>
              <a:ext cx="36572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ogramación Estratégic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Definición y evaluación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programas específicos de ac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8840" y="5335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6249960"/>
            <a:ext cx="3657240" cy="379440"/>
            <a:chOff x="3200400" y="6249960"/>
            <a:chExt cx="3657240" cy="379440"/>
          </a:xfrm>
        </p:grpSpPr>
        <p:sp>
          <p:nvSpPr>
            <p:cNvPr id="211" name=""/>
            <p:cNvSpPr/>
            <p:nvPr/>
          </p:nvSpPr>
          <p:spPr>
            <a:xfrm>
              <a:off x="3200400" y="6302520"/>
              <a:ext cx="365724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esupuesto y Control de Gest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8840" y="62499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97280" y="2135160"/>
            <a:ext cx="4417920" cy="2208240"/>
            <a:chOff x="2897280" y="2135160"/>
            <a:chExt cx="4417920" cy="2208240"/>
          </a:xfrm>
        </p:grpSpPr>
        <p:sp>
          <p:nvSpPr>
            <p:cNvPr id="214" name=""/>
            <p:cNvSpPr/>
            <p:nvPr/>
          </p:nvSpPr>
          <p:spPr>
            <a:xfrm>
              <a:off x="5029200" y="213516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411624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06960" y="411624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45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sten dos grupos de factores centrale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el atractivo de la industria en que está inserto el negocio y el comportamiento de los competidores, medido primariamente por sus perspectivas de rentabilidad a largo plazo (externos y poco controlabl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la ventaja del negocio en relación a los otros competidores de la industria (internos y controlables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Elección de una Estrategia Competitiv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55760" y="72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289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ter postula que hay cinco fuerzas que conforman típicamente la estructura de la industri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tensidad de la rivalidad entre competi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nuevos particip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sustitu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compra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provee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78000" indent="-289080"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 acción conjunta de estas fuerzas determina la rentabilidad potencial en el sector industrial, en donde el potencial de utilidades se mide en términos del rendimiento a largo plazo del capital invertid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28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Estructural del Sector Industrial o el Modelo de las Cinco Fuerzas (Michael Porter)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71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2440" y="73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0080" y="2590920"/>
            <a:ext cx="2070000" cy="220032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eti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Actual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276720"/>
            <a:ext cx="167652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ra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95800"/>
            <a:ext cx="166068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rovee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29280"/>
            <a:ext cx="142236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Sustitut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1143000"/>
            <a:ext cx="175284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Nuev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articip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95240" y="2532240"/>
            <a:ext cx="1873800" cy="1201680"/>
            <a:chOff x="1695240" y="2532240"/>
            <a:chExt cx="1873800" cy="1201680"/>
          </a:xfrm>
        </p:grpSpPr>
        <p:sp>
          <p:nvSpPr>
            <p:cNvPr id="230" name=""/>
            <p:cNvSpPr/>
            <p:nvPr/>
          </p:nvSpPr>
          <p:spPr>
            <a:xfrm>
              <a:off x="2370240" y="3308040"/>
              <a:ext cx="1139760" cy="425880"/>
            </a:xfrm>
            <a:prstGeom prst="rightArrow">
              <a:avLst>
                <a:gd name="adj1" fmla="val 50000"/>
                <a:gd name="adj2" fmla="val 66931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95240" y="2532240"/>
              <a:ext cx="1873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Provee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61000" y="3244680"/>
            <a:ext cx="1671120" cy="1576800"/>
            <a:chOff x="3861000" y="3244680"/>
            <a:chExt cx="1671120" cy="1576800"/>
          </a:xfrm>
        </p:grpSpPr>
        <p:sp>
          <p:nvSpPr>
            <p:cNvPr id="233" name=""/>
            <p:cNvSpPr/>
            <p:nvPr/>
          </p:nvSpPr>
          <p:spPr>
            <a:xfrm>
              <a:off x="4233960" y="3244680"/>
              <a:ext cx="1038240" cy="744480"/>
            </a:xfrm>
            <a:custGeom>
              <a:avLst/>
              <a:gdLst/>
              <a:ahLst/>
              <a:rect l="l" t="t" r="r" b="b"/>
              <a:pathLst>
                <a:path w="654" h="469">
                  <a:moveTo>
                    <a:pt x="433" y="155"/>
                  </a:moveTo>
                  <a:lnTo>
                    <a:pt x="433" y="184"/>
                  </a:lnTo>
                  <a:lnTo>
                    <a:pt x="422" y="214"/>
                  </a:lnTo>
                  <a:lnTo>
                    <a:pt x="411" y="239"/>
                  </a:lnTo>
                  <a:lnTo>
                    <a:pt x="394" y="265"/>
                  </a:lnTo>
                  <a:lnTo>
                    <a:pt x="371" y="284"/>
                  </a:lnTo>
                  <a:lnTo>
                    <a:pt x="349" y="298"/>
                  </a:lnTo>
                  <a:lnTo>
                    <a:pt x="321" y="306"/>
                  </a:lnTo>
                  <a:lnTo>
                    <a:pt x="293" y="309"/>
                  </a:lnTo>
                  <a:lnTo>
                    <a:pt x="264" y="306"/>
                  </a:lnTo>
                  <a:lnTo>
                    <a:pt x="236" y="298"/>
                  </a:lnTo>
                  <a:lnTo>
                    <a:pt x="214" y="284"/>
                  </a:lnTo>
                  <a:lnTo>
                    <a:pt x="191" y="265"/>
                  </a:lnTo>
                  <a:lnTo>
                    <a:pt x="174" y="239"/>
                  </a:lnTo>
                  <a:lnTo>
                    <a:pt x="157" y="214"/>
                  </a:lnTo>
                  <a:lnTo>
                    <a:pt x="152" y="184"/>
                  </a:lnTo>
                  <a:lnTo>
                    <a:pt x="146" y="155"/>
                  </a:lnTo>
                  <a:lnTo>
                    <a:pt x="0" y="155"/>
                  </a:lnTo>
                  <a:lnTo>
                    <a:pt x="5" y="217"/>
                  </a:lnTo>
                  <a:lnTo>
                    <a:pt x="22" y="276"/>
                  </a:lnTo>
                  <a:lnTo>
                    <a:pt x="50" y="332"/>
                  </a:lnTo>
                  <a:lnTo>
                    <a:pt x="84" y="376"/>
                  </a:lnTo>
                  <a:lnTo>
                    <a:pt x="129" y="416"/>
                  </a:lnTo>
                  <a:lnTo>
                    <a:pt x="180" y="442"/>
                  </a:lnTo>
                  <a:lnTo>
                    <a:pt x="231" y="461"/>
                  </a:lnTo>
                  <a:lnTo>
                    <a:pt x="293" y="468"/>
                  </a:lnTo>
                  <a:lnTo>
                    <a:pt x="349" y="461"/>
                  </a:lnTo>
                  <a:lnTo>
                    <a:pt x="405" y="442"/>
                  </a:lnTo>
                  <a:lnTo>
                    <a:pt x="450" y="416"/>
                  </a:lnTo>
                  <a:lnTo>
                    <a:pt x="495" y="376"/>
                  </a:lnTo>
                  <a:lnTo>
                    <a:pt x="529" y="332"/>
                  </a:lnTo>
                  <a:lnTo>
                    <a:pt x="557" y="276"/>
                  </a:lnTo>
                  <a:lnTo>
                    <a:pt x="574" y="217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653" y="155"/>
                  </a:lnTo>
                  <a:lnTo>
                    <a:pt x="507" y="0"/>
                  </a:lnTo>
                  <a:lnTo>
                    <a:pt x="366" y="155"/>
                  </a:lnTo>
                  <a:lnTo>
                    <a:pt x="433" y="155"/>
                  </a:lnTo>
                  <a:lnTo>
                    <a:pt x="433" y="15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1000" y="4030200"/>
              <a:ext cx="167112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Rivalidad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competi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ct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70080" y="4844880"/>
            <a:ext cx="1839960" cy="1120680"/>
            <a:chOff x="3070080" y="4844880"/>
            <a:chExt cx="1839960" cy="1120680"/>
          </a:xfrm>
        </p:grpSpPr>
        <p:sp>
          <p:nvSpPr>
            <p:cNvPr id="236" name=""/>
            <p:cNvSpPr/>
            <p:nvPr/>
          </p:nvSpPr>
          <p:spPr>
            <a:xfrm>
              <a:off x="3070080" y="5275080"/>
              <a:ext cx="1568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menaza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Sustitu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6080" y="4844880"/>
              <a:ext cx="453960" cy="1120680"/>
            </a:xfrm>
            <a:prstGeom prst="upArrow">
              <a:avLst>
                <a:gd name="adj1" fmla="val 50000"/>
                <a:gd name="adj2" fmla="val 61694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21120" y="3378240"/>
            <a:ext cx="1986480" cy="1316880"/>
            <a:chOff x="5721120" y="3378240"/>
            <a:chExt cx="1986480" cy="1316880"/>
          </a:xfrm>
        </p:grpSpPr>
        <p:sp>
          <p:nvSpPr>
            <p:cNvPr id="239" name=""/>
            <p:cNvSpPr/>
            <p:nvPr/>
          </p:nvSpPr>
          <p:spPr>
            <a:xfrm>
              <a:off x="5721120" y="3903840"/>
              <a:ext cx="1986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Compra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9520" y="3378240"/>
              <a:ext cx="1149480" cy="415800"/>
            </a:xfrm>
            <a:prstGeom prst="leftArrow">
              <a:avLst>
                <a:gd name="adj1" fmla="val 50000"/>
                <a:gd name="adj2" fmla="val 69087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6920" y="304920"/>
            <a:ext cx="76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ementos de la estructura de la industri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79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Amenaza de nuevos participant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32080" y="79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4360" y="56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92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Sali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812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468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Entra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0160" y="3838320"/>
            <a:ext cx="2187720" cy="2732400"/>
            <a:chOff x="6410160" y="3838320"/>
            <a:chExt cx="2187720" cy="2732400"/>
          </a:xfrm>
        </p:grpSpPr>
        <p:sp>
          <p:nvSpPr>
            <p:cNvPr id="256" name=""/>
            <p:cNvSpPr/>
            <p:nvPr/>
          </p:nvSpPr>
          <p:spPr>
            <a:xfrm flipV="1">
              <a:off x="7748640" y="3838320"/>
              <a:ext cx="849240" cy="27320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0160" y="657072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7680" y="5103720"/>
              <a:ext cx="1079640" cy="29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Servici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76400" y="1083960"/>
            <a:ext cx="6657840" cy="695160"/>
            <a:chOff x="1076400" y="1083960"/>
            <a:chExt cx="6657840" cy="695160"/>
          </a:xfrm>
        </p:grpSpPr>
        <p:sp>
          <p:nvSpPr>
            <p:cNvPr id="260" name=""/>
            <p:cNvSpPr/>
            <p:nvPr/>
          </p:nvSpPr>
          <p:spPr>
            <a:xfrm>
              <a:off x="3074400" y="1212840"/>
              <a:ext cx="329688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Infraestructura de la Firm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76400" y="1083960"/>
              <a:ext cx="0" cy="695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5760"/>
              <a:ext cx="665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76400" y="1769760"/>
            <a:ext cx="6877080" cy="695160"/>
            <a:chOff x="1076400" y="1769760"/>
            <a:chExt cx="6877080" cy="695160"/>
          </a:xfrm>
        </p:grpSpPr>
        <p:sp>
          <p:nvSpPr>
            <p:cNvPr id="264" name=""/>
            <p:cNvSpPr/>
            <p:nvPr/>
          </p:nvSpPr>
          <p:spPr>
            <a:xfrm>
              <a:off x="6411960" y="1771560"/>
              <a:ext cx="1541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5600" y="1898640"/>
              <a:ext cx="362016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Manejo de Recursos Humano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6400" y="1769760"/>
              <a:ext cx="5343480" cy="695160"/>
              <a:chOff x="1076400" y="1769760"/>
              <a:chExt cx="5343480" cy="69516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1076400" y="17697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7840" y="17715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76400" y="2455560"/>
            <a:ext cx="7105680" cy="695160"/>
            <a:chOff x="1076400" y="2455560"/>
            <a:chExt cx="7105680" cy="695160"/>
          </a:xfrm>
        </p:grpSpPr>
        <p:sp>
          <p:nvSpPr>
            <p:cNvPr id="270" name=""/>
            <p:cNvSpPr/>
            <p:nvPr/>
          </p:nvSpPr>
          <p:spPr>
            <a:xfrm>
              <a:off x="6411960" y="2457360"/>
              <a:ext cx="1770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4200" y="2546280"/>
              <a:ext cx="301680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Desarrollo de Tecnologí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76400" y="2455560"/>
              <a:ext cx="5343480" cy="695160"/>
              <a:chOff x="1076400" y="2455560"/>
              <a:chExt cx="5343480" cy="69516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076400" y="24555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7840" y="24573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076400" y="3141360"/>
            <a:ext cx="7524720" cy="695160"/>
            <a:chOff x="1076400" y="3141360"/>
            <a:chExt cx="7524720" cy="695160"/>
          </a:xfrm>
        </p:grpSpPr>
        <p:sp>
          <p:nvSpPr>
            <p:cNvPr id="276" name=""/>
            <p:cNvSpPr/>
            <p:nvPr/>
          </p:nvSpPr>
          <p:spPr>
            <a:xfrm>
              <a:off x="6411960" y="3828960"/>
              <a:ext cx="2189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3143160"/>
              <a:ext cx="19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8640" y="3251160"/>
              <a:ext cx="176832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Adquisicion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076400" y="3141360"/>
              <a:ext cx="5343480" cy="695160"/>
              <a:chOff x="1076400" y="3141360"/>
              <a:chExt cx="5343480" cy="695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076400" y="31413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77840" y="31431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409840" y="1773360"/>
            <a:ext cx="4000320" cy="2055600"/>
            <a:chOff x="2409840" y="1773360"/>
            <a:chExt cx="4000320" cy="2055600"/>
          </a:xfrm>
        </p:grpSpPr>
        <p:sp>
          <p:nvSpPr>
            <p:cNvPr id="283" name=""/>
            <p:cNvSpPr/>
            <p:nvPr/>
          </p:nvSpPr>
          <p:spPr>
            <a:xfrm flipV="1">
              <a:off x="507672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74328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0984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1016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36040" y="1085760"/>
            <a:ext cx="1188720" cy="5486400"/>
            <a:chOff x="7736040" y="1085760"/>
            <a:chExt cx="1188720" cy="5486400"/>
          </a:xfrm>
        </p:grpSpPr>
        <p:sp>
          <p:nvSpPr>
            <p:cNvPr id="288" name=""/>
            <p:cNvSpPr/>
            <p:nvPr/>
          </p:nvSpPr>
          <p:spPr>
            <a:xfrm flipV="1">
              <a:off x="8077320" y="3828600"/>
              <a:ext cx="846000" cy="2724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54760" y="1087560"/>
              <a:ext cx="846360" cy="2741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8760" y="1096920"/>
              <a:ext cx="846000" cy="2741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6040" y="1085760"/>
              <a:ext cx="35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4760" y="6572160"/>
              <a:ext cx="35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8920" y="333360"/>
            <a:ext cx="695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Interno: Cadena de Valo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440000">
            <a:off x="7765560" y="2170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6420000">
            <a:off x="7765560" y="505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tarea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 (salvo el último CL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de Casos (1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2 caso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1211400"/>
            <a:ext cx="86104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segmentación del negocio, 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idea es buscar una ventaja competitiva, que se traduce en un nivel de rentabilidad por sobre el promedi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identifican dos estrategias genéricas (categorías de estrategias) para alcanzar una ventaja competitiva sostenible: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4320" y="5267160"/>
            <a:ext cx="311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Liderazgo en cost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Diferenci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458136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3300"/>
                </a:solidFill>
                <a:latin typeface="Verdana"/>
              </a:rPr>
              <a:t>Estrategias Competitivas Genéric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53416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Liderazgo general en costos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requiere la construcción de instalaciones a escala eficiente; reducción de costos en producción, gastos generales, I&amp;D, servicio, equipo de ventas, publicidad; evitar clientes marginales; etc. El margen se obtiene reduciendo el cost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Diferenci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n ambos casos puede existir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Focaliz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concentrarse en un grupo particular de compradores (segmento de mercado), productos o ámbito geográfico. Hay focalización tanto en diferenciación como en liderazgo en costo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alternativ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aso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 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Interpretar resultados obtenidos de la evaluación de un proyecto, bajo diferentes método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cepto de Proyect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texto de mercado, Análisis Estratégic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proyectos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akettlun</cp:lastModifiedBy>
  <cp:lastPrinted>2002-11-13T13:47:55Z</cp:lastPrinted>
  <dcterms:modified xsi:type="dcterms:W3CDTF">2008-07-29T16:35:53Z</dcterms:modified>
  <cp:revision>384</cp:revision>
  <dc:subject/>
  <dc:title>Formulación de Proyectos</dc:title>
</cp:coreProperties>
</file>