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D7863-9BDE-4CC3-8721-E1ADFCC79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89C2B-7FF2-45EF-BDB0-7B5506F5C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32E86-46FA-4778-A851-37F1FD7D9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DFE28-BE05-406A-A8E0-7B4ED6D0A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5B383-DD45-4F4B-A374-9F17A36DD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4B157-FC9F-4194-B43E-720945E46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61B1A-0DDE-4E39-8E2D-F07FE4BA7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24B1F-87A4-4590-86C6-3BB41C8EF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8EB0A-3586-4C5E-B438-F4E24320B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6BE72-0BE5-4D8B-95E3-444F16B0D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70D1B-8DE0-46F9-81FC-EF9FB5988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EE105-6A24-45B9-BF27-767610294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732E2-9828-46C3-901D-5AA9A67E1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20058-D499-40E2-927F-693C09164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A11E4-4D1B-4C87-BE8F-C5FF7590C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1EEC3-4F58-4C3D-92EE-3538B9892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A4846-30A4-4261-9248-A95EBDDA6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BA503-F16B-4BED-90F4-4D460D593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89ECE-14D8-459C-A58D-39739EA99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503F8-5A3A-44B2-8F6E-263A7548B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A922-EDA1-4B79-B6D5-2F6097A28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81767-D133-4378-B4FF-506BCC8CF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B9E1C-7D1D-4D6B-B868-3F583AF1B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A769-751F-4168-9643-84C0C31ED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C987-B537-4EE0-B981-D6D7E05CEA4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D4C5-487B-499D-A274-C9B1A2C22D1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38" name=""/>
          <p:cNvGrpSpPr/>
          <p:nvPr/>
        </p:nvGrpSpPr>
        <p:grpSpPr>
          <a:xfrm>
            <a:off x="1757160" y="4003560"/>
            <a:ext cx="4478400" cy="1180440"/>
            <a:chOff x="1757160" y="4003560"/>
            <a:chExt cx="4478400" cy="1180440"/>
          </a:xfrm>
        </p:grpSpPr>
        <p:sp>
          <p:nvSpPr>
            <p:cNvPr id="239"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0"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1"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2"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5"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6"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7"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48"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9"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0"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1"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2"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5"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58"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59"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0"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1"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2"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6"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7"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8"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0"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1"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2"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3"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4"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6"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7"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78"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79"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2"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3" name=""/>
          <p:cNvGrpSpPr/>
          <p:nvPr/>
        </p:nvGrpSpPr>
        <p:grpSpPr>
          <a:xfrm>
            <a:off x="1191960" y="5229360"/>
            <a:ext cx="4780080" cy="1069200"/>
            <a:chOff x="1191960" y="5229360"/>
            <a:chExt cx="4780080" cy="1069200"/>
          </a:xfrm>
        </p:grpSpPr>
        <p:sp>
          <p:nvSpPr>
            <p:cNvPr id="284"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5"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6"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7"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8"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0"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292"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293" name=""/>
          <p:cNvGrpSpPr/>
          <p:nvPr/>
        </p:nvGrpSpPr>
        <p:grpSpPr>
          <a:xfrm>
            <a:off x="1805400" y="5241960"/>
            <a:ext cx="5356080" cy="1069200"/>
            <a:chOff x="1805400" y="5241960"/>
            <a:chExt cx="5356080" cy="1069200"/>
          </a:xfrm>
        </p:grpSpPr>
        <p:sp>
          <p:nvSpPr>
            <p:cNvPr id="294"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295"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96"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97"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8"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02" name=""/>
          <p:cNvGraphicFramePr/>
          <p:nvPr/>
        </p:nvGraphicFramePr>
        <p:xfrm>
          <a:off x="2514600" y="2838600"/>
          <a:ext cx="4114800" cy="1504800"/>
        </p:xfrm>
        <a:graphic>
          <a:graphicData uri="http://schemas.openxmlformats.org/presentationml/2006/ole">
            <p:oleObj progId="Excel.Sheet.12" r:id="rId2" spid="">
              <p:embed/>
              <p:pic>
                <p:nvPicPr>
                  <p:cNvPr id="303"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5"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06"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07"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08"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09"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10"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2"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13"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4"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15"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16"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8"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19"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2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22"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3"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24"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1998-10-03T13:45:26Z</cp:lastPrinted>
  <dcterms:modified xsi:type="dcterms:W3CDTF">2008-09-03T01:14:30Z</dcterms:modified>
  <cp:revision>108</cp:revision>
  <dc:subject/>
  <dc:title>Indicadores de Evaluación de Proyectos</dc:title>
</cp:coreProperties>
</file>