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1EB64-D06D-4899-BDEA-EAC830C91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DF92-2C68-492C-A6DE-20C553D14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282F1-9C36-42E0-8ECB-0B81E1170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F0965-F547-40DC-AE43-38CA089F9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D2020-6022-43F0-AA25-023F85394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AC045-1A2C-4D80-88C1-7E050C4D3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C1F3F-9B21-4501-9698-FB5A57D98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A08E6-090F-4E63-A834-780FC9170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06E3E-4B57-4154-93E5-E9F6F2CC2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D9650-9E32-4FFF-8759-3C5127875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413F7-7681-4907-8F81-F0286B27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5CCD-E5DF-454E-83EB-92D40354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E077-8460-48C7-864D-B415E6D06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B2F4-F1FB-4914-A59B-A4215D976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95810-4731-4E51-9A67-B97430CA7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84B28-8738-4320-B609-0965E9C4E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EFF9F-D06C-45A6-8000-E902E5C0C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C7E5-6F5C-47F7-9AE6-055F3939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F35B-7F4F-4517-A580-C0402C98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4086-3ECE-492E-A0FE-FF5F8476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7154-17B0-4B21-913D-195CF1B0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8518-82BD-48A5-9FF4-6A0F9ED6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6A0B-7127-449A-91D8-5CD1FEAC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403E-800D-4B1E-9C57-9CBDE10A8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846E-3FB7-437D-822E-8F690481C35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A6D8-79F9-4355-BBF9-AD20FC20DA4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08-09-03T01:14:30Z</dcterms:modified>
  <cp:revision>108</cp:revision>
  <dc:subject/>
  <dc:title>Indicadores de Evaluación de Proyectos</dc:title>
</cp:coreProperties>
</file>