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798F8F-AAD7-4877-B014-006D2628D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4D7B6C-7730-4677-8620-CF07C0256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7583B8-9733-480E-BB6B-78AA746FF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E21E5F-8B9A-40E4-8A46-20814638B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813C93-1582-4D2D-B88E-405833DBD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D592A1-EC20-4C39-BDCC-AB40DB98D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C2179C-C9C6-43D9-8060-1D4AF7D2A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D498F4-E673-416A-880C-9EB98DE1F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6BAD49-D32F-4501-8EFD-36FB80956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A04E5A-B3E8-442F-9E29-C6AA64A1A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B3DF72-6501-471B-A4EA-CFE9ECFF2D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47201B3-015C-4375-A475-73053DDBC82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DFE6-E866-41CA-85BB-200CDA409F6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0</a:t>
            </a:r>
            <a:r>
              <a:rPr b="0" lang="es-ES" sz="3000" spc="-1" strike="noStrike">
                <a:solidFill>
                  <a:srgbClr val="4d4d4d"/>
                </a:solidFill>
                <a:latin typeface="Verdana"/>
              </a:rPr>
              <a:t> hoy, estará dispuesta a invertir esa cantidad (y dejar de consumir hoy) siempre que al cabo de un período reciba el </a:t>
            </a:r>
            <a:r>
              <a:rPr b="0" lang="es-ES" sz="3000" spc="-1" strike="noStrike">
                <a:solidFill>
                  <a:srgbClr val="008000"/>
                </a:solidFill>
                <a:latin typeface="Verdana"/>
              </a:rPr>
              <a:t>$1.0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2"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4"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5"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6"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57"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58"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1"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5" name=""/>
          <p:cNvGrpSpPr/>
          <p:nvPr/>
        </p:nvGrpSpPr>
        <p:grpSpPr>
          <a:xfrm>
            <a:off x="1568520" y="2708280"/>
            <a:ext cx="7099200" cy="2351520"/>
            <a:chOff x="1568520" y="2708280"/>
            <a:chExt cx="7099200" cy="2351520"/>
          </a:xfrm>
        </p:grpSpPr>
        <p:sp>
          <p:nvSpPr>
            <p:cNvPr id="166"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67"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68"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9"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0"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1"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2"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3"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4"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6"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77"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79" name="" descr=""/>
          <p:cNvPicPr/>
          <p:nvPr/>
        </p:nvPicPr>
        <p:blipFill>
          <a:blip r:embed="rId1"/>
          <a:stretch/>
        </p:blipFill>
        <p:spPr>
          <a:xfrm>
            <a:off x="566640" y="2389320"/>
            <a:ext cx="3913200" cy="2798640"/>
          </a:xfrm>
          <a:prstGeom prst="rect">
            <a:avLst/>
          </a:prstGeom>
          <a:ln w="0">
            <a:noFill/>
          </a:ln>
        </p:spPr>
      </p:pic>
      <p:sp>
        <p:nvSpPr>
          <p:cNvPr id="180"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1"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2"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4"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5"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88" name=""/>
          <p:cNvGrpSpPr/>
          <p:nvPr/>
        </p:nvGrpSpPr>
        <p:grpSpPr>
          <a:xfrm>
            <a:off x="3327480" y="5013360"/>
            <a:ext cx="1093680" cy="466560"/>
            <a:chOff x="3327480" y="5013360"/>
            <a:chExt cx="1093680" cy="466560"/>
          </a:xfrm>
        </p:grpSpPr>
        <p:sp>
          <p:nvSpPr>
            <p:cNvPr id="189"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2"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3" name=""/>
          <p:cNvGrpSpPr/>
          <p:nvPr/>
        </p:nvGrpSpPr>
        <p:grpSpPr>
          <a:xfrm>
            <a:off x="2122560" y="5065560"/>
            <a:ext cx="1184040" cy="466920"/>
            <a:chOff x="2122560" y="5065560"/>
            <a:chExt cx="1184040" cy="466920"/>
          </a:xfrm>
        </p:grpSpPr>
        <p:sp>
          <p:nvSpPr>
            <p:cNvPr id="194"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8" name=""/>
          <p:cNvGrpSpPr/>
          <p:nvPr/>
        </p:nvGrpSpPr>
        <p:grpSpPr>
          <a:xfrm>
            <a:off x="4478400" y="5013360"/>
            <a:ext cx="1185840" cy="466560"/>
            <a:chOff x="4478400" y="5013360"/>
            <a:chExt cx="1185840" cy="466560"/>
          </a:xfrm>
        </p:grpSpPr>
        <p:sp>
          <p:nvSpPr>
            <p:cNvPr id="199"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1"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2"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3"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4" name=""/>
          <p:cNvGrpSpPr/>
          <p:nvPr/>
        </p:nvGrpSpPr>
        <p:grpSpPr>
          <a:xfrm>
            <a:off x="5683320" y="5013360"/>
            <a:ext cx="1184040" cy="519120"/>
            <a:chOff x="5683320" y="5013360"/>
            <a:chExt cx="1184040" cy="519120"/>
          </a:xfrm>
        </p:grpSpPr>
        <p:sp>
          <p:nvSpPr>
            <p:cNvPr id="205"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6"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7"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8"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09"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0"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1"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2"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5"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6"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17"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18"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19"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1"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2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2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25" name=""/>
          <p:cNvGrpSpPr/>
          <p:nvPr/>
        </p:nvGrpSpPr>
        <p:grpSpPr>
          <a:xfrm>
            <a:off x="468360" y="4890960"/>
            <a:ext cx="3600000" cy="627120"/>
            <a:chOff x="468360" y="4890960"/>
            <a:chExt cx="3600000" cy="627120"/>
          </a:xfrm>
        </p:grpSpPr>
        <p:sp>
          <p:nvSpPr>
            <p:cNvPr id="22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3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3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4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4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42" name=""/>
          <p:cNvGrpSpPr/>
          <p:nvPr/>
        </p:nvGrpSpPr>
        <p:grpSpPr>
          <a:xfrm>
            <a:off x="468360" y="4890960"/>
            <a:ext cx="3600000" cy="627120"/>
            <a:chOff x="468360" y="4890960"/>
            <a:chExt cx="3600000" cy="627120"/>
          </a:xfrm>
        </p:grpSpPr>
        <p:sp>
          <p:nvSpPr>
            <p:cNvPr id="24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4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5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5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59" name=""/>
          <p:cNvGrpSpPr/>
          <p:nvPr/>
        </p:nvGrpSpPr>
        <p:grpSpPr>
          <a:xfrm>
            <a:off x="826920" y="2738520"/>
            <a:ext cx="3600720" cy="627120"/>
            <a:chOff x="826920" y="2738520"/>
            <a:chExt cx="3600720" cy="627120"/>
          </a:xfrm>
        </p:grpSpPr>
        <p:sp>
          <p:nvSpPr>
            <p:cNvPr id="26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6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65" name=""/>
          <p:cNvGrpSpPr/>
          <p:nvPr/>
        </p:nvGrpSpPr>
        <p:grpSpPr>
          <a:xfrm>
            <a:off x="826920" y="4964040"/>
            <a:ext cx="3600720" cy="627120"/>
            <a:chOff x="826920" y="4964040"/>
            <a:chExt cx="3600720" cy="627120"/>
          </a:xfrm>
        </p:grpSpPr>
        <p:sp>
          <p:nvSpPr>
            <p:cNvPr id="26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27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27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27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27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28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282" name="" descr=""/>
          <p:cNvPicPr/>
          <p:nvPr/>
        </p:nvPicPr>
        <p:blipFill>
          <a:blip r:embed="rId1"/>
          <a:srcRect l="0" t="19207" r="0" b="0"/>
          <a:stretch/>
        </p:blipFill>
        <p:spPr>
          <a:xfrm>
            <a:off x="304920" y="2276640"/>
            <a:ext cx="8839080" cy="1823760"/>
          </a:xfrm>
          <a:prstGeom prst="rect">
            <a:avLst/>
          </a:prstGeom>
          <a:ln w="0">
            <a:noFill/>
          </a:ln>
        </p:spPr>
      </p:pic>
      <p:sp>
        <p:nvSpPr>
          <p:cNvPr id="28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28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28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28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28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29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29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96" name=""/>
          <p:cNvGrpSpPr/>
          <p:nvPr/>
        </p:nvGrpSpPr>
        <p:grpSpPr>
          <a:xfrm>
            <a:off x="900000" y="2205000"/>
            <a:ext cx="7380360" cy="1376280"/>
            <a:chOff x="900000" y="2205000"/>
            <a:chExt cx="7380360" cy="1376280"/>
          </a:xfrm>
        </p:grpSpPr>
        <p:sp>
          <p:nvSpPr>
            <p:cNvPr id="29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29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0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0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0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0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0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0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0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1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1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1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1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1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1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2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2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24" name=""/>
          <p:cNvGrpSpPr/>
          <p:nvPr/>
        </p:nvGrpSpPr>
        <p:grpSpPr>
          <a:xfrm>
            <a:off x="2124000" y="2565360"/>
            <a:ext cx="5977080" cy="1129680"/>
            <a:chOff x="2124000" y="2565360"/>
            <a:chExt cx="5977080" cy="1129680"/>
          </a:xfrm>
        </p:grpSpPr>
        <p:sp>
          <p:nvSpPr>
            <p:cNvPr id="32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3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3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3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3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3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3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3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38" name=""/>
          <p:cNvGrpSpPr/>
          <p:nvPr/>
        </p:nvGrpSpPr>
        <p:grpSpPr>
          <a:xfrm>
            <a:off x="2124000" y="4365720"/>
            <a:ext cx="5977080" cy="1129320"/>
            <a:chOff x="2124000" y="4365720"/>
            <a:chExt cx="5977080" cy="1129320"/>
          </a:xfrm>
        </p:grpSpPr>
        <p:sp>
          <p:nvSpPr>
            <p:cNvPr id="33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4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4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4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5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5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5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5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5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63" name="" descr=""/>
          <p:cNvPicPr/>
          <p:nvPr/>
        </p:nvPicPr>
        <p:blipFill>
          <a:blip r:embed="rId1"/>
          <a:stretch/>
        </p:blipFill>
        <p:spPr>
          <a:xfrm>
            <a:off x="2411280" y="2349360"/>
            <a:ext cx="4084920" cy="1486080"/>
          </a:xfrm>
          <a:prstGeom prst="rect">
            <a:avLst/>
          </a:prstGeom>
          <a:ln w="0">
            <a:noFill/>
          </a:ln>
        </p:spPr>
      </p:pic>
      <p:sp>
        <p:nvSpPr>
          <p:cNvPr id="36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6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6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6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6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7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7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37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37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37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i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377" name=""/>
          <p:cNvGrpSpPr/>
          <p:nvPr/>
        </p:nvGrpSpPr>
        <p:grpSpPr>
          <a:xfrm>
            <a:off x="1487880" y="2413440"/>
            <a:ext cx="6183000" cy="1546560"/>
            <a:chOff x="1487880" y="2413440"/>
            <a:chExt cx="6183000" cy="1546560"/>
          </a:xfrm>
        </p:grpSpPr>
        <p:sp>
          <p:nvSpPr>
            <p:cNvPr id="37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379" name=""/>
            <p:cNvGrpSpPr/>
            <p:nvPr/>
          </p:nvGrpSpPr>
          <p:grpSpPr>
            <a:xfrm>
              <a:off x="1487880" y="2413440"/>
              <a:ext cx="6183000" cy="1125000"/>
              <a:chOff x="1487880" y="2413440"/>
              <a:chExt cx="6183000" cy="1125000"/>
            </a:xfrm>
          </p:grpSpPr>
          <p:sp>
            <p:nvSpPr>
              <p:cNvPr id="38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38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39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39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39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399" name="" descr=""/>
          <p:cNvPicPr/>
          <p:nvPr/>
        </p:nvPicPr>
        <p:blipFill>
          <a:blip r:embed="rId1"/>
          <a:stretch/>
        </p:blipFill>
        <p:spPr>
          <a:xfrm>
            <a:off x="4914720" y="1267920"/>
            <a:ext cx="3392280" cy="2427480"/>
          </a:xfrm>
          <a:prstGeom prst="rect">
            <a:avLst/>
          </a:prstGeom>
          <a:ln w="0">
            <a:noFill/>
          </a:ln>
        </p:spPr>
      </p:pic>
      <p:grpSp>
        <p:nvGrpSpPr>
          <p:cNvPr id="400" name=""/>
          <p:cNvGrpSpPr/>
          <p:nvPr/>
        </p:nvGrpSpPr>
        <p:grpSpPr>
          <a:xfrm>
            <a:off x="1547640" y="2276640"/>
            <a:ext cx="6153120" cy="1113480"/>
            <a:chOff x="1547640" y="2276640"/>
            <a:chExt cx="6153120" cy="1113480"/>
          </a:xfrm>
        </p:grpSpPr>
        <p:sp>
          <p:nvSpPr>
            <p:cNvPr id="40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0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03" name=""/>
            <p:cNvGrpSpPr/>
            <p:nvPr/>
          </p:nvGrpSpPr>
          <p:grpSpPr>
            <a:xfrm>
              <a:off x="1619280" y="2276640"/>
              <a:ext cx="5815080" cy="889920"/>
              <a:chOff x="1619280" y="2276640"/>
              <a:chExt cx="5815080" cy="889920"/>
            </a:xfrm>
          </p:grpSpPr>
          <p:sp>
            <p:nvSpPr>
              <p:cNvPr id="40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1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1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1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1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1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1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2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2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2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2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3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3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3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3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4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4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4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5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5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6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6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6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7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7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7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8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8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49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49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0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0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0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0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0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0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0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1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1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1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517"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518"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52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522"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523"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525"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527"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529"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530"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2"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5"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98"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99"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0"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1"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4"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7"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8"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5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196640"/>
            <a:ext cx="8199360" cy="53197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5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53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0"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1"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0"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3"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6"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7"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18"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19"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1"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2"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5"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6"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28"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1"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4"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5"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6"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37"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0"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3"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4"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6"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22:02Z</dcterms:modified>
  <cp:revision>385</cp:revision>
  <dc:subject/>
  <dc:title>Matemáticas Financieras</dc:title>
</cp:coreProperties>
</file>