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D15076-20A1-47DF-A920-5A620EC5D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463699-18F9-4679-BDD8-F368D98EC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27FDA2-578B-4AB9-B96A-01C3BDF58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4CB2E3-10D4-453A-8C9E-F1682FE53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777E6F-29BB-4508-AC8A-BD177092F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60CC79-8545-4B68-8B66-608030C2D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7F2B48-FE9C-4DED-8840-B314D2AF2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565192-D6B3-42A4-BA96-A661BBD10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62A887-BD43-4F76-B4ED-DDDA0A6CE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AF2463-3910-449F-A45C-8C18B28F5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239682-E9F1-4CCF-8529-BF5BBFF330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9C8895-CC55-4A95-834C-AE704D1EB4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C24B-8042-4DD3-A8C1-F6584DF0FB0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456876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Coord. </a:t>
            </a:r>
            <a:r>
              <a:rPr b="0" lang="es-ES" sz="2800" spc="-1" strike="noStrike">
                <a:solidFill>
                  <a:srgbClr val="4d4d4d"/>
                </a:solidFill>
                <a:latin typeface="Verdana"/>
              </a:rPr>
              <a:t>	</a:t>
            </a:r>
            <a:r>
              <a:rPr b="0" lang="es-ES" sz="2800" spc="-1" strike="noStrike">
                <a:solidFill>
                  <a:srgbClr val="4d4d4d"/>
                </a:solidFill>
                <a:latin typeface="Verdana"/>
              </a:rPr>
              <a:t>David Ehrenfeld</a:t>
            </a: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2000"/>
          </a:bodyPr>
          <a:p>
            <a:pPr marL="490680" indent="-4906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o se realizarán clases auxiliares; las aplicaciones se verán durante las clases de cátedra</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horario de clase auxiliar se realizarán los controles y una charla con asistencia obligatoria.</a:t>
            </a:r>
            <a:endParaRPr b="0" lang="en-US" sz="2600" spc="-1" strike="noStrike">
              <a:solidFill>
                <a:srgbClr val="4d4d4d"/>
              </a:solidFill>
              <a:latin typeface="Verdana"/>
            </a:endParaRPr>
          </a:p>
          <a:p>
            <a:pPr marL="4906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90680" indent="-49068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l sector</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a:t>
            </a:r>
            <a:r>
              <a:rPr b="0" lang="es-ES_tradnl" sz="3400" spc="-1" strike="noStrike">
                <a:solidFill>
                  <a:srgbClr val="4d4d4d"/>
                </a:solidFill>
                <a:latin typeface="Verdana"/>
                <a:ea typeface="Tahoma"/>
              </a:rPr>
              <a:t>≥ </a:t>
            </a:r>
            <a:r>
              <a:rPr b="0" lang="es-ES_tradnl" sz="3400" spc="-1" strike="noStrike">
                <a:solidFill>
                  <a:srgbClr val="4d4d4d"/>
                </a:solidFill>
                <a:latin typeface="Verdana"/>
              </a:rPr>
              <a:t>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34:52Z</dcterms:modified>
  <cp:revision>395</cp:revision>
  <dc:subject/>
  <dc:title>Formulación de Proyectos</dc:title>
</cp:coreProperties>
</file>