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LATIGO.WAV" ContentType="audio/x-wav"/>
  <Override PartName="/ppt/media/DIAPO.WAV" ContentType="audio/x-wav"/>
  <Override PartName="/ppt/media/CLIC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90365-2173-454A-8D92-756A6FC7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E2F48-9FDD-4B05-9041-FE933874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8F6E7-B742-47B0-B59D-7C78DF0F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DF084-3DF8-4433-A333-00CB7A8B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16E5B-04EF-4714-9832-0DB14725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31D2D-9DD8-406C-817A-AF36E0E9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2D521-AB42-4CE8-A69B-CDBD37C1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FD5D9-37F4-4B2E-9E2E-77551787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47CEC-9A6D-4CC9-B119-460C3534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13C16-FB29-4969-A0C5-8C4A524D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F9FDE-E344-421A-B182-93E02110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43AF4-0E45-4F64-BB58-B374DF75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38A6-A381-4E96-AD66-E8E123E0E4AE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07960" y="4292640"/>
            <a:ext cx="4568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Prof. 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Andrés Kettlu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Igor Riquelme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Coord. 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Camilo Vi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yectos de Inversión: Formulación y Evaluación. </a:t>
            </a: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1a. ed., Nassir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apag. Capítul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11360" y="1528560"/>
            <a:ext cx="77832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(Preparación y Evaluación de Proyectos, Sapag y Sapag)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11360" y="1196640"/>
            <a:ext cx="7783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es-ES_tradnl" sz="2600" spc="-1" strike="noStrike">
                <a:solidFill>
                  <a:srgbClr val="008000"/>
                </a:solidFill>
                <a:latin typeface="Verdana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Reemplazo de una tecnología obsolet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lantación y tala de un bosque de pi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 nuevo produ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Mejoramiento de una carreter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borda en forma explícita el problema de la asignación de recursos escasos en forma óptim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dentifica, mide y valoriza, cuantitativa y cualitativamente, los beneficios y costos para la(s) persona(s) o instituciones relevant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81040" y="548964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2766960"/>
            <a:ext cx="215928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56536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500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121280"/>
            <a:ext cx="21592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07664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4854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6216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960" y="141300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34136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l proyecto como un proce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49400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48436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34750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43894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24600" y="544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1798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50752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4160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1701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56088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227560"/>
            <a:ext cx="73911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15098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53038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560680"/>
            <a:ext cx="263520" cy="2438280"/>
          </a:xfrm>
          <a:custGeom>
            <a:avLst/>
            <a:gdLst>
              <a:gd name="textAreaLeft" fmla="*/ 0 w 263520"/>
              <a:gd name="textAreaRight" fmla="*/ 95040 w 2635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5398920"/>
            <a:ext cx="15238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573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553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543096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8059320" y="4646520"/>
            <a:ext cx="203400" cy="1273320"/>
          </a:xfrm>
          <a:custGeom>
            <a:avLst/>
            <a:gdLst>
              <a:gd name="textAreaLeft" fmla="*/ 129960 w 203400"/>
              <a:gd name="textAreaRight" fmla="*/ 203760 w 203400"/>
              <a:gd name="textAreaTop" fmla="*/ 33120 h 1273320"/>
              <a:gd name="textAreaBottom" fmla="*/ 1240200 h 12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6"/>
                </a:lnTo>
                <a:cubicBezTo>
                  <a:pt x="10800" y="9576"/>
                  <a:pt x="5400" y="10476"/>
                  <a:pt x="0" y="10476"/>
                </a:cubicBezTo>
                <a:cubicBezTo>
                  <a:pt x="5400" y="10476"/>
                  <a:pt x="10800" y="11376"/>
                  <a:pt x="10800" y="122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1341360"/>
            <a:ext cx="160200" cy="990720"/>
          </a:xfrm>
          <a:custGeom>
            <a:avLst/>
            <a:gdLst>
              <a:gd name="textAreaLeft" fmla="*/ 0 w 160200"/>
              <a:gd name="textAreaRight" fmla="*/ 57960 w 160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158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30592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V="1">
            <a:off x="1657440" y="471600"/>
            <a:ext cx="0" cy="2876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38360" y="2666880"/>
            <a:ext cx="28411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716360" y="982800"/>
            <a:ext cx="304848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660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66015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rot="21477600">
            <a:off x="6375960" y="157320"/>
            <a:ext cx="30488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0033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003386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16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3284640"/>
            <a:ext cx="93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95600" y="3762360"/>
            <a:ext cx="0" cy="26100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84080" y="1197000"/>
            <a:ext cx="77104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fundamental contar con un buen diagnóstic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debe surgir de necesidades insatisfechas, de objetivos y/o políticas generales de la organización, de un plan de desarrollo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be establecer su magnitud, a quienes afecta y la confiabilidad de la información utilizada. Así como también las alternativas disponi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l análisis surgirá la especificación precisa del bien que se desea construir o el servicio que se pretende dar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optar la decisión de abandonar, postergar o profundizar la idea de proyec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893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Verdana"/>
              </a:rPr>
              <a:t>Generación y Análisis de la Idea del Proyecto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a nivel de Perfi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buscan los antecedentes que permiten establecer un juicio respecto de la conveniencia y factibilidad técnico-económica de la idea de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Debe incluir un análisis preliminar de los aspectos técnicos, estudios de mercado y los de evaluació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utilizan estimaciones gruesas de los beneficios y costos, generalmente basadas en información existente, juicio común y experienci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Se decide abandonar, postergar o profund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90680" indent="-4906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se realizarán clases auxiliares; las aplicaciones se verán durante las clases de cáted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 y una charla con asistencia obligatori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906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490680" indent="-49068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o de Ca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9992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énfasis de esta etapa es medir los beneficios y costos identificados en la etapa de perfil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basa en información de fuentes secundari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 lo anterior, conviene sensibilizar los resultados de la evaluación a cambios en las variables más importa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Verdana"/>
              </a:rPr>
              <a:t>Se decide abandonar el proyecto, postergar o profundizar la evaluac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Se analizan en detalle los siguientes aspectos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estudio de mercad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es la base para estimar los ingresos, e incluirá un estudio de la oferta y demanda, así como de los precios de comercializa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tecnológic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incluye equipos, materias primas y procesos, que permiten determinar los costos del proyec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tamaño y localización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administrativo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determinar algunas componentes de costo fijo y la organización de los recursos humanos, físicos y financie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legale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conocer las restricciones de ese tipo que limitan al proyecto (tributación, permisos, contaminación ambiental, etc.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 algn="just">
              <a:lnSpc>
                <a:spcPct val="75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98984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debe coordinar la organización, puesta en marcha y operación del proyecto. Determinar el calendario de desembolsos para la inversión, disponibilidad de equipos y sus plazos, selección y entrenamiento del personal de administración, operación y manteni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uentes, condiciones y plazos de financia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366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9760" y="237636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ESTRATEGIA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1905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Responde 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Neutralizar amena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Corregir debil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Aprovechar oportun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Explotar fortale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3886200"/>
            <a:ext cx="40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Objetivo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Buscar oportunidades que puedan posicionar la empresa con una ventaja competitiva que le permita obtener una rentabilidad superior al costo de capita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743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281952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92520" y="47498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CREAR VALOR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9528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03480" y="94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80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Intenta lograr una </a:t>
            </a: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ventaja sostenible a largo plazo</a:t>
            </a: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 en cada uno de sus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828800" y="15235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22860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Proceso de Planificación Estratégic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990720"/>
            <a:ext cx="556272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7960" y="990720"/>
            <a:ext cx="47721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Misión del Negoci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ámbitos: de producto, de mercado y geográfic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identificación de las competencias distintiv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(modo de conseguir un liderazgo competitivo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209680"/>
            <a:ext cx="358164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408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In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in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ríticos para lograr una ventaj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ompetitiv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Fortalezas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2209680"/>
            <a:ext cx="35812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9116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Ex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ex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que contribuyen al atractivo de l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ndustr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Oportun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y Amena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4343400"/>
            <a:ext cx="365760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54400" y="4402080"/>
            <a:ext cx="35496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Formulación de la Estrateg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 Negoci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Generación de proyectos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gramas generales de ac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200400" y="5335560"/>
            <a:ext cx="3657240" cy="912960"/>
            <a:chOff x="3200400" y="5335560"/>
            <a:chExt cx="3657240" cy="912960"/>
          </a:xfrm>
        </p:grpSpPr>
        <p:sp>
          <p:nvSpPr>
            <p:cNvPr id="208" name=""/>
            <p:cNvSpPr/>
            <p:nvPr/>
          </p:nvSpPr>
          <p:spPr>
            <a:xfrm>
              <a:off x="3200400" y="5410080"/>
              <a:ext cx="36572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ogramación Estratégic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Definición y evaluación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programas específicos de ac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8840" y="533556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200400" y="6249960"/>
            <a:ext cx="3657240" cy="379440"/>
            <a:chOff x="3200400" y="6249960"/>
            <a:chExt cx="3657240" cy="379440"/>
          </a:xfrm>
        </p:grpSpPr>
        <p:sp>
          <p:nvSpPr>
            <p:cNvPr id="211" name=""/>
            <p:cNvSpPr/>
            <p:nvPr/>
          </p:nvSpPr>
          <p:spPr>
            <a:xfrm>
              <a:off x="3200400" y="6302520"/>
              <a:ext cx="3657240" cy="326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esupuesto y Control de Gest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8840" y="6249960"/>
              <a:ext cx="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97280" y="2135160"/>
            <a:ext cx="4417920" cy="2208240"/>
            <a:chOff x="2897280" y="2135160"/>
            <a:chExt cx="4417920" cy="2208240"/>
          </a:xfrm>
        </p:grpSpPr>
        <p:sp>
          <p:nvSpPr>
            <p:cNvPr id="214" name=""/>
            <p:cNvSpPr/>
            <p:nvPr/>
          </p:nvSpPr>
          <p:spPr>
            <a:xfrm>
              <a:off x="5029200" y="2135160"/>
              <a:ext cx="0" cy="22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97280" y="4116240"/>
              <a:ext cx="20556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106960" y="4116240"/>
              <a:ext cx="22082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560" y="1245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sten dos grupos de factores centrale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el atractivo de la industria en que está inserto el negocio y el comportamiento de los competidores, medido primariamente por sus perspectivas de rentabilidad a largo plazo (externos y poco controlabl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la ventaja del negocio en relación a los otros competidores de la industria (internos y controlables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6028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Elección de una Estrategia Competitiv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55760" y="725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52388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8000" indent="-289080" algn="just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ter postula que hay cinco fuerzas que conforman típicamente la estructura de la industri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tensidad de la rivalidad entre competi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nuevos participant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sustitu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compra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provee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78000" indent="-289080"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 acción conjunta de estas fuerzas determina la rentabilidad potencial en el sector industrial, en donde el potencial de utilidades se mide en términos del rendimiento a largo plazo del capital invertid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280"/>
            <a:ext cx="838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Estructural del Sector Industrial o el Modelo de las Cinco Fuerzas (Michael Porter)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55760" y="717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22440" y="73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10080" y="2590920"/>
            <a:ext cx="2070000" cy="220032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eti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Actual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3276720"/>
            <a:ext cx="167652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ra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3295800"/>
            <a:ext cx="166068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rovee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6029280"/>
            <a:ext cx="142236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Sustitut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1143000"/>
            <a:ext cx="175284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Nuev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articip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95240" y="2532240"/>
            <a:ext cx="1873800" cy="1201680"/>
            <a:chOff x="1695240" y="2532240"/>
            <a:chExt cx="1873800" cy="1201680"/>
          </a:xfrm>
        </p:grpSpPr>
        <p:sp>
          <p:nvSpPr>
            <p:cNvPr id="230" name=""/>
            <p:cNvSpPr/>
            <p:nvPr/>
          </p:nvSpPr>
          <p:spPr>
            <a:xfrm>
              <a:off x="2370240" y="3308040"/>
              <a:ext cx="1139760" cy="425880"/>
            </a:xfrm>
            <a:prstGeom prst="rightArrow">
              <a:avLst>
                <a:gd name="adj1" fmla="val 50000"/>
                <a:gd name="adj2" fmla="val 66931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95240" y="2532240"/>
              <a:ext cx="187380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Provee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61000" y="3244680"/>
            <a:ext cx="1671120" cy="1576800"/>
            <a:chOff x="3861000" y="3244680"/>
            <a:chExt cx="1671120" cy="1576800"/>
          </a:xfrm>
        </p:grpSpPr>
        <p:sp>
          <p:nvSpPr>
            <p:cNvPr id="233" name=""/>
            <p:cNvSpPr/>
            <p:nvPr/>
          </p:nvSpPr>
          <p:spPr>
            <a:xfrm>
              <a:off x="4233960" y="3244680"/>
              <a:ext cx="1038240" cy="744480"/>
            </a:xfrm>
            <a:custGeom>
              <a:avLst/>
              <a:gdLst/>
              <a:ahLst/>
              <a:rect l="l" t="t" r="r" b="b"/>
              <a:pathLst>
                <a:path w="654" h="469">
                  <a:moveTo>
                    <a:pt x="433" y="155"/>
                  </a:moveTo>
                  <a:lnTo>
                    <a:pt x="433" y="184"/>
                  </a:lnTo>
                  <a:lnTo>
                    <a:pt x="422" y="214"/>
                  </a:lnTo>
                  <a:lnTo>
                    <a:pt x="411" y="239"/>
                  </a:lnTo>
                  <a:lnTo>
                    <a:pt x="394" y="265"/>
                  </a:lnTo>
                  <a:lnTo>
                    <a:pt x="371" y="284"/>
                  </a:lnTo>
                  <a:lnTo>
                    <a:pt x="349" y="298"/>
                  </a:lnTo>
                  <a:lnTo>
                    <a:pt x="321" y="306"/>
                  </a:lnTo>
                  <a:lnTo>
                    <a:pt x="293" y="309"/>
                  </a:lnTo>
                  <a:lnTo>
                    <a:pt x="264" y="306"/>
                  </a:lnTo>
                  <a:lnTo>
                    <a:pt x="236" y="298"/>
                  </a:lnTo>
                  <a:lnTo>
                    <a:pt x="214" y="284"/>
                  </a:lnTo>
                  <a:lnTo>
                    <a:pt x="191" y="265"/>
                  </a:lnTo>
                  <a:lnTo>
                    <a:pt x="174" y="239"/>
                  </a:lnTo>
                  <a:lnTo>
                    <a:pt x="157" y="214"/>
                  </a:lnTo>
                  <a:lnTo>
                    <a:pt x="152" y="184"/>
                  </a:lnTo>
                  <a:lnTo>
                    <a:pt x="146" y="155"/>
                  </a:lnTo>
                  <a:lnTo>
                    <a:pt x="0" y="155"/>
                  </a:lnTo>
                  <a:lnTo>
                    <a:pt x="5" y="217"/>
                  </a:lnTo>
                  <a:lnTo>
                    <a:pt x="22" y="276"/>
                  </a:lnTo>
                  <a:lnTo>
                    <a:pt x="50" y="332"/>
                  </a:lnTo>
                  <a:lnTo>
                    <a:pt x="84" y="376"/>
                  </a:lnTo>
                  <a:lnTo>
                    <a:pt x="129" y="416"/>
                  </a:lnTo>
                  <a:lnTo>
                    <a:pt x="180" y="442"/>
                  </a:lnTo>
                  <a:lnTo>
                    <a:pt x="231" y="461"/>
                  </a:lnTo>
                  <a:lnTo>
                    <a:pt x="293" y="468"/>
                  </a:lnTo>
                  <a:lnTo>
                    <a:pt x="349" y="461"/>
                  </a:lnTo>
                  <a:lnTo>
                    <a:pt x="405" y="442"/>
                  </a:lnTo>
                  <a:lnTo>
                    <a:pt x="450" y="416"/>
                  </a:lnTo>
                  <a:lnTo>
                    <a:pt x="495" y="376"/>
                  </a:lnTo>
                  <a:lnTo>
                    <a:pt x="529" y="332"/>
                  </a:lnTo>
                  <a:lnTo>
                    <a:pt x="557" y="276"/>
                  </a:lnTo>
                  <a:lnTo>
                    <a:pt x="574" y="217"/>
                  </a:lnTo>
                  <a:lnTo>
                    <a:pt x="580" y="155"/>
                  </a:lnTo>
                  <a:lnTo>
                    <a:pt x="580" y="155"/>
                  </a:lnTo>
                  <a:lnTo>
                    <a:pt x="653" y="155"/>
                  </a:lnTo>
                  <a:lnTo>
                    <a:pt x="507" y="0"/>
                  </a:lnTo>
                  <a:lnTo>
                    <a:pt x="366" y="155"/>
                  </a:lnTo>
                  <a:lnTo>
                    <a:pt x="433" y="155"/>
                  </a:lnTo>
                  <a:lnTo>
                    <a:pt x="433" y="155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1000" y="4030200"/>
              <a:ext cx="167112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Rivalidad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competi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ctu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070080" y="4844880"/>
            <a:ext cx="1839960" cy="1120680"/>
            <a:chOff x="3070080" y="4844880"/>
            <a:chExt cx="1839960" cy="1120680"/>
          </a:xfrm>
        </p:grpSpPr>
        <p:sp>
          <p:nvSpPr>
            <p:cNvPr id="236" name=""/>
            <p:cNvSpPr/>
            <p:nvPr/>
          </p:nvSpPr>
          <p:spPr>
            <a:xfrm>
              <a:off x="3070080" y="5275080"/>
              <a:ext cx="15688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menaza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Sustitu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56080" y="4844880"/>
              <a:ext cx="453960" cy="1120680"/>
            </a:xfrm>
            <a:prstGeom prst="upArrow">
              <a:avLst>
                <a:gd name="adj1" fmla="val 50000"/>
                <a:gd name="adj2" fmla="val 61694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721120" y="3378240"/>
            <a:ext cx="1986480" cy="1316880"/>
            <a:chOff x="5721120" y="3378240"/>
            <a:chExt cx="1986480" cy="1316880"/>
          </a:xfrm>
        </p:grpSpPr>
        <p:sp>
          <p:nvSpPr>
            <p:cNvPr id="239" name=""/>
            <p:cNvSpPr/>
            <p:nvPr/>
          </p:nvSpPr>
          <p:spPr>
            <a:xfrm>
              <a:off x="5721120" y="3903840"/>
              <a:ext cx="19864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Compra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89520" y="3378240"/>
              <a:ext cx="1149480" cy="415800"/>
            </a:xfrm>
            <a:prstGeom prst="leftArrow">
              <a:avLst>
                <a:gd name="adj1" fmla="val 50000"/>
                <a:gd name="adj2" fmla="val 69087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6920" y="304920"/>
            <a:ext cx="76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Elementos de la estructura de la industri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08040" y="79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00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175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Amenaza de nuevos participant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32080" y="79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84360" y="565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7536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4192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Sali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812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7468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Entra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410160" y="3838320"/>
            <a:ext cx="2187720" cy="2732400"/>
            <a:chOff x="6410160" y="3838320"/>
            <a:chExt cx="2187720" cy="2732400"/>
          </a:xfrm>
        </p:grpSpPr>
        <p:sp>
          <p:nvSpPr>
            <p:cNvPr id="256" name=""/>
            <p:cNvSpPr/>
            <p:nvPr/>
          </p:nvSpPr>
          <p:spPr>
            <a:xfrm flipV="1">
              <a:off x="7748640" y="3838320"/>
              <a:ext cx="849240" cy="27320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10160" y="6570720"/>
              <a:ext cx="13478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27680" y="5103720"/>
              <a:ext cx="1079640" cy="2980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Servici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076400" y="1083960"/>
            <a:ext cx="6657840" cy="695160"/>
            <a:chOff x="1076400" y="1083960"/>
            <a:chExt cx="6657840" cy="695160"/>
          </a:xfrm>
        </p:grpSpPr>
        <p:sp>
          <p:nvSpPr>
            <p:cNvPr id="260" name=""/>
            <p:cNvSpPr/>
            <p:nvPr/>
          </p:nvSpPr>
          <p:spPr>
            <a:xfrm>
              <a:off x="3074400" y="1212840"/>
              <a:ext cx="329688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Infraestructura de la Firm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076400" y="1083960"/>
              <a:ext cx="0" cy="6951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77840" y="1085760"/>
              <a:ext cx="665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076400" y="1769760"/>
            <a:ext cx="6877080" cy="695160"/>
            <a:chOff x="1076400" y="1769760"/>
            <a:chExt cx="6877080" cy="695160"/>
          </a:xfrm>
        </p:grpSpPr>
        <p:sp>
          <p:nvSpPr>
            <p:cNvPr id="264" name=""/>
            <p:cNvSpPr/>
            <p:nvPr/>
          </p:nvSpPr>
          <p:spPr>
            <a:xfrm>
              <a:off x="6411960" y="1771560"/>
              <a:ext cx="1541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75600" y="1898640"/>
              <a:ext cx="362016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Manejo de Recursos Humano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076400" y="1769760"/>
              <a:ext cx="5343480" cy="695160"/>
              <a:chOff x="1076400" y="1769760"/>
              <a:chExt cx="5343480" cy="695160"/>
            </a:xfrm>
          </p:grpSpPr>
          <p:sp>
            <p:nvSpPr>
              <p:cNvPr id="267" name=""/>
              <p:cNvSpPr/>
              <p:nvPr/>
            </p:nvSpPr>
            <p:spPr>
              <a:xfrm flipV="1">
                <a:off x="1076400" y="17697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077840" y="17715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1076400" y="2455560"/>
            <a:ext cx="7105680" cy="695160"/>
            <a:chOff x="1076400" y="2455560"/>
            <a:chExt cx="7105680" cy="695160"/>
          </a:xfrm>
        </p:grpSpPr>
        <p:sp>
          <p:nvSpPr>
            <p:cNvPr id="270" name=""/>
            <p:cNvSpPr/>
            <p:nvPr/>
          </p:nvSpPr>
          <p:spPr>
            <a:xfrm>
              <a:off x="6411960" y="2457360"/>
              <a:ext cx="17701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84200" y="2546280"/>
              <a:ext cx="301680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Desarrollo de Tecnologí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076400" y="2455560"/>
              <a:ext cx="5343480" cy="695160"/>
              <a:chOff x="1076400" y="2455560"/>
              <a:chExt cx="5343480" cy="69516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1076400" y="24555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77840" y="24573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1076400" y="3141360"/>
            <a:ext cx="7524720" cy="695160"/>
            <a:chOff x="1076400" y="3141360"/>
            <a:chExt cx="7524720" cy="695160"/>
          </a:xfrm>
        </p:grpSpPr>
        <p:sp>
          <p:nvSpPr>
            <p:cNvPr id="276" name=""/>
            <p:cNvSpPr/>
            <p:nvPr/>
          </p:nvSpPr>
          <p:spPr>
            <a:xfrm>
              <a:off x="6411960" y="3828960"/>
              <a:ext cx="2189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11960" y="3143160"/>
              <a:ext cx="19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08640" y="3251160"/>
              <a:ext cx="176832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Adquisicion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076400" y="3141360"/>
              <a:ext cx="5343480" cy="695160"/>
              <a:chOff x="1076400" y="3141360"/>
              <a:chExt cx="5343480" cy="695160"/>
            </a:xfrm>
          </p:grpSpPr>
          <p:sp>
            <p:nvSpPr>
              <p:cNvPr id="280" name=""/>
              <p:cNvSpPr/>
              <p:nvPr/>
            </p:nvSpPr>
            <p:spPr>
              <a:xfrm flipV="1">
                <a:off x="1076400" y="31413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77840" y="31431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2409840" y="1773360"/>
            <a:ext cx="4000320" cy="2055600"/>
            <a:chOff x="2409840" y="1773360"/>
            <a:chExt cx="4000320" cy="2055600"/>
          </a:xfrm>
        </p:grpSpPr>
        <p:sp>
          <p:nvSpPr>
            <p:cNvPr id="283" name=""/>
            <p:cNvSpPr/>
            <p:nvPr/>
          </p:nvSpPr>
          <p:spPr>
            <a:xfrm flipV="1">
              <a:off x="507672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74328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40984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41016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736040" y="1085760"/>
            <a:ext cx="1188720" cy="5486400"/>
            <a:chOff x="7736040" y="1085760"/>
            <a:chExt cx="1188720" cy="5486400"/>
          </a:xfrm>
        </p:grpSpPr>
        <p:sp>
          <p:nvSpPr>
            <p:cNvPr id="288" name=""/>
            <p:cNvSpPr/>
            <p:nvPr/>
          </p:nvSpPr>
          <p:spPr>
            <a:xfrm flipV="1">
              <a:off x="8077320" y="3828600"/>
              <a:ext cx="846000" cy="2724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54760" y="1087560"/>
              <a:ext cx="846360" cy="27414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78760" y="1096920"/>
              <a:ext cx="846000" cy="27417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6040" y="1085760"/>
              <a:ext cx="350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54760" y="6572160"/>
              <a:ext cx="351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58920" y="333360"/>
            <a:ext cx="695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Interno: Cadena de Valor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4440000">
            <a:off x="7765560" y="21700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6420000">
            <a:off x="7765560" y="50508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05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controles y un examen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Tareas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tareas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es de Lectura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 (salvo el último CL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de Casos (1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2 casos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1211400"/>
            <a:ext cx="86104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segmentación del negocio, 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idea es buscar una ventaja competitiva, que se traduce en un nivel de rentabilidad por sobre el promedi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identifican dos estrategias genéricas (categorías de estrategias) para alcanzar una ventaja competitiva sostenible: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84320" y="5267160"/>
            <a:ext cx="3116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Liderazgo en costo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Diferenci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458136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c3300"/>
                </a:solidFill>
                <a:latin typeface="Verdana"/>
              </a:rPr>
              <a:t>Estrategias Competitivas Genérica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457200"/>
            <a:ext cx="8534160" cy="59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Liderazgo general en costos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requiere la construcción de instalaciones a escala eficiente; reducción de costos en producción, gastos generales, I&amp;D, servicio, equipo de ventas, publicidad; evitar clientes marginales; etc. El margen se obtiene reduciendo el cost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Diferenci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n ambos casos puede existir </a:t>
            </a: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Focaliz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concentrarse en un grupo particular de compradores (segmento de mercado), productos o ámbito geográfico. Hay focalización tanto en diferenciación como en liderazgo en costos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454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8000"/>
                </a:solidFill>
                <a:uFillTx/>
                <a:latin typeface="Verdana"/>
              </a:rPr>
              <a:t>1. Según para quien se evalú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yectos afectan de diferente manera a los agentes involucrados, quienes tienen, por lo general, diferentes objetivos e intereses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or ejemplo: Proyecto de vertedero para las comunas del centro-sur de Santiag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version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 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í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842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Privada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: se realiza desde la perspectiva de un agente económico privado o individual (persona, empresa, grupo, etc.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l proyecto, con independencia de quien provee los fon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 los recursos propios invertidos (dueño del proyecto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capacidad del proyecto para enfrentar compromisos de pago de las deudas (bancos, acreedor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Social</a:t>
            </a:r>
            <a:r>
              <a:rPr b="0" i="1" lang="es-CL" sz="22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realiza desde la perspectiva del conjunto del país (sociedad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2. Según el momento en que se realic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Ante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en el período de preinversión, entrega una recomendación sobre la conveniencia de realizar el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Post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una vez ejecutado el proyecto, sirve para estimar los verdaderos beneficios del proyecto, encontrar las fuentes de error y generar aprendizaj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3. Según la finalidad de la invers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crear nuevos negocios o empres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evaluar un cambio, mejora o modernización en una empresa existent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4. Según la forma de evalu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Tradicional o mono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un solo objetivo, generalmente riqueza. Requiere que cada beneficio y costo sea identificado, medido y valorad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Multi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tiene más de un objetivo, riqueza, distribución del ingreso, salud de los habitantes….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semáforo: 5 millone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No sirve para ver conveniencia, sino para comparar alternativas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9516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Cualquiera sea la profundidad con que se evalúe un proyecto, se distinguen dos etapas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Formulación y preparación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Identificar los beneficios y costos del proyecto y calcular su magnitud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copilar (crear) y estimar información (estudios de mercado, técnico,  legal, organizacional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strucción del flujo de caj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Evaluación</a:t>
            </a:r>
            <a:r>
              <a:rPr b="1" lang="es-CL" sz="2400" spc="-1" strike="noStrike">
                <a:solidFill>
                  <a:srgbClr val="008000"/>
                </a:solidFill>
                <a:latin typeface="Verdana"/>
              </a:rPr>
              <a:t>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a partir del flujo de caja, medir la rentabilidad de la inversión en el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Dos etapas en la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Ejecu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tecedentes General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l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Diagnóstico y Optimización Situación Actu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oluciones Propues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 alternativ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valuación económic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y conclu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ex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) Antecedentes gener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Ámbito o sector productivo del proyect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Ubicación de la zona geográfica del estudio y sus características (culturales, económicas, políticas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Identificación de segmentos producto - mercad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racterísticas generales de los gestores del proyecto (aspectos organizacionales, marco legal, cultura organizativa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Otras informaciones  relevantes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vistas con expertos en el tem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pilación bibliográf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2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aso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92504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b)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Análisis del Mercado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Oferta</a:t>
            </a: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Especificación de los productos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 ofertados</a:t>
            </a: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histórica y sus factores de incidenci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Políticas y métodos de tarificación y preci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actual y proyeccione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Localización y concentración de la oferta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Cobertura geográfic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Restricciones de disponibilidad de recur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histórica y factores de incidenci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actual y proyeccion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gment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caliz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oncentración de la demanda (por áreas geográficas, por segmentos, por ingreso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ipo de consumo (residencial, comercial, industrial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Diagnóstic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tecedentes generales + análisis del mercado  </a:t>
            </a:r>
            <a:r>
              <a:rPr b="0" lang="es-CL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100" spc="-1" strike="noStrike">
                <a:solidFill>
                  <a:srgbClr val="4d4d4d"/>
                </a:solidFill>
                <a:latin typeface="Verdana"/>
              </a:rPr>
              <a:t>definición de situación sin proyecto.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s diagnóstico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 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insatisfech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ala calidad de los servicio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) Optimización de la situación actu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 de optimizaciones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Rediseño de procesos y reingenierí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ejoras en la gestión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3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odificaciones que impliquen inversiones margi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)  Generación de alternativas 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s alternativas generadas deben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técn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económ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fundamentalmente distintas entre sí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comparables en términos de result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8534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f) Selección (preselección) de alternativ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ara la alternativa seleccionada se debe analizar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Tamaño óptimo d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Localización óptim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omento óptimo para real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ediseño (obras civiles, equipamiento, insum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8083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a) Estimación de beneficios y co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pende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n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del agente que hace la estimación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ivad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 (valorables), no cuantifica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ci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, no cuantific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xterna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8026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beneficios y costos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jemplo : beneficio no (o menos) cuantificable de un proyecto de semaforización : disminución de accide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b) Cálculo de indica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Valor presente neto (VPN o VAN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asa interna de retorno (TIR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eríodo de recuperación del capital (PRC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Ot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097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orcentajes de capital propio vs. Deuda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licitud de préstam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bo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accion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Verdana"/>
              </a:rPr>
              <a:t>Interpretar resultados obtenidos de la evaluación de un proyecto, bajo diferentes método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92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. Formulación de Proyectos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4d4d4d"/>
                </a:solidFill>
                <a:latin typeface="Verdana"/>
              </a:rPr>
              <a:t>Aprender a identificar y definir proyectos,  organizando secuencialmente el proceso de evaluación de un proyecto de inversión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84080" y="1196640"/>
            <a:ext cx="77803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Concepto de Proyecto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Contexto de mercado, Análisis Estratégico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La formulación y evaluación de proyectos: ciclo de vida de un proyecto, nivele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Tipo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Tipos de proyectos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Presentación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akettlun</cp:lastModifiedBy>
  <cp:lastPrinted>2002-11-13T13:47:55Z</cp:lastPrinted>
  <dcterms:modified xsi:type="dcterms:W3CDTF">2008-07-29T16:35:53Z</dcterms:modified>
  <cp:revision>384</cp:revision>
  <dc:subject/>
  <dc:title>Formulación de Proyectos</dc:title>
</cp:coreProperties>
</file>