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728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5562720" y="6453360"/>
            <a:ext cx="281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6453360"/>
            <a:ext cx="7162920" cy="2286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99cc00">
                  <a:alpha val="47058"/>
                </a:srgbClr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0920" y="6453360"/>
            <a:ext cx="67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PABLO GARCÍA S.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12 DE AGOSTO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5335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45FB-BCE4-4D7B-9A6E-D01CF2516C06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dena de pagos: los activos de unos son la deuda de 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08000" y="2421000"/>
          <a:ext cx="1513080" cy="95868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213000"/>
          <a:ext cx="1512720" cy="95868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979640" y="5084640"/>
          <a:ext cx="1512720" cy="95904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9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91" name="_s153676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53674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53673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53671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53672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53675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iebre de la cadena de pagos produce iliquidez/insolvencias en cad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03" name="_s159780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59781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59782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59783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59784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59785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724360" y="2421000"/>
            <a:ext cx="25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a proteger su capital frente a menores activos, este banco deja de pagar su deu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997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e segundo banco actúa de la misma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5229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efecto final es una amplificación del efecto in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liquidez (cadena de pagos basada en transacciones de alta frecuencia con bajo riesgo fundamental de insolvencia) el Banco Central puede romper el círculo vic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18" name="_s158757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58758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5875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58759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8760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58761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11640" y="4076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34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nsolvencia caben dos alternativas: dejar que proceda la quiebra, o intervenir con recurs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3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31" name="_s160804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60805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6080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0807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60808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0809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435640" y="2997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Paradigma clásico en resolución de cri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liquidez, el Banco Central debe actuar para preservar la cadena de pagos en el sistema financiero y evitar que se genere un problema de insolvenci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nsolvencia de instituciones que reciben depósitos del público en general, se deben usar recursos públicos para rescatar a los acreedores de los bancos (ahorristas no informados) pero se debe dejar caer a los propietari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stos mecanismos proveen los incentivos adecuados al no rescatar a instituciones insolventes que no comprometan la fe pública o a acreedores sofisticados que gestionan bien sus ries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El paradigma cuestionado ho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mpliación de los mercados financieros hace que las distintas cadenas de pago estén íntimamente relacionadas (eg. mercado de la vivienda y mercado de instrumentos estructurados complejos basados en precios de viviendas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Dificultad en distinguir entre inversionistas sofisticados y público en general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so de </a:t>
            </a:r>
            <a:r>
              <a:rPr b="0" i="1" lang="es-ES" sz="1800" spc="-1" strike="noStrike">
                <a:solidFill>
                  <a:srgbClr val="000000"/>
                </a:solidFill>
                <a:latin typeface="Lucida Sans Unicode"/>
              </a:rPr>
              <a:t>Bear Stearn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: Banco Central asume rescate directo y no solo provee liquidez sino que además compra cartera, a pesar de que no es un banco de depósitos y sus acreedores son instituciones financie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sofisticada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ebate sob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 la necesidad de rescatar o no a los dueñ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ecciones de Chile 198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8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704880"/>
            <a:ext cx="8496000" cy="544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208720" cy="525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34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Objetivo de l</a:t>
            </a:r>
            <a:r>
              <a:rPr b="1" i="1" lang="en-US" sz="2400" spc="-1" strike="noStrike">
                <a:solidFill>
                  <a:srgbClr val="003399"/>
                </a:solidFill>
                <a:latin typeface="Lucida Sans Unicode"/>
              </a:rPr>
              <a:t>a charla</a:t>
            </a: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:</a:t>
            </a:r>
            <a:r>
              <a:rPr b="1" lang="es-CL" sz="24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ostrarles que la (macro)economía es una disciplina que vale la pena estudiar, con algunas aplicaciones y metodologías habituales y una discusión s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 algunos temas coyuntur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99"/>
                </a:solidFill>
                <a:latin typeface="Lucida Sans Unicode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 diferencia de muchas otras disciplinas, tener opiniones sobre (macro)economía es hoy un derecho de toda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4032360" cy="2065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El dinero ha existido desde que hay intercambi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981000"/>
            <a:ext cx="4557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aso de acuñación metálica a dinero fiduciario es un avance téc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rincipal cambio ocurre durante la primera mitad de los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68360" y="1557360"/>
            <a:ext cx="8136000" cy="4565520"/>
            <a:chOff x="468360" y="1557360"/>
            <a:chExt cx="8136000" cy="4565520"/>
          </a:xfrm>
        </p:grpSpPr>
        <p:sp>
          <p:nvSpPr>
            <p:cNvPr id="149" name=""/>
            <p:cNvSpPr/>
            <p:nvPr/>
          </p:nvSpPr>
          <p:spPr>
            <a:xfrm>
              <a:off x="6811920" y="1698840"/>
              <a:ext cx="1101960" cy="3854160"/>
            </a:xfrm>
            <a:prstGeom prst="rect">
              <a:avLst/>
            </a:prstGeom>
            <a:solidFill>
              <a:srgbClr val="cc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136000" cy="456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Lucida Sans Unicode"/>
              </a:rPr>
              <a:t>Quiebre del patrón oro gatilla un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incremento sin precedentes en el costo de la vida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oincide con los shocks petroleros en 1973 y en 198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1916280"/>
            <a:ext cx="266364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1916280"/>
            <a:ext cx="266400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6456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776160"/>
            <a:ext cx="828180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Burbuja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12944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2565360"/>
            <a:ext cx="647640" cy="2448000"/>
          </a:xfrm>
          <a:prstGeom prst="upDownArrow">
            <a:avLst>
              <a:gd name="adj1" fmla="val 50000"/>
              <a:gd name="adj2" fmla="val 7524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57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557360"/>
            <a:ext cx="7993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rbitraje lleva a que: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P(t+1)/P(t) = 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contrario se producen ganancias (y pérdidas)  sin lí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oximando: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lnP(t+1) – lnP(t)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valencia en tiempo continuo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dlnP(t)/dt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P(0) = P(T)xexp(-RT)x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796000" y="4724280"/>
            <a:ext cx="2808360" cy="956520"/>
            <a:chOff x="5796000" y="4724280"/>
            <a:chExt cx="2808360" cy="956520"/>
          </a:xfrm>
        </p:grpSpPr>
        <p:sp>
          <p:nvSpPr>
            <p:cNvPr id="78" name=""/>
            <p:cNvSpPr/>
            <p:nvPr/>
          </p:nvSpPr>
          <p:spPr>
            <a:xfrm>
              <a:off x="5867280" y="4724280"/>
              <a:ext cx="1513080" cy="649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08720" y="4724280"/>
              <a:ext cx="503280" cy="64944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6000" y="537372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3300"/>
                  </a:solidFill>
                  <a:latin typeface="Arial"/>
                </a:rPr>
                <a:t>funda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6000" y="53006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9999"/>
                  </a:solidFill>
                  <a:latin typeface="Arial"/>
                </a:rPr>
                <a:t>burbu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55736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s (de bancos por ej) muestran como se financian los activos que pos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s más sencillas: deuda o capital (recursos propi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68360" y="3500280"/>
          <a:ext cx="4762800" cy="2267280"/>
        </p:xfrm>
        <a:graphic>
          <a:graphicData uri="http://schemas.openxmlformats.org/drawingml/2006/table">
            <a:tbl>
              <a:tblPr/>
              <a:tblGrid>
                <a:gridCol w="2303640"/>
                <a:gridCol w="2459160"/>
              </a:tblGrid>
              <a:tr h="113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13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47:09Z</dcterms:created>
  <dc:creator>M. Soledad Gallardo G.</dc:creator>
  <dc:description/>
  <dc:language>en-US</dc:language>
  <cp:lastModifiedBy>BCCH</cp:lastModifiedBy>
  <dcterms:modified xsi:type="dcterms:W3CDTF">2008-08-12T21:06:43Z</dcterms:modified>
  <cp:revision>87</cp:revision>
  <dc:subject/>
  <dc:title>Diapositiva 1</dc:title>
</cp:coreProperties>
</file>