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728352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7631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5562720" y="6453360"/>
            <a:ext cx="281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981080" y="6453360"/>
            <a:ext cx="7162920" cy="228600"/>
          </a:xfrm>
          <a:prstGeom prst="rect">
            <a:avLst/>
          </a:prstGeom>
          <a:gradFill rotWithShape="0">
            <a:gsLst>
              <a:gs pos="0">
                <a:srgbClr val="0000ff">
                  <a:alpha val="50196"/>
                </a:srgbClr>
              </a:gs>
              <a:gs pos="100000">
                <a:srgbClr val="99cc00">
                  <a:alpha val="47058"/>
                </a:srgbClr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50920" y="6453360"/>
            <a:ext cx="676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PABLO GARCÍA S. 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12 DE AGOSTO DE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5335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E30C-67A7-485E-BFD4-B0B08E3BE4CB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dena de pagos: los activos de unos son la deuda de otr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908000" y="2421000"/>
          <a:ext cx="1513080" cy="95868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213000"/>
          <a:ext cx="1512720" cy="95868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979640" y="5084640"/>
          <a:ext cx="1512720" cy="95904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499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9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91" name="_s153676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53674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53673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53671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53672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53675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557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iebre de la cadena de pagos produce iliquidez/insolvencias en cad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03" name="_s159780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59781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59782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59783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59784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59785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24360" y="2421000"/>
            <a:ext cx="259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proteger su capital frente a menores activos, este banco deja de pagar su deu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2997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egundo banco actúa de la misma for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5280" y="52293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efecto final es una amplificación del efecto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liquidez (cadena de pagos basada en transacciones de alta frecuencia con bajo riesgo fundamental de insolvencia) el Banco Central puede romper el círculo vi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18" name="_s158757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8758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5875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8759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58760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8761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211640" y="4076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risi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34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de insolvencia caben dos alternativas: dejar que proceda la quiebra, o intervenir con recursos 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8000" y="2421000"/>
          <a:ext cx="1513080" cy="428400"/>
        </p:xfrm>
        <a:graphic>
          <a:graphicData uri="http://schemas.openxmlformats.org/drawingml/2006/table">
            <a:tbl>
              <a:tblPr/>
              <a:tblGrid>
                <a:gridCol w="71928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08720" y="3213000"/>
          <a:ext cx="1512720" cy="668520"/>
        </p:xfrm>
        <a:graphic>
          <a:graphicData uri="http://schemas.openxmlformats.org/drawingml/2006/table">
            <a:tbl>
              <a:tblPr/>
              <a:tblGrid>
                <a:gridCol w="718920"/>
                <a:gridCol w="79380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79640" y="5084640"/>
          <a:ext cx="1512720" cy="428760"/>
        </p:xfrm>
        <a:graphic>
          <a:graphicData uri="http://schemas.openxmlformats.org/drawingml/2006/table">
            <a:tbl>
              <a:tblPr/>
              <a:tblGrid>
                <a:gridCol w="719280"/>
                <a:gridCol w="793440"/>
              </a:tblGrid>
              <a:tr h="215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3134160" y="3096720"/>
            <a:ext cx="2441880" cy="2113560"/>
            <a:chOff x="3134160" y="3096720"/>
            <a:chExt cx="2441880" cy="2113560"/>
          </a:xfrm>
        </p:grpSpPr>
        <p:sp>
          <p:nvSpPr>
            <p:cNvPr id="131" name="_s160804"/>
            <p:cNvSpPr/>
            <p:nvPr/>
          </p:nvSpPr>
          <p:spPr>
            <a:xfrm flipH="1">
              <a:off x="3610800" y="3096720"/>
              <a:ext cx="1488600" cy="148824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240"/>
                <a:gd name="textAreaBottom" fmla="*/ 1488600 h 148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60805"/>
            <p:cNvSpPr/>
            <p:nvPr/>
          </p:nvSpPr>
          <p:spPr>
            <a:xfrm flipH="1" rot="14400000">
              <a:off x="3406320" y="344880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60806"/>
            <p:cNvSpPr/>
            <p:nvPr/>
          </p:nvSpPr>
          <p:spPr>
            <a:xfrm flipH="1" rot="7200000">
              <a:off x="3814920" y="3449160"/>
              <a:ext cx="1488600" cy="1488600"/>
            </a:xfrm>
            <a:custGeom>
              <a:avLst/>
              <a:gdLst>
                <a:gd name="textAreaLeft" fmla="*/ -360 w 1488600"/>
                <a:gd name="textAreaRight" fmla="*/ 1488600 w 1488600"/>
                <a:gd name="textAreaTop" fmla="*/ 0 h 1488600"/>
                <a:gd name="textAreaBottom" fmla="*/ 1488960 h 148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0807"/>
            <p:cNvSpPr/>
            <p:nvPr/>
          </p:nvSpPr>
          <p:spPr>
            <a:xfrm>
              <a:off x="3350160" y="3369960"/>
              <a:ext cx="597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60808"/>
            <p:cNvSpPr/>
            <p:nvPr/>
          </p:nvSpPr>
          <p:spPr>
            <a:xfrm>
              <a:off x="4763160" y="3368880"/>
              <a:ext cx="5972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0809"/>
            <p:cNvSpPr/>
            <p:nvPr/>
          </p:nvSpPr>
          <p:spPr>
            <a:xfrm>
              <a:off x="4057920" y="4593240"/>
              <a:ext cx="5968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5640" y="299736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Paradigma clásico en resolución de crisi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liquidez, el Banco Central debe actuar para preservar la cadena de pagos en el sistema financiero y evitar que se genere un problema de insolvenci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Frente a problemas de insolvencia de instituciones que reciben depósitos del público en general, se deben usar recursos públicos para rescatar a los acreedores de los bancos (ahorristas no informados) pero se debe dejar caer a los propietari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Estos mecanismos proveen los incentivos adecuados al no rescatar a instituciones insolventes que no comprometan la fe pública o a acreedores sofisticados que gestionan bien sus riesgo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99"/>
                </a:solidFill>
                <a:latin typeface="Lucida Sans Unicode"/>
              </a:rPr>
              <a:t>El paradigma cuestionado ho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mpliación de los mercados financieros hace que las distintas cadenas de pago estén íntimamente relacionadas (eg. mercado de la vivienda y mercado de instrumentos estructurados complejos basados en precios de viviendas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Dificultad en distinguir entre inversionistas sofisticados y público en general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so de </a:t>
            </a:r>
            <a:r>
              <a:rPr b="0" i="1" lang="es-ES" sz="1800" spc="-1" strike="noStrike">
                <a:solidFill>
                  <a:srgbClr val="000000"/>
                </a:solidFill>
                <a:latin typeface="Lucida Sans Unicode"/>
              </a:rPr>
              <a:t>Bear Stearn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: Banco Central asume rescate directo y no solo provee liquidez sino que además compra cartera, a pesar de que no es un banco de depósitos y sus acreedores son instituciones financier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s sofisticadas</a:t>
            </a: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ebate sob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e la necesidad de rescatar o no a los dueños del capital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ecciones de Chile 1983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8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704880"/>
            <a:ext cx="8496000" cy="5448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08720" cy="525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5349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Objetivo de l</a:t>
            </a:r>
            <a:r>
              <a:rPr b="1" i="1" lang="en-US" sz="2400" spc="-1" strike="noStrike">
                <a:solidFill>
                  <a:srgbClr val="003399"/>
                </a:solidFill>
                <a:latin typeface="Lucida Sans Unicode"/>
              </a:rPr>
              <a:t>a charla</a:t>
            </a:r>
            <a:r>
              <a:rPr b="1" i="1" lang="es-CL" sz="2400" spc="-1" strike="noStrike">
                <a:solidFill>
                  <a:srgbClr val="003399"/>
                </a:solidFill>
                <a:latin typeface="Lucida Sans Unicode"/>
              </a:rPr>
              <a:t>:</a:t>
            </a:r>
            <a:r>
              <a:rPr b="1" lang="es-CL" sz="24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Mostrarles que la (macro)economía es una disciplina que vale la pena estudiar, con algunas aplicaciones y metodologías habituales y una discusión so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re algunos temas coyuntural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3399"/>
                </a:solidFill>
                <a:latin typeface="Lucida Sans Unicode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A diferencia de muchas otras disciplinas, tener opiniones sobre (macro)economía es hoy un derecho de toda person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341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4032360" cy="20653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El dinero ha existido desde que hay intercambi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981000"/>
            <a:ext cx="45579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aso de acuñación metálica a dinero fiduciario es un avance téc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 Unicode"/>
              </a:rPr>
              <a:t>Principal cambio ocurre durante la primera mitad de los 19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1557360"/>
            <a:ext cx="8136000" cy="4565520"/>
            <a:chOff x="468360" y="1557360"/>
            <a:chExt cx="8136000" cy="4565520"/>
          </a:xfrm>
        </p:grpSpPr>
        <p:sp>
          <p:nvSpPr>
            <p:cNvPr id="149" name=""/>
            <p:cNvSpPr/>
            <p:nvPr/>
          </p:nvSpPr>
          <p:spPr>
            <a:xfrm>
              <a:off x="6811920" y="1698840"/>
              <a:ext cx="1101960" cy="3854160"/>
            </a:xfrm>
            <a:prstGeom prst="rect">
              <a:avLst/>
            </a:prstGeom>
            <a:solidFill>
              <a:srgbClr val="cc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68360" y="1557360"/>
              <a:ext cx="8136000" cy="456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Lucida Sans Unicode"/>
              </a:rPr>
              <a:t>Quiebre del patrón oro gatilla un </a:t>
            </a:r>
            <a:r>
              <a:rPr b="1" i="1" lang="en-US" sz="2800" spc="-1" strike="noStrike">
                <a:solidFill>
                  <a:srgbClr val="000000"/>
                </a:solidFill>
                <a:latin typeface="Lucida Sans Unicode"/>
              </a:rPr>
              <a:t>incremento sin precedentes en el costo de la vida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Coincide con los shocks petroleros en 1973 y en 1980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1916280"/>
            <a:ext cx="266364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0000" y="1916280"/>
            <a:ext cx="2664000" cy="35287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645600" cy="45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776160"/>
            <a:ext cx="8281800" cy="54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99"/>
                </a:solidFill>
                <a:latin typeface="Verdana"/>
              </a:rPr>
              <a:t>Temas Actuales en Macroeconomía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Lucida Sans Unicode"/>
              </a:rPr>
              <a:t>Temas:</a:t>
            </a:r>
            <a:r>
              <a:rPr b="1" lang="es-CL" sz="2800" spc="-1" strike="noStrike">
                <a:solidFill>
                  <a:srgbClr val="00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Burbuj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, riesgo y cri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Lucida Sans Unicode"/>
              </a:rPr>
              <a:t>Inflación y política moneta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Burbuja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12944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06064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170028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sin riesgo rent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-73080" y="3610080"/>
            <a:ext cx="2378160" cy="288720"/>
          </a:xfrm>
          <a:prstGeom prst="rightArrow">
            <a:avLst>
              <a:gd name="adj1" fmla="val 49454"/>
              <a:gd name="adj2" fmla="val 752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270828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Alternativa con riesgo: En t comprar (o vender) activo financiero al precio P(t) y luego en t+1 venderlo (o comprarlo) por P(t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1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1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5229360"/>
            <a:ext cx="5041800" cy="288720"/>
          </a:xfrm>
          <a:prstGeom prst="rightArrow">
            <a:avLst>
              <a:gd name="adj1" fmla="val 49454"/>
              <a:gd name="adj2" fmla="val 159427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5229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$P(t+1)/P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5805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Tiempo trascu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616572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2565360"/>
            <a:ext cx="647640" cy="2448000"/>
          </a:xfrm>
          <a:prstGeom prst="upDownArrow">
            <a:avLst>
              <a:gd name="adj1" fmla="val 50000"/>
              <a:gd name="adj2" fmla="val 7524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557360"/>
            <a:ext cx="7993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rbitraje lleva a que: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 P(t+1)/P(t) = 1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caso contrario se producen ganancias (y pérdidas)  sin lím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roximando: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lnP(t+1) – lnP(t)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valencia en tiempo continuo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dlnP(t)/dt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lu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808080"/>
                </a:solidFill>
                <a:latin typeface="Arial"/>
              </a:rPr>
              <a:t>P(0) = P(T)xexp(-RT)x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796000" y="4724280"/>
            <a:ext cx="2808360" cy="956520"/>
            <a:chOff x="5796000" y="4724280"/>
            <a:chExt cx="2808360" cy="956520"/>
          </a:xfrm>
        </p:grpSpPr>
        <p:sp>
          <p:nvSpPr>
            <p:cNvPr id="78" name=""/>
            <p:cNvSpPr/>
            <p:nvPr/>
          </p:nvSpPr>
          <p:spPr>
            <a:xfrm>
              <a:off x="5867280" y="4724280"/>
              <a:ext cx="1513080" cy="6494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08720" y="4724280"/>
              <a:ext cx="503280" cy="64944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6000" y="537372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3300"/>
                  </a:solidFill>
                  <a:latin typeface="Arial"/>
                </a:rPr>
                <a:t>funda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6000" y="5300640"/>
              <a:ext cx="13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9999"/>
                  </a:solidFill>
                  <a:latin typeface="Arial"/>
                </a:rPr>
                <a:t>burbu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28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3399"/>
                </a:solidFill>
                <a:latin typeface="Lucida Sans Unicode"/>
              </a:rPr>
              <a:t>Arbitraje financiero y riesg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557360"/>
            <a:ext cx="799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s (de bancos por ej) muestran como se financian los activos que pos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ternativas más sencillas: deuda o capital (recursos propi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68360" y="3500280"/>
          <a:ext cx="4762800" cy="2267280"/>
        </p:xfrm>
        <a:graphic>
          <a:graphicData uri="http://schemas.openxmlformats.org/drawingml/2006/table">
            <a:tbl>
              <a:tblPr/>
              <a:tblGrid>
                <a:gridCol w="2303640"/>
                <a:gridCol w="2459160"/>
              </a:tblGrid>
              <a:tr h="1135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u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113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47:09Z</dcterms:created>
  <dc:creator>M. Soledad Gallardo G.</dc:creator>
  <dc:description/>
  <dc:language>en-US</dc:language>
  <cp:lastModifiedBy>BCCH</cp:lastModifiedBy>
  <dcterms:modified xsi:type="dcterms:W3CDTF">2008-08-12T21:06:43Z</dcterms:modified>
  <cp:revision>87</cp:revision>
  <dc:subject/>
  <dc:title>Diapositiva 1</dc:title>
</cp:coreProperties>
</file>