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1.png" ContentType="image/png"/>
  <Override PartName="/ppt/media/image9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F00-9E9A-4D29-9FA9-6736DE1C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F5E0-537B-4ACA-95DF-7B2EC445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42A-99C3-4338-9FDA-659BC3D2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FBA-4A87-4134-B4D9-8BBBE8C3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CF5-C1FC-41EE-AA19-B03F8D68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5F2-228A-43E2-A82B-0C7AB93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3BC-AEC6-4F8A-BBDB-86A5D53E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483-77E2-47D9-83BC-744E65C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51920"/>
            <a:ext cx="6095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206-A71E-42C8-A9DE-04963052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D59-6D71-4B19-A095-77A28080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058-B35A-46C6-8344-63B0A82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9D9-40FF-45DE-BE12-5F2280F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3F5F-4549-4F52-892C-03078A981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9718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ignación de Servicios de Caj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el Canal de Venta de Metro S.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é Mosq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jmosquera@metro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 de octubre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del Proyec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t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ción del costo de contratación de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mplimiento de los estándares con alta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á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minución de fallas humanas en el proceso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icidad en los requerimientos a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828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un software que apoye l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signación de Servicios de C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man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714240" cy="75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enen herramientas para la estimación de demanda de boletos y ca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971800"/>
          <a:ext cx="44197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44197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alizan mediciones de tiempos de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 una máxima congestión per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3048120"/>
          <a:ext cx="449604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496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ciones fijas (16, 4 y 2 horas) y costos de los servicios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2952720"/>
          <a:ext cx="4419720" cy="38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52720"/>
                    <a:ext cx="441972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s 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aleatorias 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rtamiento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as restricciones contractuales y op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tos ti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pef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servidores activos para una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743200"/>
          <a:ext cx="762012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6201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29200" y="4191120"/>
            <a:ext cx="7621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812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0040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680" y="403848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124080"/>
            <a:ext cx="182880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962520"/>
            <a:ext cx="167616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Inf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eatorieda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s 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chó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Rob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enarios de prob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Estocá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terativo 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408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9960" y="27194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560" y="4572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560" y="48769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1960" y="281952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4960" y="29718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54320" y="2692440"/>
            <a:ext cx="1393920" cy="73080"/>
            <a:chOff x="3154320" y="2692440"/>
            <a:chExt cx="1393920" cy="73080"/>
          </a:xfrm>
        </p:grpSpPr>
        <p:sp>
          <p:nvSpPr>
            <p:cNvPr id="144" name=""/>
            <p:cNvSpPr/>
            <p:nvPr/>
          </p:nvSpPr>
          <p:spPr>
            <a:xfrm>
              <a:off x="3154320" y="2728800"/>
              <a:ext cx="13413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7760" y="2692440"/>
              <a:ext cx="6048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38" y="23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7400" y="2448000"/>
            <a:ext cx="4038480" cy="3267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2120" y="271944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440" y="35053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0" y="3657600"/>
            <a:ext cx="52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ul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360" y="457200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4760" y="441972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572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680" y="4648320"/>
            <a:ext cx="11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6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720" y="31240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56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914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gnación Servicios de 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8006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95288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iciona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952880"/>
            <a:ext cx="106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orte con 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 temporal mínima es 15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medio de 100 simulaciones es representativo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Ajustable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exponencial para tiempos entre llegadas y entre at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 de elegir una fila es inversa a la cantidad de personas en 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 y tiemp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minis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nillas y equipos por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ones y costos de los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, duración y tipo de cada servicio 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considerac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imizar costo de los servicios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523880" y="62485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ra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800600" y="624852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i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557360"/>
            <a:ext cx="3390840" cy="24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057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819520"/>
          <a:ext cx="694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694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ámetr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819520"/>
          <a:ext cx="6865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865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 Mes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209680"/>
          <a:ext cx="69166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91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6172200"/>
          <a:ext cx="584820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172200"/>
                    <a:ext cx="58482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66680" y="5257800"/>
          <a:ext cx="69343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257800"/>
                    <a:ext cx="6934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816200"/>
          <a:ext cx="548640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16200"/>
                    <a:ext cx="548640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áx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servicios no pueden exceder la capacidad de la mesanin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ín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contratos exigen un mínimo para algun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vidores activ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ción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2743200"/>
          <a:ext cx="487656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487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4572000"/>
          <a:ext cx="42670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26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1828800" y="5943600"/>
            <a:ext cx="3952800" cy="590400"/>
            <a:chOff x="1828800" y="5943600"/>
            <a:chExt cx="3952800" cy="590400"/>
          </a:xfrm>
        </p:grpSpPr>
        <p:graphicFrame>
          <p:nvGraphicFramePr>
            <p:cNvPr id="200" name=""/>
            <p:cNvGraphicFramePr/>
            <p:nvPr/>
          </p:nvGraphicFramePr>
          <p:xfrm>
            <a:off x="1828800" y="5943600"/>
            <a:ext cx="259092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5943600"/>
                      <a:ext cx="2590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4724280" y="6095880"/>
            <a:ext cx="1057320" cy="20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4280" y="6095880"/>
                      <a:ext cx="105732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ciones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3720" y="3048120"/>
          <a:ext cx="2114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2114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05520" y="3048120"/>
          <a:ext cx="33433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3343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33720" y="4343400"/>
          <a:ext cx="33526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3352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09680" y="5105520"/>
          <a:ext cx="394344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05520"/>
                    <a:ext cx="394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09680" y="5867280"/>
          <a:ext cx="87660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867280"/>
                    <a:ext cx="876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81280" y="5867280"/>
          <a:ext cx="21621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867280"/>
                    <a:ext cx="2162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ilitación de puestos móvi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ólo pueden habilitarse cuando se llenan los pue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entre demanda y ofer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tasa de llegada es menor que la de salid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5029200"/>
          <a:ext cx="6627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029200"/>
                    <a:ext cx="6627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47920" y="2743200"/>
          <a:ext cx="66754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667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ción de la simulació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mentar puestos de venta que no cumplen el estándar en la simulación de la iteración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: Minimizar costo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00200" y="3429000"/>
          <a:ext cx="26193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2619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76520" y="4876920"/>
          <a:ext cx="2181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181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83818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rpora la aleatoriedad de tre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da de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cción de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ción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progra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ones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dar de calidad de seri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 violaciones de estándar para su corrección en la próxima it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905120"/>
          <a:ext cx="3971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97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578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4724280"/>
                <a:ext cx="3014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l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ARG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l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1440" y="5952960"/>
                <a:ext cx="20829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2428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6280" y="1557360"/>
            <a:ext cx="4257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05792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40575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651640" y="1916280"/>
            <a:ext cx="3024000" cy="1643040"/>
            <a:chOff x="5651640" y="1916280"/>
            <a:chExt cx="3024000" cy="1643040"/>
          </a:xfrm>
        </p:grpSpPr>
        <p:sp>
          <p:nvSpPr>
            <p:cNvPr id="54" name=""/>
            <p:cNvSpPr/>
            <p:nvPr/>
          </p:nvSpPr>
          <p:spPr>
            <a:xfrm>
              <a:off x="5651640" y="191628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nt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12000" y="2492280"/>
              <a:ext cx="10112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395280" y="4365720"/>
            <a:ext cx="7993080" cy="2278080"/>
            <a:chOff x="395280" y="4365720"/>
            <a:chExt cx="7993080" cy="22780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395280" y="4365720"/>
              <a:ext cx="799308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42920" y="45086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lidad de Servi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895400" y="4941720"/>
              <a:ext cx="804960" cy="8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8482 L -0.47395 -0.35829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streo represen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entre asig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tipo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1: Asignación DII fuera de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2: Asignación Metro más 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se encontró explicación ajena al modelo y se soluciona par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errores Tip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etos estimados 21-11-06 EM-OR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3124080"/>
          <a:ext cx="66470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66470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546200"/>
            <a:ext cx="73915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603520"/>
          <a:ext cx="678168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03520"/>
                    <a:ext cx="678168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asignadas (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6019920"/>
            <a:ext cx="5638680" cy="677520"/>
            <a:chOff x="1600200" y="6019920"/>
            <a:chExt cx="5638680" cy="677520"/>
          </a:xfrm>
        </p:grpSpPr>
        <p:sp>
          <p:nvSpPr>
            <p:cNvPr id="256" name=""/>
            <p:cNvSpPr/>
            <p:nvPr/>
          </p:nvSpPr>
          <p:spPr>
            <a:xfrm>
              <a:off x="1600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88920" y="1916280"/>
            <a:ext cx="7543800" cy="4028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afíos último añ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ón Ho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 Móv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encia de Program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ósticos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ustering de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buen proceso de asignación depen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stimación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jecución de los servicios asig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 para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Únic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en RIS y Tre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 de Optim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92360"/>
            <a:ext cx="40575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1700280"/>
            <a:ext cx="42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es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Trans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5516640"/>
            <a:ext cx="4767120" cy="914400"/>
            <a:chOff x="395280" y="5516640"/>
            <a:chExt cx="4767120" cy="914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067280" y="5516640"/>
              <a:ext cx="1095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18124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9528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332000" y="4292640"/>
            <a:ext cx="2952720" cy="1008000"/>
            <a:chOff x="1332000" y="4292640"/>
            <a:chExt cx="2952720" cy="1008000"/>
          </a:xfrm>
        </p:grpSpPr>
        <p:sp>
          <p:nvSpPr>
            <p:cNvPr id="68" name=""/>
            <p:cNvSpPr/>
            <p:nvPr/>
          </p:nvSpPr>
          <p:spPr>
            <a:xfrm flipH="1">
              <a:off x="1332000" y="4292640"/>
              <a:ext cx="100800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4292640"/>
              <a:ext cx="287280" cy="1008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40000" y="4292640"/>
              <a:ext cx="194472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7400" y="1695600"/>
            <a:ext cx="4424400" cy="478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7240" y="26668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52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600" y="4419720"/>
            <a:ext cx="13716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657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 asignar un cajer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05120"/>
          <a:ext cx="70102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102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808280"/>
          <a:ext cx="7010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08280"/>
                    <a:ext cx="7010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5:19:43Z</dcterms:created>
  <dc:creator>RODRIGO MUÑOZ</dc:creator>
  <dc:description/>
  <dc:language>en-US</dc:language>
  <cp:lastModifiedBy>Joselyn Bravo</cp:lastModifiedBy>
  <dcterms:modified xsi:type="dcterms:W3CDTF">2008-11-08T23:04:28Z</dcterms:modified>
  <cp:revision>83</cp:revision>
  <dc:subject/>
  <dc:title>Antecedentes</dc:title>
</cp:coreProperties>
</file>