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4.wmf" ContentType="image/x-wmf"/>
  <Override PartName="/ppt/media/image39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1.png" ContentType="image/png"/>
  <Override PartName="/ppt/media/image9.wmf" ContentType="image/x-wm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0.wmf" ContentType="image/x-wmf"/>
  <Override PartName="/ppt/media/image4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8EF-1608-4F0B-B25A-886518C4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2E8-2B7C-4412-A511-140F6000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024-1E19-436F-9747-33922A67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0CC-9953-4495-A4D7-1AF5B7D7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F78-FE0A-48CF-ADB0-86863057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9F2-09D7-46CB-B6E9-B69C23A0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AA1-C4B1-4294-8740-17FFEA4C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7BD-DDAA-4A7C-9D2D-02FE03B6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51920"/>
            <a:ext cx="609588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F6F-5589-45AD-A863-6B16A900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459-334B-468F-B471-E451E7BB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968-F4E9-402F-A392-B855C7BA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7D9-9C8C-4046-9E96-3B446DF1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66C3-6503-4731-A865-EB8EF834A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019920" y="380880"/>
            <a:ext cx="29718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" Target="slide19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ignación de Servicios de Caj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el Canal de Venta de Metro S.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osé Mosqu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jmosquera@metro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 de octubre d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 del Proyec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tab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ción del costo de contratación de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mplimiento de los estándares con alta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á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minución de fallas humanas en el proceso de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ác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mplicidad en los requerimientos a op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8288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rrollo de un software que apoye la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signación de Servicios de Ca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 man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714240" cy="754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72396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6320" y="5715000"/>
            <a:ext cx="914400" cy="601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52280" y="495288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ienen herramientas para la estimación de demanda de boletos y car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828800" y="2971800"/>
          <a:ext cx="441972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71800"/>
                    <a:ext cx="441972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alizan mediciones de tiempos de 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 una máxima congestión permi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52480" y="3048120"/>
          <a:ext cx="4496040" cy="37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449604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ciones fijas (16, 4 y 2 horas) y costos de los servicios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828800" y="2952720"/>
          <a:ext cx="4419720" cy="38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52720"/>
                    <a:ext cx="441972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os 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aleatorias 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mp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ortamiento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as restricciones contractuales y oper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intos tipo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mpefi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 de vent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úmero de servidores activos para una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2743200"/>
          <a:ext cx="7620120" cy="37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762012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029200" y="4191120"/>
            <a:ext cx="76212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581280"/>
            <a:ext cx="76176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62520" y="320040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38680" y="4038480"/>
            <a:ext cx="53352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124080"/>
            <a:ext cx="182880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962520"/>
            <a:ext cx="167616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Inf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eatorieda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697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es 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chón de segu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Robu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enarios de prob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Estocást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Iterativo Mi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2408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99960" y="271944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560" y="457200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724280"/>
            <a:ext cx="46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560" y="487692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1960" y="281952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 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4960" y="297180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54320" y="2692440"/>
            <a:ext cx="1393920" cy="73080"/>
            <a:chOff x="3154320" y="2692440"/>
            <a:chExt cx="1393920" cy="73080"/>
          </a:xfrm>
        </p:grpSpPr>
        <p:sp>
          <p:nvSpPr>
            <p:cNvPr id="144" name=""/>
            <p:cNvSpPr/>
            <p:nvPr/>
          </p:nvSpPr>
          <p:spPr>
            <a:xfrm>
              <a:off x="3154320" y="2728800"/>
              <a:ext cx="134136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87760" y="2692440"/>
              <a:ext cx="60480" cy="7308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0" y="0"/>
                  </a:moveTo>
                  <a:lnTo>
                    <a:pt x="38" y="23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057400" y="2448000"/>
            <a:ext cx="4038480" cy="32670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760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12120" y="2719440"/>
            <a:ext cx="87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440" y="3505320"/>
            <a:ext cx="61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0" y="3657600"/>
            <a:ext cx="52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ul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360" y="457200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4760" y="441972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57200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680" y="4648320"/>
            <a:ext cx="11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43200"/>
            <a:ext cx="762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stanc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971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720" y="312408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min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59056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909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114800"/>
            <a:ext cx="9144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ignación Servicios de 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480060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ervi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495288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iciona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952880"/>
            <a:ext cx="1067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porte con Indicad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 temporal mínima es 15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medio de 100 simulaciones es representativo de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Ajustables Im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exponencial para tiempos entre llegadas y entre at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dad de elegir una fila es inversa a la cantidad de personas en 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 y tiemp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terminist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ntanillas y equipos por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ciones y costos de los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, duración y tipo de cada servicio contra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s del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as consideraciones 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imizar costo de los servicios contra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1523880" y="6248520"/>
            <a:ext cx="2743200" cy="457200"/>
          </a:xfrm>
          <a:custGeom>
            <a:avLst/>
            <a:gdLst>
              <a:gd name="textAreaLeft" fmla="*/ 29520 w 2743200"/>
              <a:gd name="textAreaRight" fmla="*/ 2713680 w 2743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9515" h="21600">
                <a:moveTo>
                  <a:pt x="0" y="0"/>
                </a:moveTo>
                <a:lnTo>
                  <a:pt x="129515" y="0"/>
                </a:lnTo>
                <a:lnTo>
                  <a:pt x="129515" y="21600"/>
                </a:lnTo>
                <a:lnTo>
                  <a:pt x="0" y="21600"/>
                </a:lnTo>
                <a:close/>
              </a:path>
              <a:path fill="lightenLess" w="129515" h="21600">
                <a:moveTo>
                  <a:pt x="0" y="0"/>
                </a:moveTo>
                <a:lnTo>
                  <a:pt x="129515" y="0"/>
                </a:lnTo>
                <a:lnTo>
                  <a:pt x="128115" y="1400"/>
                </a:lnTo>
                <a:lnTo>
                  <a:pt x="1400" y="1400"/>
                </a:lnTo>
                <a:close/>
              </a:path>
              <a:path fill="darken" w="129515" h="21600">
                <a:moveTo>
                  <a:pt x="129515" y="0"/>
                </a:moveTo>
                <a:lnTo>
                  <a:pt x="129515" y="21600"/>
                </a:lnTo>
                <a:lnTo>
                  <a:pt x="128115" y="20200"/>
                </a:lnTo>
                <a:lnTo>
                  <a:pt x="128115" y="1400"/>
                </a:lnTo>
                <a:close/>
              </a:path>
              <a:path fill="darkenLess" w="129515" h="21600">
                <a:moveTo>
                  <a:pt x="129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5" y="20200"/>
                </a:lnTo>
                <a:close/>
              </a:path>
              <a:path fill="lighten" w="129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ra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4800600" y="6248520"/>
            <a:ext cx="2438280" cy="457200"/>
          </a:xfrm>
          <a:custGeom>
            <a:avLst/>
            <a:gdLst>
              <a:gd name="textAreaLeft" fmla="*/ 29520 w 2438280"/>
              <a:gd name="textAreaRight" fmla="*/ 2408760 w 2438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5121" h="21600">
                <a:moveTo>
                  <a:pt x="0" y="0"/>
                </a:moveTo>
                <a:lnTo>
                  <a:pt x="115121" y="0"/>
                </a:lnTo>
                <a:lnTo>
                  <a:pt x="115121" y="21600"/>
                </a:lnTo>
                <a:lnTo>
                  <a:pt x="0" y="21600"/>
                </a:lnTo>
                <a:close/>
              </a:path>
              <a:path fill="lightenLess" w="115121" h="21600">
                <a:moveTo>
                  <a:pt x="0" y="0"/>
                </a:moveTo>
                <a:lnTo>
                  <a:pt x="115121" y="0"/>
                </a:lnTo>
                <a:lnTo>
                  <a:pt x="113721" y="1400"/>
                </a:lnTo>
                <a:lnTo>
                  <a:pt x="1400" y="1400"/>
                </a:lnTo>
                <a:close/>
              </a:path>
              <a:path fill="darken" w="115121" h="21600">
                <a:moveTo>
                  <a:pt x="115121" y="0"/>
                </a:moveTo>
                <a:lnTo>
                  <a:pt x="115121" y="21600"/>
                </a:lnTo>
                <a:lnTo>
                  <a:pt x="113721" y="20200"/>
                </a:lnTo>
                <a:lnTo>
                  <a:pt x="113721" y="1400"/>
                </a:lnTo>
                <a:close/>
              </a:path>
              <a:path fill="darkenLess" w="115121" h="21600">
                <a:moveTo>
                  <a:pt x="115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21" y="20200"/>
                </a:lnTo>
                <a:close/>
              </a:path>
              <a:path fill="lighten" w="115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ti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1160" y="1557360"/>
            <a:ext cx="3390840" cy="245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4057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2819520"/>
          <a:ext cx="69422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6942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ámetr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2819520"/>
          <a:ext cx="68659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6865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 Mesa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66680" y="2209680"/>
          <a:ext cx="69166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69166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62120" y="6172200"/>
          <a:ext cx="5848200" cy="2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6172200"/>
                    <a:ext cx="584820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066680" y="5257800"/>
          <a:ext cx="693432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257800"/>
                    <a:ext cx="69343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ux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66680" y="1816200"/>
          <a:ext cx="5486400" cy="45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16200"/>
                    <a:ext cx="5486400" cy="45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áx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servicios no pueden exceder la capacidad de la mesanin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ín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contratos exigen un mínimo para algunos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rvidores activo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ción variable aux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76520" y="2743200"/>
          <a:ext cx="487656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743200"/>
                    <a:ext cx="48765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4572000"/>
          <a:ext cx="42670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572000"/>
                    <a:ext cx="4267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" name=""/>
          <p:cNvGrpSpPr/>
          <p:nvPr/>
        </p:nvGrpSpPr>
        <p:grpSpPr>
          <a:xfrm>
            <a:off x="1828800" y="5943600"/>
            <a:ext cx="3952800" cy="590400"/>
            <a:chOff x="1828800" y="5943600"/>
            <a:chExt cx="3952800" cy="590400"/>
          </a:xfrm>
        </p:grpSpPr>
        <p:graphicFrame>
          <p:nvGraphicFramePr>
            <p:cNvPr id="200" name=""/>
            <p:cNvGraphicFramePr/>
            <p:nvPr/>
          </p:nvGraphicFramePr>
          <p:xfrm>
            <a:off x="1828800" y="5943600"/>
            <a:ext cx="2590920" cy="59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5943600"/>
                      <a:ext cx="259092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4724280" y="6095880"/>
            <a:ext cx="1057320" cy="20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24280" y="6095880"/>
                      <a:ext cx="105732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ciones en la progra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Inf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3720" y="3048120"/>
          <a:ext cx="21142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8120"/>
                    <a:ext cx="2114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105520" y="3048120"/>
          <a:ext cx="334332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33433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133720" y="4343400"/>
          <a:ext cx="335268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343400"/>
                    <a:ext cx="33526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209680" y="5105520"/>
          <a:ext cx="394344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5105520"/>
                    <a:ext cx="39434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209680" y="5867280"/>
          <a:ext cx="876600" cy="27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5867280"/>
                    <a:ext cx="8766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581280" y="5867280"/>
          <a:ext cx="216216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5867280"/>
                    <a:ext cx="21621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ilitación de puestos móvi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ólo pueden habilitarse cuando se llenan los puestos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entre demanda y ofert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tasa de llegada es menor que la de salid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5029200"/>
          <a:ext cx="66279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029200"/>
                    <a:ext cx="6627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447920" y="2743200"/>
          <a:ext cx="667548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743200"/>
                    <a:ext cx="66754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ción de la simulació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mentar puestos de venta que no cumplen el estándar en la simulación de la iteración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Objetivo: Minimizar costos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600200" y="3429000"/>
          <a:ext cx="261936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29000"/>
                    <a:ext cx="26193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676520" y="4876920"/>
          <a:ext cx="218124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6920"/>
                    <a:ext cx="2181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8381880" y="5791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orpora la aleatoriedad de tre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egada de 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cción de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ención de la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vicios progra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ribuciones de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ndar de calidad de seri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ctar violaciones de estándar para su corrección en la próxima it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00200" y="1905120"/>
          <a:ext cx="39718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39718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2578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4724280"/>
                <a:ext cx="3014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l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ARG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l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11440" y="5952960"/>
                <a:ext cx="20829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92428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46280" y="1557360"/>
            <a:ext cx="425736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4149720"/>
            <a:ext cx="4057920" cy="245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4057560" cy="2457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651640" y="1916280"/>
            <a:ext cx="3024000" cy="1643040"/>
            <a:chOff x="5651640" y="1916280"/>
            <a:chExt cx="3024000" cy="1643040"/>
          </a:xfrm>
        </p:grpSpPr>
        <p:sp>
          <p:nvSpPr>
            <p:cNvPr id="54" name=""/>
            <p:cNvSpPr/>
            <p:nvPr/>
          </p:nvSpPr>
          <p:spPr>
            <a:xfrm>
              <a:off x="5651640" y="191628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nta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6012000" y="2492280"/>
              <a:ext cx="10112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395280" y="4365720"/>
            <a:ext cx="7993080" cy="2278080"/>
            <a:chOff x="395280" y="4365720"/>
            <a:chExt cx="7993080" cy="227808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395280" y="4365720"/>
              <a:ext cx="799308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042920" y="450864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lidad de Servic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1895400" y="4941720"/>
              <a:ext cx="804960" cy="846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43 -0.08482 L -0.47395 -0.35829 E">
                                      <p:cBhvr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estreo represen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% 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s entre asig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tipos d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1: Asignación DII fuera de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2: Asignación Metro más ba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se encontró explicación ajena al modelo y se soluciona para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álisis de errores Tip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etos estimados 21-11-06 EM-OR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38080" y="3124080"/>
          <a:ext cx="664704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24080"/>
                    <a:ext cx="664704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156204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9480" y="1546200"/>
            <a:ext cx="739152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676520" y="2603520"/>
          <a:ext cx="678168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03520"/>
                    <a:ext cx="678168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 asignadas (m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600200" y="6019920"/>
            <a:ext cx="5638680" cy="677520"/>
            <a:chOff x="1600200" y="6019920"/>
            <a:chExt cx="5638680" cy="677520"/>
          </a:xfrm>
        </p:grpSpPr>
        <p:sp>
          <p:nvSpPr>
            <p:cNvPr id="256" name=""/>
            <p:cNvSpPr/>
            <p:nvPr/>
          </p:nvSpPr>
          <p:spPr>
            <a:xfrm>
              <a:off x="1600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7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9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6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0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57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5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72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88920" y="1916280"/>
            <a:ext cx="7543800" cy="4028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afíos último añ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tensión Hor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 Móv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encia de Program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nósticos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ma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ustering de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buen proceso de asignación depend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stimación de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jecución de los servicios asig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acto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toso para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Único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blicación en RIS y Tre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más de Optim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l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fi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és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692360"/>
            <a:ext cx="4057560" cy="245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6360" y="1700280"/>
            <a:ext cx="428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es T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ción de Caj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Trans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ón de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80" y="5516640"/>
            <a:ext cx="4767120" cy="914400"/>
            <a:chOff x="395280" y="5516640"/>
            <a:chExt cx="4767120" cy="9144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4067280" y="5516640"/>
              <a:ext cx="1095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218124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9528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1332000" y="4292640"/>
            <a:ext cx="2952720" cy="1008000"/>
            <a:chOff x="1332000" y="4292640"/>
            <a:chExt cx="2952720" cy="1008000"/>
          </a:xfrm>
        </p:grpSpPr>
        <p:sp>
          <p:nvSpPr>
            <p:cNvPr id="68" name=""/>
            <p:cNvSpPr/>
            <p:nvPr/>
          </p:nvSpPr>
          <p:spPr>
            <a:xfrm flipH="1">
              <a:off x="1332000" y="4292640"/>
              <a:ext cx="100800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0000" y="4292640"/>
              <a:ext cx="287280" cy="10080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40000" y="4292640"/>
              <a:ext cx="194472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057400" y="1695600"/>
            <a:ext cx="4424400" cy="478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27240" y="2666880"/>
            <a:ext cx="25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038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952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00600" y="4419720"/>
            <a:ext cx="13716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36576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 de asignar un cajero m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1905120"/>
          <a:ext cx="701028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01028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1808280"/>
          <a:ext cx="70102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08280"/>
                    <a:ext cx="70102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5:19:43Z</dcterms:created>
  <dc:creator>RODRIGO MUÑOZ</dc:creator>
  <dc:description/>
  <dc:language>en-US</dc:language>
  <cp:lastModifiedBy>Joselyn Bravo</cp:lastModifiedBy>
  <dcterms:modified xsi:type="dcterms:W3CDTF">2008-11-08T23:04:28Z</dcterms:modified>
  <cp:revision>83</cp:revision>
  <dc:subject/>
  <dc:title>Antecedentes</dc:title>
</cp:coreProperties>
</file>