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png" ContentType="image/png"/>
  <Override PartName="/ppt/media/image16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4.wmf" ContentType="image/x-wmf"/>
  <Override PartName="/ppt/media/image39.png" ContentType="image/png"/>
  <Override PartName="/ppt/media/image38.png" ContentType="image/png"/>
  <Override PartName="/ppt/media/image13.png" ContentType="image/png"/>
  <Override PartName="/ppt/media/image40.png" ContentType="image/png"/>
  <Override PartName="/ppt/media/image8.wmf" ContentType="image/x-wmf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41.png" ContentType="image/png"/>
  <Override PartName="/ppt/media/image9.wmf" ContentType="image/x-wmf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50.wmf" ContentType="image/x-wmf"/>
  <Override PartName="/ppt/media/image47.png" ContentType="image/png"/>
  <Override PartName="/ppt/media/image1.jpeg" ContentType="image/jpeg"/>
  <Override PartName="/ppt/media/image15.wmf" ContentType="image/x-wmf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3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AD16-2FAA-423A-9DBF-56F84C5D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9326-94B6-490D-9904-777DD21D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9E2D-82EF-40A5-B171-D19308BDF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FCFE-4BB9-4FEB-BBF8-5539CA6EF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0812-E6A7-4C65-9BD6-4ED073A56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BF3-A7FC-4D40-AC09-93735616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1287-810C-4902-94D5-2518AA67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1166-E5AB-4E84-A369-40F70A9A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51920"/>
            <a:ext cx="609588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25A7-9E9F-4424-9403-EDABCB4C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6C08-FFD7-4FB1-89AD-4B9036B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7935-92EB-4536-828D-5D0B880E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575E-0F35-447F-BE0E-80BF5D7A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cc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DFE4-7058-48BC-A0E7-2C7086A0E9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6019920" y="380880"/>
            <a:ext cx="29718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0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" Target="slide28.xm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png"/><Relationship Id="rId1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slide" Target="slide19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ignación de Servicios de Caja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 el Canal de Venta de Metro S.A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José Mosq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"/>
              </a:rPr>
              <a:t>jmosquera@metro.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8 de octubre de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bjetivo del Proyect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32763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nta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ducción del costo de contratación de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rvicia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mplimiento de los estándares con alta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tomá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minución de fallas humanas en el proceso de Asig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áctic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icidad en los requerimientos a oper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1828800"/>
            <a:ext cx="77724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arrollo de un software que apoye la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Asignación de Servicios de Caj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 maner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714240" cy="754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28600" y="4038480"/>
            <a:ext cx="723960" cy="762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76320" y="5715000"/>
            <a:ext cx="914400" cy="601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52280" y="4952880"/>
            <a:ext cx="76212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tienen herramientas para la estimación de demanda de boletos y car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28800" y="2971800"/>
          <a:ext cx="441972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71800"/>
                    <a:ext cx="441972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 realizan mediciones de tiempos de T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iste una máxima congestión permi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52480" y="3048120"/>
          <a:ext cx="4496040" cy="377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4496040" cy="377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aciones fijas (16, 4 y 2 horas) y costos de los servicios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828800" y="2952720"/>
          <a:ext cx="4419720" cy="38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952720"/>
                    <a:ext cx="4419720" cy="38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os da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aleatorias en 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iemp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ortamiento de los cl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tras restricciones contractuales y oper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stintos tipos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ompefi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ent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jemplo de venta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úmero de servidores activos para una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2743200"/>
          <a:ext cx="7620120" cy="3751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620120" cy="37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5029200" y="4191120"/>
            <a:ext cx="762120" cy="838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76720" y="35812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962520" y="3200400"/>
            <a:ext cx="38088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638680" y="4038480"/>
            <a:ext cx="533520" cy="152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19720" y="3124080"/>
            <a:ext cx="182880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Sup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962520"/>
            <a:ext cx="1676160" cy="3366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ntana Inf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cripción del Problema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leatoriedad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769760"/>
            <a:ext cx="77724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ores Med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chó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Robu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enarios de prob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ptimización Estocásti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o Iterativo Mix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todologí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2408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99960" y="2719440"/>
            <a:ext cx="1033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ptimiz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4267080"/>
            <a:ext cx="1066680" cy="1032120"/>
          </a:xfrm>
          <a:custGeom>
            <a:avLst/>
            <a:gdLst/>
            <a:ahLst/>
            <a:rect l="l" t="t" r="r" b="b"/>
            <a:pathLst>
              <a:path w="748" h="825">
                <a:moveTo>
                  <a:pt x="0" y="413"/>
                </a:moveTo>
                <a:lnTo>
                  <a:pt x="374" y="0"/>
                </a:lnTo>
                <a:lnTo>
                  <a:pt x="748" y="413"/>
                </a:lnTo>
                <a:lnTo>
                  <a:pt x="374" y="825"/>
                </a:lnTo>
                <a:lnTo>
                  <a:pt x="0" y="413"/>
                </a:lnTo>
                <a:close/>
              </a:path>
            </a:pathLst>
          </a:cu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76560" y="4572000"/>
            <a:ext cx="68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76920" y="4724280"/>
            <a:ext cx="465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ump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560" y="487692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ánd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51960" y="281952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 c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4960" y="29718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154320" y="2692440"/>
            <a:ext cx="1393920" cy="73080"/>
            <a:chOff x="3154320" y="2692440"/>
            <a:chExt cx="1393920" cy="73080"/>
          </a:xfrm>
        </p:grpSpPr>
        <p:sp>
          <p:nvSpPr>
            <p:cNvPr id="144" name=""/>
            <p:cNvSpPr/>
            <p:nvPr/>
          </p:nvSpPr>
          <p:spPr>
            <a:xfrm>
              <a:off x="3154320" y="2728800"/>
              <a:ext cx="1341360" cy="180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87760" y="2692440"/>
              <a:ext cx="60480" cy="7308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0" y="0"/>
                  </a:moveTo>
                  <a:lnTo>
                    <a:pt x="38" y="23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057400" y="2448000"/>
            <a:ext cx="4038480" cy="3267000"/>
          </a:xfrm>
          <a:prstGeom prst="rect">
            <a:avLst/>
          </a:prstGeom>
          <a:noFill/>
          <a:ln cap="rnd"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27600" y="25322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ódulo d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12120" y="2719440"/>
            <a:ext cx="878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imulació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440" y="3505320"/>
            <a:ext cx="61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0" y="3657600"/>
            <a:ext cx="52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ul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19360" y="4572000"/>
            <a:ext cx="16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4760" y="4419720"/>
            <a:ext cx="43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uev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5480" y="457200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gl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91680" y="4648320"/>
            <a:ext cx="111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743200"/>
            <a:ext cx="762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stanci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2971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figu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720" y="3124080"/>
            <a:ext cx="773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terminis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259056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2590920" y="2971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800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00800" y="4114800"/>
            <a:ext cx="91440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signación Servicios de 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28954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2666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480060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ervic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95480" y="4952880"/>
            <a:ext cx="67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icional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324480" y="4952880"/>
            <a:ext cx="106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porte con Indicador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puestos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dad temporal mínima es 15 minu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promedio de 100 simulaciones es representativo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uestos Ajustables Im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ción exponencial para tiempos entre llegadas y entre aten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bilidad de elegir una fila es inversa a la cantidad de personas en 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mandas y tiempos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terminista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ntanillas y equipos por mesan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uraciones y costos de los servicios de c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icio, duración y tipo de cada servicio contra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glas del nego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gunas consideraciones oper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inimizar costo de los servicios contra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1" action="ppaction://hlinksldjump"/>
          </p:cNvPr>
          <p:cNvSpPr/>
          <p:nvPr/>
        </p:nvSpPr>
        <p:spPr>
          <a:xfrm>
            <a:off x="1523880" y="6248520"/>
            <a:ext cx="2743200" cy="457200"/>
          </a:xfrm>
          <a:custGeom>
            <a:avLst/>
            <a:gdLst>
              <a:gd name="textAreaLeft" fmla="*/ 29520 w 2743200"/>
              <a:gd name="textAreaRight" fmla="*/ 2713680 w 2743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29515" h="21600">
                <a:moveTo>
                  <a:pt x="0" y="0"/>
                </a:moveTo>
                <a:lnTo>
                  <a:pt x="129515" y="0"/>
                </a:lnTo>
                <a:lnTo>
                  <a:pt x="129515" y="21600"/>
                </a:lnTo>
                <a:lnTo>
                  <a:pt x="0" y="21600"/>
                </a:lnTo>
                <a:close/>
              </a:path>
              <a:path fill="lightenLess" w="129515" h="21600">
                <a:moveTo>
                  <a:pt x="0" y="0"/>
                </a:moveTo>
                <a:lnTo>
                  <a:pt x="129515" y="0"/>
                </a:lnTo>
                <a:lnTo>
                  <a:pt x="128115" y="1400"/>
                </a:lnTo>
                <a:lnTo>
                  <a:pt x="1400" y="1400"/>
                </a:lnTo>
                <a:close/>
              </a:path>
              <a:path fill="darken" w="129515" h="21600">
                <a:moveTo>
                  <a:pt x="129515" y="0"/>
                </a:moveTo>
                <a:lnTo>
                  <a:pt x="129515" y="21600"/>
                </a:lnTo>
                <a:lnTo>
                  <a:pt x="128115" y="20200"/>
                </a:lnTo>
                <a:lnTo>
                  <a:pt x="128115" y="1400"/>
                </a:lnTo>
                <a:close/>
              </a:path>
              <a:path fill="darkenLess" w="129515" h="21600">
                <a:moveTo>
                  <a:pt x="1295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15" y="20200"/>
                </a:lnTo>
                <a:close/>
              </a:path>
              <a:path fill="lighten" w="1295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ra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2" action="ppaction://hlinksldjump"/>
          </p:cNvPr>
          <p:cNvSpPr/>
          <p:nvPr/>
        </p:nvSpPr>
        <p:spPr>
          <a:xfrm>
            <a:off x="4800600" y="6248520"/>
            <a:ext cx="2438280" cy="457200"/>
          </a:xfrm>
          <a:custGeom>
            <a:avLst/>
            <a:gdLst>
              <a:gd name="textAreaLeft" fmla="*/ 29520 w 2438280"/>
              <a:gd name="textAreaRight" fmla="*/ 2408760 w 2438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115121" h="21600">
                <a:moveTo>
                  <a:pt x="0" y="0"/>
                </a:moveTo>
                <a:lnTo>
                  <a:pt x="115121" y="0"/>
                </a:lnTo>
                <a:lnTo>
                  <a:pt x="115121" y="21600"/>
                </a:lnTo>
                <a:lnTo>
                  <a:pt x="0" y="21600"/>
                </a:lnTo>
                <a:close/>
              </a:path>
              <a:path fill="lightenLess" w="115121" h="21600">
                <a:moveTo>
                  <a:pt x="0" y="0"/>
                </a:moveTo>
                <a:lnTo>
                  <a:pt x="115121" y="0"/>
                </a:lnTo>
                <a:lnTo>
                  <a:pt x="113721" y="1400"/>
                </a:lnTo>
                <a:lnTo>
                  <a:pt x="1400" y="1400"/>
                </a:lnTo>
                <a:close/>
              </a:path>
              <a:path fill="darken" w="115121" h="21600">
                <a:moveTo>
                  <a:pt x="115121" y="0"/>
                </a:moveTo>
                <a:lnTo>
                  <a:pt x="115121" y="21600"/>
                </a:lnTo>
                <a:lnTo>
                  <a:pt x="113721" y="20200"/>
                </a:lnTo>
                <a:lnTo>
                  <a:pt x="113721" y="1400"/>
                </a:lnTo>
                <a:close/>
              </a:path>
              <a:path fill="darkenLess" w="115121" h="21600">
                <a:moveTo>
                  <a:pt x="1151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721" y="20200"/>
                </a:lnTo>
                <a:close/>
              </a:path>
              <a:path fill="lighten" w="1151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itir Ecu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81160" y="1557360"/>
            <a:ext cx="3390840" cy="2457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42920" y="4149720"/>
            <a:ext cx="405756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914400" y="2819520"/>
          <a:ext cx="694224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19520"/>
                    <a:ext cx="6942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ámetros Glob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066680" y="2819520"/>
          <a:ext cx="68659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19520"/>
                    <a:ext cx="68659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 Mesa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 de deci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66680" y="2209680"/>
          <a:ext cx="69166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69166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762120" y="6172200"/>
          <a:ext cx="5848200" cy="21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6172200"/>
                    <a:ext cx="584820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1066680" y="5257800"/>
          <a:ext cx="693432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66680" y="5257800"/>
                    <a:ext cx="693432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 auxilia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066680" y="1816200"/>
          <a:ext cx="5486400" cy="45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16200"/>
                    <a:ext cx="5486400" cy="45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áx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servicios no pueden exceder la capacidad de la mesanina </a:t>
            </a: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apacidad mínima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Los contratos exigen un mínimo para algunos servic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vidores activos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ción variable auxili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76520" y="2743200"/>
          <a:ext cx="4876560" cy="6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743200"/>
                    <a:ext cx="4876560" cy="6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1828800" y="4572000"/>
          <a:ext cx="4267080" cy="6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4572000"/>
                    <a:ext cx="426708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"/>
          <p:cNvGrpSpPr/>
          <p:nvPr/>
        </p:nvGrpSpPr>
        <p:grpSpPr>
          <a:xfrm>
            <a:off x="1828800" y="5943600"/>
            <a:ext cx="3952800" cy="590400"/>
            <a:chOff x="1828800" y="5943600"/>
            <a:chExt cx="3952800" cy="590400"/>
          </a:xfrm>
        </p:grpSpPr>
        <p:graphicFrame>
          <p:nvGraphicFramePr>
            <p:cNvPr id="200" name=""/>
            <p:cNvGraphicFramePr/>
            <p:nvPr/>
          </p:nvGraphicFramePr>
          <p:xfrm>
            <a:off x="1828800" y="5943600"/>
            <a:ext cx="2590920" cy="590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5943600"/>
                      <a:ext cx="2590920" cy="59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02" name=""/>
            <p:cNvGraphicFramePr/>
            <p:nvPr/>
          </p:nvGraphicFramePr>
          <p:xfrm>
            <a:off x="4724280" y="6095880"/>
            <a:ext cx="1057320" cy="2001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724280" y="6095880"/>
                      <a:ext cx="105732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ciones en la program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Inf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ntanas Sup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133720" y="3048120"/>
          <a:ext cx="211428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048120"/>
                    <a:ext cx="211428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5105520" y="3048120"/>
          <a:ext cx="3343320" cy="79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3343320" cy="7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2133720" y="4343400"/>
          <a:ext cx="3352680" cy="29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4343400"/>
                    <a:ext cx="3352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209680" y="5105520"/>
          <a:ext cx="3943440" cy="304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09680" y="5105520"/>
                    <a:ext cx="394344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2209680" y="5867280"/>
          <a:ext cx="87660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09680" y="5867280"/>
                    <a:ext cx="876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3581280" y="5867280"/>
          <a:ext cx="2162160" cy="266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81280" y="5867280"/>
                    <a:ext cx="216216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bilitación de puestos móvi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ólo pueden habilitarse cuando se llenan los puestos 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entre demanda y oferta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tasa de llegada es menor que la de salid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600200" y="5029200"/>
          <a:ext cx="66279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5029200"/>
                    <a:ext cx="6627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1447920" y="2743200"/>
          <a:ext cx="6675480" cy="109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2743200"/>
                    <a:ext cx="66754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1: Optimiz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ción de la simulació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mentar puestos de venta que no cumplen el estándar en la simulación de la iteración an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ión Objetivo: Minimizar costos de o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00200" y="3429000"/>
          <a:ext cx="2619360" cy="32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429000"/>
                    <a:ext cx="26193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1676520" y="4876920"/>
          <a:ext cx="2181240" cy="59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876920"/>
                    <a:ext cx="218124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8381880" y="5791320"/>
            <a:ext cx="609840" cy="53316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704" h="21600">
                <a:moveTo>
                  <a:pt x="0" y="0"/>
                </a:moveTo>
                <a:lnTo>
                  <a:pt x="24704" y="0"/>
                </a:lnTo>
                <a:lnTo>
                  <a:pt x="24704" y="21600"/>
                </a:lnTo>
                <a:lnTo>
                  <a:pt x="0" y="21600"/>
                </a:lnTo>
                <a:close/>
              </a:path>
              <a:path fill="lightenLess" w="24704" h="21600">
                <a:moveTo>
                  <a:pt x="0" y="0"/>
                </a:moveTo>
                <a:lnTo>
                  <a:pt x="24704" y="0"/>
                </a:lnTo>
                <a:lnTo>
                  <a:pt x="23304" y="1400"/>
                </a:lnTo>
                <a:lnTo>
                  <a:pt x="1400" y="1400"/>
                </a:lnTo>
                <a:close/>
              </a:path>
              <a:path fill="darken" w="24704" h="21600">
                <a:moveTo>
                  <a:pt x="24704" y="0"/>
                </a:moveTo>
                <a:lnTo>
                  <a:pt x="24704" y="21600"/>
                </a:lnTo>
                <a:lnTo>
                  <a:pt x="23304" y="20200"/>
                </a:lnTo>
                <a:lnTo>
                  <a:pt x="23304" y="1400"/>
                </a:lnTo>
                <a:close/>
              </a:path>
              <a:path fill="darkenLess" w="24704" h="21600">
                <a:moveTo>
                  <a:pt x="247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04" y="20200"/>
                </a:lnTo>
                <a:close/>
              </a:path>
              <a:path fill="lighten" w="247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04" h="21600">
                <a:moveTo>
                  <a:pt x="5346" y="10800"/>
                </a:moveTo>
                <a:lnTo>
                  <a:pt x="19359" y="3794"/>
                </a:lnTo>
                <a:lnTo>
                  <a:pt x="19359" y="17806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corpora la aleatoriedad de tres eta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legada de ent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lección de servi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tención de la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rvicios progra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ribuciones de prob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ándar de calidad de seri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tectar violaciones de estándar para su corrección en la próxima it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ódulo 2: Simul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1600200" y="1905120"/>
          <a:ext cx="397188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397188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52578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44956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05520" y="1752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4724280"/>
                <a:ext cx="301464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il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∝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ARG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il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β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2611440" y="5952960"/>
                <a:ext cx="208296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a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435640" y="1557360"/>
            <a:ext cx="2924280" cy="24573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6280" y="1557360"/>
            <a:ext cx="4257360" cy="24573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4716360" y="4149720"/>
            <a:ext cx="4057920" cy="2457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468360" y="4149720"/>
            <a:ext cx="40575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53" name=""/>
          <p:cNvGrpSpPr/>
          <p:nvPr/>
        </p:nvGrpSpPr>
        <p:grpSpPr>
          <a:xfrm>
            <a:off x="5651640" y="1916280"/>
            <a:ext cx="3024000" cy="1643040"/>
            <a:chOff x="5651640" y="1916280"/>
            <a:chExt cx="3024000" cy="1643040"/>
          </a:xfrm>
        </p:grpSpPr>
        <p:sp>
          <p:nvSpPr>
            <p:cNvPr id="54" name=""/>
            <p:cNvSpPr/>
            <p:nvPr/>
          </p:nvSpPr>
          <p:spPr>
            <a:xfrm>
              <a:off x="5651640" y="1916280"/>
              <a:ext cx="30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nt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5"/>
            <a:stretch/>
          </p:blipFill>
          <p:spPr>
            <a:xfrm>
              <a:off x="6012000" y="2492280"/>
              <a:ext cx="1011240" cy="10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" name=""/>
          <p:cNvGrpSpPr/>
          <p:nvPr/>
        </p:nvGrpSpPr>
        <p:grpSpPr>
          <a:xfrm>
            <a:off x="395280" y="4365720"/>
            <a:ext cx="7993080" cy="2278080"/>
            <a:chOff x="395280" y="4365720"/>
            <a:chExt cx="7993080" cy="2278080"/>
          </a:xfrm>
        </p:grpSpPr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395280" y="4365720"/>
              <a:ext cx="7993080" cy="22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42920" y="450864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alidad de Servic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7"/>
            <a:stretch/>
          </p:blipFill>
          <p:spPr>
            <a:xfrm>
              <a:off x="1895400" y="4941720"/>
              <a:ext cx="804960" cy="846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743 -0.08482 L -0.47395 -0.35829 E">
                                      <p:cBhvr>
                                        <p:cTn id="15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estreo represent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%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erencias entre asign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s tipos d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1: Asignación DII fuera de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2: Asignación Metro más bar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mpre se encontró explicación ajena al modelo y se soluciona para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alidación del Model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de errores Tip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letos estimados 21-11-06 EM-OR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838080" y="3124080"/>
          <a:ext cx="6647040" cy="331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124080"/>
                    <a:ext cx="664704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85800" y="156204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609480" y="1546200"/>
            <a:ext cx="7391520" cy="51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676520" y="2603520"/>
          <a:ext cx="6781680" cy="33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03520"/>
                    <a:ext cx="6781680" cy="33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4724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H asignadas (m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1600200" y="6019920"/>
            <a:ext cx="5638680" cy="677520"/>
            <a:chOff x="1600200" y="6019920"/>
            <a:chExt cx="5638680" cy="677520"/>
          </a:xfrm>
        </p:grpSpPr>
        <p:sp>
          <p:nvSpPr>
            <p:cNvPr id="256" name=""/>
            <p:cNvSpPr/>
            <p:nvPr/>
          </p:nvSpPr>
          <p:spPr>
            <a:xfrm>
              <a:off x="1600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C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057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V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14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71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29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E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86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3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06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2578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150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JU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722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629400" y="6019920"/>
              <a:ext cx="609480" cy="67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988920" y="1916280"/>
            <a:ext cx="7543800" cy="40287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esafíos último añ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xtensión Hor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S Móv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rencia de Program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ronósticos de Dema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utomat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lustering de d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 buen proceso de asignación depende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stimación de dema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a correcta ejecución de los servicios asign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acto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xitoso para l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Único en el m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blicación en RIS y Trend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00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demás de Optim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ultura organiz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9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és del Cl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1692360"/>
            <a:ext cx="4057560" cy="24573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716360" y="1700280"/>
            <a:ext cx="42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ales T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gnación de Caj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Abast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ón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de Trans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ministración de Contr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95280" y="5516640"/>
            <a:ext cx="4767120" cy="914400"/>
            <a:chOff x="395280" y="5516640"/>
            <a:chExt cx="4767120" cy="914400"/>
          </a:xfrm>
        </p:grpSpPr>
        <p:pic>
          <p:nvPicPr>
            <p:cNvPr id="64" name="" descr=""/>
            <p:cNvPicPr/>
            <p:nvPr/>
          </p:nvPicPr>
          <p:blipFill>
            <a:blip r:embed="rId2"/>
            <a:stretch/>
          </p:blipFill>
          <p:spPr>
            <a:xfrm>
              <a:off x="4067280" y="5516640"/>
              <a:ext cx="109512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3"/>
            <a:stretch/>
          </p:blipFill>
          <p:spPr>
            <a:xfrm>
              <a:off x="218124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4"/>
            <a:stretch/>
          </p:blipFill>
          <p:spPr>
            <a:xfrm>
              <a:off x="395280" y="5516640"/>
              <a:ext cx="1095480" cy="914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" name=""/>
          <p:cNvGrpSpPr/>
          <p:nvPr/>
        </p:nvGrpSpPr>
        <p:grpSpPr>
          <a:xfrm>
            <a:off x="1332000" y="4292640"/>
            <a:ext cx="2952720" cy="1008000"/>
            <a:chOff x="1332000" y="4292640"/>
            <a:chExt cx="2952720" cy="1008000"/>
          </a:xfrm>
        </p:grpSpPr>
        <p:sp>
          <p:nvSpPr>
            <p:cNvPr id="68" name=""/>
            <p:cNvSpPr/>
            <p:nvPr/>
          </p:nvSpPr>
          <p:spPr>
            <a:xfrm flipH="1">
              <a:off x="1332000" y="4292640"/>
              <a:ext cx="100800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340000" y="4292640"/>
              <a:ext cx="287280" cy="10080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40000" y="4292640"/>
              <a:ext cx="1944720" cy="93672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s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57400" y="1695600"/>
            <a:ext cx="4424400" cy="47815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027240" y="2666880"/>
            <a:ext cx="255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ign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40384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495288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ar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66680" y="2666880"/>
            <a:ext cx="5029200" cy="37735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la Rentabilida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2438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580920" y="2819520"/>
            <a:ext cx="304812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800600" y="4419720"/>
            <a:ext cx="137160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48520" y="365760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o de asignar un cajero m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0200" y="6400800"/>
            <a:ext cx="563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del Canal de Ventas para Mayo 2007 en Millones de pes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5791320"/>
            <a:ext cx="10112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905120"/>
          <a:ext cx="7010280" cy="31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905120"/>
                    <a:ext cx="7010280" cy="31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095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mpacto en el Servici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808280"/>
          <a:ext cx="7010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08280"/>
                    <a:ext cx="7010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0" y="5867280"/>
            <a:ext cx="94140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5:19:43Z</dcterms:created>
  <dc:creator>RODRIGO MUÑOZ</dc:creator>
  <dc:description/>
  <dc:language>en-US</dc:language>
  <cp:lastModifiedBy>Joselyn Bravo</cp:lastModifiedBy>
  <dcterms:modified xsi:type="dcterms:W3CDTF">2008-11-08T23:04:28Z</dcterms:modified>
  <cp:revision>83</cp:revision>
  <dc:subject/>
  <dc:title>Antecedentes</dc:title>
</cp:coreProperties>
</file>