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7.png" ContentType="image/png"/>
  <Override PartName="/ppt/media/image18.png" ContentType="image/png"/>
  <Override PartName="/ppt/media/image16.wmf" ContentType="image/x-wmf"/>
  <Override PartName="/ppt/media/image28.png" ContentType="image/png"/>
  <Override PartName="/ppt/media/image5.png" ContentType="image/png"/>
  <Override PartName="/ppt/media/image35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4.wmf" ContentType="image/x-wmf"/>
  <Override PartName="/ppt/media/image39.png" ContentType="image/png"/>
  <Override PartName="/ppt/media/image38.png" ContentType="image/png"/>
  <Override PartName="/ppt/media/image13.png" ContentType="image/png"/>
  <Override PartName="/ppt/media/image40.png" ContentType="image/png"/>
  <Override PartName="/ppt/media/image8.wmf" ContentType="image/x-wmf"/>
  <Override PartName="/ppt/media/image3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41.png" ContentType="image/png"/>
  <Override PartName="/ppt/media/image9.wmf" ContentType="image/x-wmf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50.wmf" ContentType="image/x-wmf"/>
  <Override PartName="/ppt/media/image47.png" ContentType="image/png"/>
  <Override PartName="/ppt/media/image1.jpeg" ContentType="image/jpeg"/>
  <Override PartName="/ppt/media/image15.wmf" ContentType="image/x-wmf"/>
  <Override PartName="/ppt/media/image10.wmf" ContentType="image/x-wmf"/>
  <Override PartName="/ppt/media/image32.png" ContentType="image/png"/>
  <Override PartName="/ppt/media/image2.png" ContentType="image/png"/>
  <Override PartName="/ppt/media/image25.png" ContentType="image/png"/>
  <Override PartName="/ppt/media/image6.png" ContentType="image/png"/>
  <Override PartName="/ppt/media/image3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318A-40AD-4F69-A7EB-BC252E29F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1784-59C7-4C7C-AB17-825E84C6D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BF83-2FA6-4020-9520-8FAF9DD3E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CC45-94A9-44FA-87D6-0EC3D0411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AA48-D88B-4446-BDE6-A5B1585E7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5820-E1C6-477F-810A-D6A8F442B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91D4-A7B3-4C18-B6CD-45F70999C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BA50-B9FA-47CC-8343-0F5E928C7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151920"/>
            <a:ext cx="609588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AB03-FA11-456F-951F-070BC5FAD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B297-A3D6-4044-8BFC-C7F4BE2D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F844-336F-4C86-AA7F-3AB3CB4C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4E7D-A83C-4A9A-8E7D-6CD8D0EB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C5D99-0BCE-4566-A942-7D13E2B374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447920"/>
            <a:ext cx="609588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019920" y="380880"/>
            <a:ext cx="2971800" cy="79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0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8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png"/><Relationship Id="rId9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png"/><Relationship Id="rId1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png"/><Relationship Id="rId5" Type="http://schemas.openxmlformats.org/officeDocument/2006/relationships/slide" Target="slide19.xml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ignación de Servicios de Caja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 el Canal de Venta de Metro S.A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José Mosqu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Arial"/>
              </a:rPr>
              <a:t>jmosquera@metro.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8 de octubre de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bjetivo del Proyect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32763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ntab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ducción del costo de contratación de Servicios de ca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icia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umplimiento de los estándares con alta prob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omátic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sminución de fallas humanas en el proceso de Asig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áctic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mplicidad en los requerimientos a oper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18288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arrollo de un software que apoye la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Asignación de Servicios de Caj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de maner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28600" y="3124080"/>
            <a:ext cx="714240" cy="754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28600" y="4038480"/>
            <a:ext cx="723960" cy="762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76320" y="5715000"/>
            <a:ext cx="914400" cy="601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52280" y="4952880"/>
            <a:ext cx="762120" cy="6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cripción del Problem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tienen herramientas para la estimación de demanda de boletos y car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828800" y="2971800"/>
          <a:ext cx="4419720" cy="37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971800"/>
                    <a:ext cx="4419720" cy="37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cripción del Problem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realizan mediciones de tiempos de T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xiste una máxima congestión permit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752480" y="3048120"/>
          <a:ext cx="4496040" cy="377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048120"/>
                    <a:ext cx="4496040" cy="37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cripción del Problem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aciones fijas (16, 4 y 2 horas) y costos de los servicios de ca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828800" y="2952720"/>
          <a:ext cx="4419720" cy="38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952720"/>
                    <a:ext cx="4419720" cy="38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cripción del Problem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tros da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ariables aleatorias en el sist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man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iempos de transa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mportamiento de los cl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tras restricciones contractuales y operati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stintos tipos de serv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pac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ompefi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enta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jemplo de venta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úmero de servidores activos para una mesan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85800" y="2743200"/>
          <a:ext cx="7620120" cy="375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743200"/>
                    <a:ext cx="7620120" cy="37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5029200" y="4191120"/>
            <a:ext cx="762120" cy="838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3581280"/>
            <a:ext cx="761760" cy="838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3962520" y="3200400"/>
            <a:ext cx="38088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638680" y="4038480"/>
            <a:ext cx="533520" cy="152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19720" y="3124080"/>
            <a:ext cx="1828800" cy="3366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ntana Super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962520"/>
            <a:ext cx="1676160" cy="3366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ntana Infer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cripción del Problema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eatoriedad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76976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ores Med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chón de segur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Optimización Robus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cenarios de prob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Optimización Estocástic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o Iterativo Mix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todologí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24080" y="2532240"/>
            <a:ext cx="82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ódulo d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99960" y="2719440"/>
            <a:ext cx="1033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Optimizació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48320" y="4267080"/>
            <a:ext cx="1066680" cy="1032120"/>
          </a:xfrm>
          <a:custGeom>
            <a:avLst/>
            <a:gdLst/>
            <a:ahLst/>
            <a:rect l="l" t="t" r="r" b="b"/>
            <a:pathLst>
              <a:path w="748" h="825">
                <a:moveTo>
                  <a:pt x="0" y="413"/>
                </a:moveTo>
                <a:lnTo>
                  <a:pt x="374" y="0"/>
                </a:lnTo>
                <a:lnTo>
                  <a:pt x="748" y="413"/>
                </a:lnTo>
                <a:lnTo>
                  <a:pt x="374" y="825"/>
                </a:lnTo>
                <a:lnTo>
                  <a:pt x="0" y="413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48320" y="4267080"/>
            <a:ext cx="1066680" cy="1032120"/>
          </a:xfrm>
          <a:custGeom>
            <a:avLst/>
            <a:gdLst/>
            <a:ahLst/>
            <a:rect l="l" t="t" r="r" b="b"/>
            <a:pathLst>
              <a:path w="748" h="825">
                <a:moveTo>
                  <a:pt x="0" y="413"/>
                </a:moveTo>
                <a:lnTo>
                  <a:pt x="374" y="0"/>
                </a:lnTo>
                <a:lnTo>
                  <a:pt x="748" y="413"/>
                </a:lnTo>
                <a:lnTo>
                  <a:pt x="374" y="825"/>
                </a:lnTo>
                <a:lnTo>
                  <a:pt x="0" y="413"/>
                </a:lnTo>
                <a:close/>
              </a:path>
            </a:pathLst>
          </a:custGeom>
          <a:noFill/>
          <a:ln cap="rnd"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76560" y="4572000"/>
            <a:ext cx="68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ign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76920" y="4724280"/>
            <a:ext cx="465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ump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76560" y="4876920"/>
            <a:ext cx="541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tánd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51960" y="2819520"/>
            <a:ext cx="857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ignación c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04960" y="2971800"/>
            <a:ext cx="654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ámetr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154320" y="2692440"/>
            <a:ext cx="1393920" cy="73080"/>
            <a:chOff x="3154320" y="2692440"/>
            <a:chExt cx="1393920" cy="73080"/>
          </a:xfrm>
        </p:grpSpPr>
        <p:sp>
          <p:nvSpPr>
            <p:cNvPr id="144" name=""/>
            <p:cNvSpPr/>
            <p:nvPr/>
          </p:nvSpPr>
          <p:spPr>
            <a:xfrm>
              <a:off x="3154320" y="2728800"/>
              <a:ext cx="1341360" cy="18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487760" y="2692440"/>
              <a:ext cx="60480" cy="73080"/>
            </a:xfrm>
            <a:custGeom>
              <a:avLst/>
              <a:gdLst/>
              <a:ahLst/>
              <a:rect l="l" t="t" r="r" b="b"/>
              <a:pathLst>
                <a:path w="38" h="46">
                  <a:moveTo>
                    <a:pt x="0" y="0"/>
                  </a:moveTo>
                  <a:lnTo>
                    <a:pt x="38" y="23"/>
                  </a:lnTo>
                  <a:lnTo>
                    <a:pt x="0" y="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2057400" y="2448000"/>
            <a:ext cx="4038480" cy="3267000"/>
          </a:xfrm>
          <a:prstGeom prst="rect">
            <a:avLst/>
          </a:prstGeom>
          <a:noFill/>
          <a:ln cap="rnd"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27600" y="2532240"/>
            <a:ext cx="82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ódulo d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12120" y="2719440"/>
            <a:ext cx="878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imulació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57440" y="3505320"/>
            <a:ext cx="61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ign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0" y="3657600"/>
            <a:ext cx="524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mul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19360" y="4572000"/>
            <a:ext cx="16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94760" y="4419720"/>
            <a:ext cx="430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uev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95480" y="4572000"/>
            <a:ext cx="393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gl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791680" y="4648320"/>
            <a:ext cx="111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2743200"/>
            <a:ext cx="762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stanci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38080" y="297180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man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figur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29720" y="3124080"/>
            <a:ext cx="77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terminis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590560" y="48006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590920" y="29718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91320" y="48006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00800" y="4114800"/>
            <a:ext cx="91440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ignación Servicios de Caj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28954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2666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4800600"/>
            <a:ext cx="556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ervic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95480" y="4952880"/>
            <a:ext cx="674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icional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324480" y="4952880"/>
            <a:ext cx="1067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eporte con Indicador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puestos del Model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uestos Glob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dad temporal mínima es 15 min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promedio de 100 simulaciones es representativo de la re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uestos Ajustables Import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ción exponencial para tiempos entre llegadas y entre aten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dad de elegir una fila es inversa a la cantidad de personas en e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ódulo 1: Optimiza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aráme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mandas y tiempos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terminist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entanillas y equipos por mesan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uraciones y costos de los servicios de ca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icio, duración y tipo de cada servicio contra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stri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glas del nego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lgunas consideraciones opera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bje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inimizar costo de los servicios contra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rId1" action="ppaction://hlinksldjump"/>
          </p:cNvPr>
          <p:cNvSpPr/>
          <p:nvPr/>
        </p:nvSpPr>
        <p:spPr>
          <a:xfrm>
            <a:off x="1523880" y="6248520"/>
            <a:ext cx="2743200" cy="457200"/>
          </a:xfrm>
          <a:custGeom>
            <a:avLst/>
            <a:gdLst>
              <a:gd name="textAreaLeft" fmla="*/ 29520 w 2743200"/>
              <a:gd name="textAreaRight" fmla="*/ 2713680 w 2743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29515" h="21600">
                <a:moveTo>
                  <a:pt x="0" y="0"/>
                </a:moveTo>
                <a:lnTo>
                  <a:pt x="129515" y="0"/>
                </a:lnTo>
                <a:lnTo>
                  <a:pt x="129515" y="21600"/>
                </a:lnTo>
                <a:lnTo>
                  <a:pt x="0" y="21600"/>
                </a:lnTo>
                <a:close/>
              </a:path>
              <a:path fill="lightenLess" w="129515" h="21600">
                <a:moveTo>
                  <a:pt x="0" y="0"/>
                </a:moveTo>
                <a:lnTo>
                  <a:pt x="129515" y="0"/>
                </a:lnTo>
                <a:lnTo>
                  <a:pt x="128115" y="1400"/>
                </a:lnTo>
                <a:lnTo>
                  <a:pt x="1400" y="1400"/>
                </a:lnTo>
                <a:close/>
              </a:path>
              <a:path fill="darken" w="129515" h="21600">
                <a:moveTo>
                  <a:pt x="129515" y="0"/>
                </a:moveTo>
                <a:lnTo>
                  <a:pt x="129515" y="21600"/>
                </a:lnTo>
                <a:lnTo>
                  <a:pt x="128115" y="20200"/>
                </a:lnTo>
                <a:lnTo>
                  <a:pt x="128115" y="1400"/>
                </a:lnTo>
                <a:close/>
              </a:path>
              <a:path fill="darkenLess" w="129515" h="21600">
                <a:moveTo>
                  <a:pt x="1295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15" y="20200"/>
                </a:lnTo>
                <a:close/>
              </a:path>
              <a:path fill="lighten" w="1295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rar Ecu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rId2" action="ppaction://hlinksldjump"/>
          </p:cNvPr>
          <p:cNvSpPr/>
          <p:nvPr/>
        </p:nvSpPr>
        <p:spPr>
          <a:xfrm>
            <a:off x="4800600" y="6248520"/>
            <a:ext cx="2438280" cy="457200"/>
          </a:xfrm>
          <a:custGeom>
            <a:avLst/>
            <a:gdLst>
              <a:gd name="textAreaLeft" fmla="*/ 29520 w 2438280"/>
              <a:gd name="textAreaRight" fmla="*/ 2408760 w 2438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15121" h="21600">
                <a:moveTo>
                  <a:pt x="0" y="0"/>
                </a:moveTo>
                <a:lnTo>
                  <a:pt x="115121" y="0"/>
                </a:lnTo>
                <a:lnTo>
                  <a:pt x="115121" y="21600"/>
                </a:lnTo>
                <a:lnTo>
                  <a:pt x="0" y="21600"/>
                </a:lnTo>
                <a:close/>
              </a:path>
              <a:path fill="lightenLess" w="115121" h="21600">
                <a:moveTo>
                  <a:pt x="0" y="0"/>
                </a:moveTo>
                <a:lnTo>
                  <a:pt x="115121" y="0"/>
                </a:lnTo>
                <a:lnTo>
                  <a:pt x="113721" y="1400"/>
                </a:lnTo>
                <a:lnTo>
                  <a:pt x="1400" y="1400"/>
                </a:lnTo>
                <a:close/>
              </a:path>
              <a:path fill="darken" w="115121" h="21600">
                <a:moveTo>
                  <a:pt x="115121" y="0"/>
                </a:moveTo>
                <a:lnTo>
                  <a:pt x="115121" y="21600"/>
                </a:lnTo>
                <a:lnTo>
                  <a:pt x="113721" y="20200"/>
                </a:lnTo>
                <a:lnTo>
                  <a:pt x="113721" y="1400"/>
                </a:lnTo>
                <a:close/>
              </a:path>
              <a:path fill="darkenLess" w="115121" h="21600">
                <a:moveTo>
                  <a:pt x="1151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721" y="20200"/>
                </a:lnTo>
                <a:close/>
              </a:path>
              <a:path fill="lighten" w="1151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itir Ecu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81160" y="1557360"/>
            <a:ext cx="3390840" cy="2457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042920" y="4149720"/>
            <a:ext cx="405756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ódulo 1: Optimiza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Índ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914400" y="2819520"/>
          <a:ext cx="694224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819520"/>
                    <a:ext cx="694224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ódulo 1: Optimiza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ámetros Glob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066680" y="2819520"/>
          <a:ext cx="686592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819520"/>
                    <a:ext cx="686592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ódulo 1: Optimiza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arámetros Mesan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ariables de deci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066680" y="2209680"/>
          <a:ext cx="6916680" cy="22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09680"/>
                    <a:ext cx="6916680" cy="22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762120" y="6172200"/>
          <a:ext cx="5848200" cy="21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6172200"/>
                    <a:ext cx="584820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1066680" y="5257800"/>
          <a:ext cx="6934320" cy="689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5257800"/>
                    <a:ext cx="693432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ódulo 1: Optimiza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s auxilia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066680" y="1816200"/>
          <a:ext cx="5486400" cy="457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16200"/>
                    <a:ext cx="5486400" cy="45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ódulo 1: Optimiza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stri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apacidad máxima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Los servicios no pueden exceder la capacidad de la mesanina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(*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apacidad mínima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Los contratos exigen un mínimo para algunos serv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rvidores activos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finición variable auxili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676520" y="2743200"/>
          <a:ext cx="4876560" cy="61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743200"/>
                    <a:ext cx="487656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1828800" y="4572000"/>
          <a:ext cx="4267080" cy="6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4572000"/>
                    <a:ext cx="42670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9" name=""/>
          <p:cNvGrpSpPr/>
          <p:nvPr/>
        </p:nvGrpSpPr>
        <p:grpSpPr>
          <a:xfrm>
            <a:off x="1828800" y="5943600"/>
            <a:ext cx="3952800" cy="590400"/>
            <a:chOff x="1828800" y="5943600"/>
            <a:chExt cx="3952800" cy="590400"/>
          </a:xfrm>
        </p:grpSpPr>
        <p:graphicFrame>
          <p:nvGraphicFramePr>
            <p:cNvPr id="200" name=""/>
            <p:cNvGraphicFramePr/>
            <p:nvPr/>
          </p:nvGraphicFramePr>
          <p:xfrm>
            <a:off x="1828800" y="5943600"/>
            <a:ext cx="2590920" cy="590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0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828800" y="5943600"/>
                      <a:ext cx="2590920" cy="59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2" name=""/>
            <p:cNvGraphicFramePr/>
            <p:nvPr/>
          </p:nvGraphicFramePr>
          <p:xfrm>
            <a:off x="4724280" y="6095880"/>
            <a:ext cx="1057320" cy="2001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0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724280" y="6095880"/>
                      <a:ext cx="105732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ódulo 1: Optimiza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ntan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ciones en la progra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ntanas Inferi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ntanas Superi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2133720" y="3048120"/>
          <a:ext cx="211428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048120"/>
                    <a:ext cx="211428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5105520" y="3048120"/>
          <a:ext cx="3343320" cy="79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3048120"/>
                    <a:ext cx="334332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2133720" y="4343400"/>
          <a:ext cx="3352680" cy="29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33720" y="4343400"/>
                    <a:ext cx="335268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2209680" y="5105520"/>
          <a:ext cx="3943440" cy="304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09680" y="5105520"/>
                    <a:ext cx="394344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2209680" y="5867280"/>
          <a:ext cx="876600" cy="276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09680" y="5867280"/>
                    <a:ext cx="876600" cy="2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3581280" y="5867280"/>
          <a:ext cx="2162160" cy="266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81280" y="5867280"/>
                    <a:ext cx="216216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ódulo 1: Optimiza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bilitación de puestos móvil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ólo pueden habilitarse cuando se llenan los puestos fi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ción entre demanda y ofert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 tasa de llegada es menor que la de salid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*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600200" y="5029200"/>
          <a:ext cx="6627960" cy="14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5029200"/>
                    <a:ext cx="66279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1447920" y="2743200"/>
          <a:ext cx="6675480" cy="109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2743200"/>
                    <a:ext cx="667548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ódulo 1: Optimiza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rección de la simulació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umentar puestos de venta que no cumplen el estándar en la simulación de la iteración ant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ión Objetivo: Minimizar costos de ope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600200" y="3429000"/>
          <a:ext cx="2619360" cy="3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429000"/>
                    <a:ext cx="261936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1676520" y="4876920"/>
          <a:ext cx="2181240" cy="59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876920"/>
                    <a:ext cx="218124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">
            <a:hlinkClick r:id="rId5" action="ppaction://hlinksldjump"/>
          </p:cNvPr>
          <p:cNvSpPr/>
          <p:nvPr/>
        </p:nvSpPr>
        <p:spPr>
          <a:xfrm>
            <a:off x="8381880" y="57913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5346" y="10800"/>
                </a:moveTo>
                <a:lnTo>
                  <a:pt x="19359" y="3794"/>
                </a:lnTo>
                <a:lnTo>
                  <a:pt x="19359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ódulo 2: Simula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corpora la aleatoriedad de tres etap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legada de ent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ección de servi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tención de la transa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aráme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rvicios program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stribuciones de prob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ándar de calidad de seriv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bje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tectar violaciones de estándar para su corrección en la próxima ite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ódulo 2: Simula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600200" y="1905120"/>
          <a:ext cx="397188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905120"/>
                    <a:ext cx="397188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5257800" y="6095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le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105520" y="44956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105520" y="17524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1219320" y="4724280"/>
                <a:ext cx="301464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il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ARGO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il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2611440" y="5952960"/>
                <a:ext cx="208296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ar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x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x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x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435640" y="1557360"/>
            <a:ext cx="2924280" cy="2457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46280" y="1557360"/>
            <a:ext cx="4257360" cy="2457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716360" y="4149720"/>
            <a:ext cx="4057920" cy="2457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468360" y="4149720"/>
            <a:ext cx="4057560" cy="245736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5651640" y="1916280"/>
            <a:ext cx="3024000" cy="1643040"/>
            <a:chOff x="5651640" y="1916280"/>
            <a:chExt cx="3024000" cy="1643040"/>
          </a:xfrm>
        </p:grpSpPr>
        <p:sp>
          <p:nvSpPr>
            <p:cNvPr id="54" name=""/>
            <p:cNvSpPr/>
            <p:nvPr/>
          </p:nvSpPr>
          <p:spPr>
            <a:xfrm>
              <a:off x="5651640" y="1916280"/>
              <a:ext cx="30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ntabilid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5"/>
            <a:stretch/>
          </p:blipFill>
          <p:spPr>
            <a:xfrm>
              <a:off x="6012000" y="2492280"/>
              <a:ext cx="1011240" cy="106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" name=""/>
          <p:cNvGrpSpPr/>
          <p:nvPr/>
        </p:nvGrpSpPr>
        <p:grpSpPr>
          <a:xfrm>
            <a:off x="395280" y="4365720"/>
            <a:ext cx="7993080" cy="2278080"/>
            <a:chOff x="395280" y="4365720"/>
            <a:chExt cx="7993080" cy="2278080"/>
          </a:xfrm>
        </p:grpSpPr>
        <p:pic>
          <p:nvPicPr>
            <p:cNvPr id="57" name="" descr=""/>
            <p:cNvPicPr/>
            <p:nvPr/>
          </p:nvPicPr>
          <p:blipFill>
            <a:blip r:embed="rId6"/>
            <a:stretch/>
          </p:blipFill>
          <p:spPr>
            <a:xfrm>
              <a:off x="395280" y="4365720"/>
              <a:ext cx="7993080" cy="227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1042920" y="4508640"/>
              <a:ext cx="302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alidad de Servic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7"/>
            <a:stretch/>
          </p:blipFill>
          <p:spPr>
            <a:xfrm>
              <a:off x="1895400" y="4941720"/>
              <a:ext cx="804960" cy="8463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743 -0.08482 L -0.47395 -0.35829 E">
                                      <p:cBhvr>
                                        <p:cTn id="15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alidación del Model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estreo represent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% de la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erencias entre asign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r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s tipos d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po 1: Asignación DII fuera de estánd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po 2: Asignación Metro más bar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mpre se encontró explicación ajena al modelo y se soluciona para el fut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alidación del Model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álisis de errores Tipo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letos estimados 21-11-06 EM-ORI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838080" y="3124080"/>
          <a:ext cx="6647040" cy="331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124080"/>
                    <a:ext cx="6647040" cy="33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lementa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685800" y="156204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lementa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609480" y="1546200"/>
            <a:ext cx="7391520" cy="51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676520" y="2603520"/>
          <a:ext cx="6781680" cy="33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603520"/>
                    <a:ext cx="6781680" cy="33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4724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H asignadas (mi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1600200" y="6019920"/>
            <a:ext cx="5638680" cy="677520"/>
            <a:chOff x="1600200" y="6019920"/>
            <a:chExt cx="5638680" cy="677520"/>
          </a:xfrm>
        </p:grpSpPr>
        <p:sp>
          <p:nvSpPr>
            <p:cNvPr id="256" name=""/>
            <p:cNvSpPr/>
            <p:nvPr/>
          </p:nvSpPr>
          <p:spPr>
            <a:xfrm>
              <a:off x="1600200" y="6019920"/>
              <a:ext cx="609480" cy="67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057400" y="6019920"/>
              <a:ext cx="609480" cy="67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O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14600" y="6019920"/>
              <a:ext cx="609480" cy="67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971800" y="6019920"/>
              <a:ext cx="609480" cy="67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29000" y="6019920"/>
              <a:ext cx="609480" cy="67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E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886200" y="6019920"/>
              <a:ext cx="609480" cy="67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343400" y="6019920"/>
              <a:ext cx="609480" cy="67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B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800600" y="6019920"/>
              <a:ext cx="609480" cy="67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257800" y="6019920"/>
              <a:ext cx="609480" cy="67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U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715000" y="6019920"/>
              <a:ext cx="609480" cy="67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U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72200" y="6019920"/>
              <a:ext cx="609480" cy="67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G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629400" y="6019920"/>
              <a:ext cx="609480" cy="67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0" y="5791320"/>
            <a:ext cx="10112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988920" y="1916280"/>
            <a:ext cx="7543800" cy="40287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0" y="5867280"/>
            <a:ext cx="9414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afíos último añ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xtensión Hor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S Móv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erencia de Program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onósticos de Dema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utomat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cie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lustering de dí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entarios Fina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 buen proceso de asignación depende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a correcta estimación de dema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a correcta ejecución de los servicios asign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mpacto del proye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xitoso para l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Único en el mu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ublicación en RIS y Trend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demás de Optim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ultura organiz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fin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terés del C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95280" y="1692360"/>
            <a:ext cx="4057560" cy="2457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716360" y="1700280"/>
            <a:ext cx="42847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ales T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gnación de Caj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stión de Abast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stión d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de Transa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ministración de Contr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395280" y="5516640"/>
            <a:ext cx="4767120" cy="914400"/>
            <a:chOff x="395280" y="5516640"/>
            <a:chExt cx="4767120" cy="914400"/>
          </a:xfrm>
        </p:grpSpPr>
        <p:pic>
          <p:nvPicPr>
            <p:cNvPr id="64" name="" descr=""/>
            <p:cNvPicPr/>
            <p:nvPr/>
          </p:nvPicPr>
          <p:blipFill>
            <a:blip r:embed="rId2"/>
            <a:stretch/>
          </p:blipFill>
          <p:spPr>
            <a:xfrm>
              <a:off x="4067280" y="5516640"/>
              <a:ext cx="109512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3"/>
            <a:stretch/>
          </p:blipFill>
          <p:spPr>
            <a:xfrm>
              <a:off x="2181240" y="5516640"/>
              <a:ext cx="10954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4"/>
            <a:stretch/>
          </p:blipFill>
          <p:spPr>
            <a:xfrm>
              <a:off x="395280" y="5516640"/>
              <a:ext cx="1095480" cy="91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" name=""/>
          <p:cNvGrpSpPr/>
          <p:nvPr/>
        </p:nvGrpSpPr>
        <p:grpSpPr>
          <a:xfrm>
            <a:off x="1332000" y="4292640"/>
            <a:ext cx="2952720" cy="1008000"/>
            <a:chOff x="1332000" y="4292640"/>
            <a:chExt cx="2952720" cy="1008000"/>
          </a:xfrm>
        </p:grpSpPr>
        <p:sp>
          <p:nvSpPr>
            <p:cNvPr id="68" name=""/>
            <p:cNvSpPr/>
            <p:nvPr/>
          </p:nvSpPr>
          <p:spPr>
            <a:xfrm flipH="1">
              <a:off x="1332000" y="4292640"/>
              <a:ext cx="1008000" cy="93672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340000" y="4292640"/>
              <a:ext cx="287280" cy="100800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40000" y="4292640"/>
              <a:ext cx="1944720" cy="93672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acto en la Rentabilida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00200" y="6400800"/>
            <a:ext cx="563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stos del Canal de Ventas para Mayo 2007 en Millones de pe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5791320"/>
            <a:ext cx="1011240" cy="1066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057400" y="1695600"/>
            <a:ext cx="4424400" cy="47815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027240" y="2666880"/>
            <a:ext cx="255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ign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40384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76720" y="49528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r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acto en la Rentabilida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066680" y="2666880"/>
            <a:ext cx="5029200" cy="37735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600200" y="6400800"/>
            <a:ext cx="563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os del Canal de Ventas para Mayo 2007 en Millones de pe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629400" y="2438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580920" y="2819520"/>
            <a:ext cx="304812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5791320"/>
            <a:ext cx="10112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66680" y="2666880"/>
            <a:ext cx="5029200" cy="37735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acto en la Rentabilida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629400" y="2438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580920" y="2819520"/>
            <a:ext cx="304812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800600" y="4419720"/>
            <a:ext cx="137160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48520" y="3657600"/>
            <a:ext cx="2743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o de asignar un cajero m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6400800"/>
            <a:ext cx="563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os del Canal de Ventas para Mayo 2007 en Millones de pe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5791320"/>
            <a:ext cx="10112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acto en el Servici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143000" y="1905120"/>
          <a:ext cx="7010280" cy="31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905120"/>
                    <a:ext cx="7010280" cy="31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0" y="5867280"/>
            <a:ext cx="9414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acto en el Servici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143000" y="1808280"/>
          <a:ext cx="7010280" cy="466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808280"/>
                    <a:ext cx="7010280" cy="46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0" y="5867280"/>
            <a:ext cx="9414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1T15:19:43Z</dcterms:created>
  <dc:creator>RODRIGO MUÑOZ</dc:creator>
  <dc:description/>
  <dc:language>en-US</dc:language>
  <cp:lastModifiedBy>Joselyn Bravo</cp:lastModifiedBy>
  <dcterms:modified xsi:type="dcterms:W3CDTF">2008-11-08T23:04:28Z</dcterms:modified>
  <cp:revision>83</cp:revision>
  <dc:subject/>
  <dc:title>Antecedentes</dc:title>
</cp:coreProperties>
</file>